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CBE-3796-4C0B-BF37-FA2DC5F0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61B-720F-4582-B033-25BA8A2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F17-6DFC-45E3-AE99-E9D25ECE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8E8-251B-4F9A-BD58-213E2E56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379-5AC3-4CA2-82D4-B07187D2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645-C93E-4083-ADC3-D2BEB452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8EB-659F-468E-AF53-EE6E526F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737-1A75-47C8-8C82-D838D126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A06-CB9B-48BF-ADD7-0907523D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E53-95E1-4374-96DA-8D37C3D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7CF-922A-444C-9CBE-56635DA9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606-4C52-487C-899F-D25102B6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DEE3-9E83-4F7A-A0F1-8DEB349D1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6858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cies in D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of D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, replication,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and role of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and role of re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f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schema: the description of the modeled world (a pseudo code is shown 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 EMPLOYEE [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 = {EMPLOYEE_NUMBER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_NUMBER: CHARACTER(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_NAME: CHARACTER(15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: CHARACTER(10) }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 TITLE_SALARY [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 = {TITLE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: CHARACTER(1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LARY: NUMERIC(6) }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f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iew: description of physical re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NAL_REL EMP [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 ON E# CALL EMNI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#: BYTE(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_NAME: BYTE(15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: BYTE(10) }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view: a portion of the database in the form that conforms the user’s needs (SQL-like notation shown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PAYROLL (ENO, ENAME, S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 SELECT EMPLOYEE.EMPLOYEE_NUMB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.EMPLOYEE_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_SALARY.SA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, TITLE_SA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.TITLE=TITLE_SALARY.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models for Distributed DBM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implementation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276720"/>
            <a:ext cx="3581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4267080"/>
            <a:ext cx="35812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05120" y="32763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905120" y="45720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45720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86400" y="32763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57600" y="45720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657600" y="32763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25142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0"/>
            <a:ext cx="472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66320" y="4572000"/>
            <a:ext cx="22100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5040" y="25909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29400" y="4253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1840" y="615780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1523880"/>
            <a:ext cx="274320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12560"/>
              <a:gd name="adj5" fmla="val 525157"/>
              <a:gd name="adj6" fmla="val -226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homogeneous 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981080"/>
            <a:ext cx="287820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4523"/>
              <a:gd name="adj5" fmla="val 373023"/>
              <a:gd name="adj6" fmla="val -6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federated 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438280"/>
            <a:ext cx="2514600" cy="33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55" y="7134"/>
                </a:moveTo>
                <a:lnTo>
                  <a:pt x="-682" y="7134"/>
                </a:lnTo>
                <a:lnTo>
                  <a:pt x="-682" y="37255"/>
                </a:lnTo>
                <a:lnTo>
                  <a:pt x="6938" y="5006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multidatabas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00360"/>
            <a:ext cx="1676520" cy="82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982" y="2957"/>
                </a:moveTo>
                <a:lnTo>
                  <a:pt x="-3436" y="2957"/>
                </a:lnTo>
                <a:lnTo>
                  <a:pt x="-3436" y="33509"/>
                </a:lnTo>
                <a:lnTo>
                  <a:pt x="33072" y="722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ogeneous multiple DBM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mposi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638680"/>
            <a:ext cx="2084400" cy="580680"/>
          </a:xfrm>
          <a:prstGeom prst="borderCallout1">
            <a:avLst>
              <a:gd name="adj1" fmla="val 18750"/>
              <a:gd name="adj2" fmla="val -8333"/>
              <a:gd name="adj3" fmla="val -12574"/>
              <a:gd name="adj4" fmla="val -52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ous multidatabas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6019920"/>
            <a:ext cx="2361960" cy="580680"/>
          </a:xfrm>
          <a:prstGeom prst="borderCallout2">
            <a:avLst>
              <a:gd name="adj1" fmla="val 18750"/>
              <a:gd name="adj2" fmla="val -8333"/>
              <a:gd name="adj3" fmla="val 19356"/>
              <a:gd name="adj4" fmla="val -10212"/>
              <a:gd name="adj5" fmla="val -77814"/>
              <a:gd name="adj6" fmla="val -12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site heterogeneous federated 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962520"/>
            <a:ext cx="1447920" cy="824040"/>
          </a:xfrm>
          <a:prstGeom prst="borderCallout2">
            <a:avLst>
              <a:gd name="adj1" fmla="val 18750"/>
              <a:gd name="adj2" fmla="val -8333"/>
              <a:gd name="adj3" fmla="val 13689"/>
              <a:gd name="adj4" fmla="val 105263"/>
              <a:gd name="adj5" fmla="val 35981"/>
              <a:gd name="adj6" fmla="val 11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heterogeneous DB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of control (and not data) - the degree of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al operations of the individual DBMSs are not affected by their participation in the multidatab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ner in which individual DBMSs process queries and optimize them should not be affected by the execution of global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onsistency should not be compromised when individual DBMSs join or leave the multidatabase system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Gilgor and Popescu-Zeletin’s defini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ht integration: a single-image of the entire DB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autonomous (federative) systems: operate independently but participates in a federation, i.e. part of the DB is sh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BMSs (tight integ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ata organizational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hysical data organization requires different local inter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B is fragmented and replicated - each site represents a part of the modeled world - the conceptual schemas at each site ar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the users access the DB by different external schemas defined above the 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eans there is a low level of autonomy - individual DBs are in tight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ganization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54100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11480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ceptu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95480"/>
            <a:ext cx="2590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42973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559260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85904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18590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2973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55926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006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78168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81080" y="373392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80060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333760" y="373356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7400" y="25146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257800" y="23619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80060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5181480"/>
            <a:ext cx="1447920" cy="609840"/>
          </a:xfrm>
          <a:prstGeom prst="cloudCallout">
            <a:avLst>
              <a:gd name="adj1" fmla="val -51097"/>
              <a:gd name="adj2" fmla="val 78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3581280"/>
            <a:ext cx="1447920" cy="838440"/>
          </a:xfrm>
          <a:prstGeom prst="cloudCallout">
            <a:avLst>
              <a:gd name="adj1" fmla="val -53949"/>
              <a:gd name="adj2" fmla="val 7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 in D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dependence: it is an extension of ANSI/SPARC that supports 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and replication transparencies: definition of local and global conceptual schemas and mapping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transparency: definition of global conceptu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029200" y="1905120"/>
            <a:ext cx="36576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05120"/>
            <a:ext cx="426744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ther view: component based architecture model for distributed DB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2133720"/>
            <a:ext cx="1920600" cy="3200400"/>
            <a:chOff x="762120" y="2133720"/>
            <a:chExt cx="1920600" cy="3200400"/>
          </a:xfrm>
        </p:grpSpPr>
        <p:grpSp>
          <p:nvGrpSpPr>
            <p:cNvPr id="141" name=""/>
            <p:cNvGrpSpPr/>
            <p:nvPr/>
          </p:nvGrpSpPr>
          <p:grpSpPr>
            <a:xfrm>
              <a:off x="1036440" y="2133720"/>
              <a:ext cx="1599480" cy="685800"/>
              <a:chOff x="1036440" y="2133720"/>
              <a:chExt cx="1599480" cy="685800"/>
            </a:xfrm>
          </p:grpSpPr>
          <p:sp>
            <p:nvSpPr>
              <p:cNvPr id="142" name=""/>
              <p:cNvSpPr/>
              <p:nvPr/>
            </p:nvSpPr>
            <p:spPr>
              <a:xfrm>
                <a:off x="1036440" y="2133720"/>
                <a:ext cx="152388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96560" y="2195640"/>
                <a:ext cx="1539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ser Interface Hand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036440" y="2971800"/>
              <a:ext cx="1599480" cy="685800"/>
              <a:chOff x="1036440" y="2971800"/>
              <a:chExt cx="1599480" cy="685800"/>
            </a:xfrm>
          </p:grpSpPr>
          <p:sp>
            <p:nvSpPr>
              <p:cNvPr id="145" name=""/>
              <p:cNvSpPr/>
              <p:nvPr/>
            </p:nvSpPr>
            <p:spPr>
              <a:xfrm>
                <a:off x="1036440" y="2971800"/>
                <a:ext cx="152352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96560" y="3033720"/>
                <a:ext cx="1539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mantic 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036440" y="3810240"/>
              <a:ext cx="1599480" cy="685800"/>
              <a:chOff x="1036440" y="3810240"/>
              <a:chExt cx="1599480" cy="685800"/>
            </a:xfrm>
          </p:grpSpPr>
          <p:sp>
            <p:nvSpPr>
              <p:cNvPr id="148" name=""/>
              <p:cNvSpPr/>
              <p:nvPr/>
            </p:nvSpPr>
            <p:spPr>
              <a:xfrm>
                <a:off x="1036440" y="3810240"/>
                <a:ext cx="152352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96200" y="3872160"/>
                <a:ext cx="1539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lobal Que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ptimiz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990720" y="4648320"/>
              <a:ext cx="1692000" cy="685800"/>
              <a:chOff x="990720" y="4648320"/>
              <a:chExt cx="1692000" cy="685800"/>
            </a:xfrm>
          </p:grpSpPr>
          <p:sp>
            <p:nvSpPr>
              <p:cNvPr id="151" name=""/>
              <p:cNvSpPr/>
              <p:nvPr/>
            </p:nvSpPr>
            <p:spPr>
              <a:xfrm>
                <a:off x="1082520" y="4648320"/>
                <a:ext cx="152352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90720" y="4710240"/>
                <a:ext cx="169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lobal Execution Moni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3" name=""/>
            <p:cNvCxnSpPr>
              <a:stCxn id="142" idx="1"/>
              <a:endCxn id="146" idx="1"/>
            </p:cNvCxnSpPr>
            <p:nvPr/>
          </p:nvCxnSpPr>
          <p:spPr>
            <a:xfrm flipH="1" flipV="1" rot="10800000">
              <a:off x="1036080" y="2476440"/>
              <a:ext cx="60480" cy="848160"/>
            </a:xfrm>
            <a:prstGeom prst="curvedConnector5">
              <a:avLst>
                <a:gd name="adj1" fmla="val -378443"/>
                <a:gd name="adj2" fmla="val 49978"/>
                <a:gd name="adj3" fmla="val -37844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6" idx="1"/>
              <a:endCxn id="149" idx="1"/>
            </p:cNvCxnSpPr>
            <p:nvPr/>
          </p:nvCxnSpPr>
          <p:spPr>
            <a:xfrm flipH="1" flipV="1" rot="10800000">
              <a:off x="1096200" y="3323160"/>
              <a:ext cx="2160" cy="83916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9" idx="1"/>
              <a:endCxn id="152" idx="1"/>
            </p:cNvCxnSpPr>
            <p:nvPr/>
          </p:nvCxnSpPr>
          <p:spPr>
            <a:xfrm flipV="1" rot="10800000">
              <a:off x="990000" y="4162320"/>
              <a:ext cx="106560" cy="838800"/>
            </a:xfrm>
            <a:prstGeom prst="curvedConnector5">
              <a:avLst>
                <a:gd name="adj1" fmla="val 314915"/>
                <a:gd name="adj2" fmla="val 49978"/>
                <a:gd name="adj3" fmla="val 3149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5104800" y="2362320"/>
            <a:ext cx="1921320" cy="2361600"/>
            <a:chOff x="5104800" y="2362320"/>
            <a:chExt cx="1921320" cy="2361600"/>
          </a:xfrm>
        </p:grpSpPr>
        <p:grpSp>
          <p:nvGrpSpPr>
            <p:cNvPr id="157" name=""/>
            <p:cNvGrpSpPr/>
            <p:nvPr/>
          </p:nvGrpSpPr>
          <p:grpSpPr>
            <a:xfrm>
              <a:off x="5379840" y="2362320"/>
              <a:ext cx="1599480" cy="685440"/>
              <a:chOff x="5379840" y="2362320"/>
              <a:chExt cx="1599480" cy="685440"/>
            </a:xfrm>
          </p:grpSpPr>
          <p:sp>
            <p:nvSpPr>
              <p:cNvPr id="158" name=""/>
              <p:cNvSpPr/>
              <p:nvPr/>
            </p:nvSpPr>
            <p:spPr>
              <a:xfrm>
                <a:off x="5379840" y="2362320"/>
                <a:ext cx="1523520" cy="6854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439960" y="2423880"/>
                <a:ext cx="1539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cal Que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ess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379840" y="3200400"/>
              <a:ext cx="1599480" cy="685440"/>
              <a:chOff x="5379840" y="3200400"/>
              <a:chExt cx="1599480" cy="685440"/>
            </a:xfrm>
          </p:grpSpPr>
          <p:sp>
            <p:nvSpPr>
              <p:cNvPr id="161" name=""/>
              <p:cNvSpPr/>
              <p:nvPr/>
            </p:nvSpPr>
            <p:spPr>
              <a:xfrm>
                <a:off x="5379840" y="3200400"/>
                <a:ext cx="1523520" cy="6854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39600" y="3261960"/>
                <a:ext cx="1539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cal Recovery 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34120" y="4038480"/>
              <a:ext cx="1692000" cy="685440"/>
              <a:chOff x="5334120" y="4038480"/>
              <a:chExt cx="1692000" cy="685440"/>
            </a:xfrm>
          </p:grpSpPr>
          <p:sp>
            <p:nvSpPr>
              <p:cNvPr id="164" name=""/>
              <p:cNvSpPr/>
              <p:nvPr/>
            </p:nvSpPr>
            <p:spPr>
              <a:xfrm>
                <a:off x="5425920" y="4038480"/>
                <a:ext cx="1523520" cy="6854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34120" y="4100040"/>
                <a:ext cx="169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untime Support Process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6" name=""/>
            <p:cNvCxnSpPr>
              <a:stCxn id="158" idx="1"/>
              <a:endCxn id="161" idx="1"/>
            </p:cNvCxnSpPr>
            <p:nvPr/>
          </p:nvCxnSpPr>
          <p:spPr>
            <a:xfrm flipH="1" flipV="1" rot="10800000">
              <a:off x="5379480" y="2703960"/>
              <a:ext cx="2160" cy="83844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1" idx="1"/>
              <a:endCxn id="165" idx="1"/>
            </p:cNvCxnSpPr>
            <p:nvPr/>
          </p:nvCxnSpPr>
          <p:spPr>
            <a:xfrm flipV="1" rot="10800000">
              <a:off x="5333400" y="3542760"/>
              <a:ext cx="46440" cy="848160"/>
            </a:xfrm>
            <a:prstGeom prst="curvedConnector5">
              <a:avLst>
                <a:gd name="adj1" fmla="val 596093"/>
                <a:gd name="adj2" fmla="val 49978"/>
                <a:gd name="adj3" fmla="val 5960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7353360" y="2286000"/>
            <a:ext cx="1143000" cy="2576880"/>
            <a:chOff x="7353360" y="2286000"/>
            <a:chExt cx="1143000" cy="2576880"/>
          </a:xfrm>
        </p:grpSpPr>
        <p:sp>
          <p:nvSpPr>
            <p:cNvPr id="169" name=""/>
            <p:cNvSpPr/>
            <p:nvPr/>
          </p:nvSpPr>
          <p:spPr>
            <a:xfrm>
              <a:off x="7353360" y="2286000"/>
              <a:ext cx="1143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eptu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53360" y="4038840"/>
              <a:ext cx="1143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n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620120" y="3200400"/>
              <a:ext cx="609480" cy="762120"/>
              <a:chOff x="7620120" y="3200400"/>
              <a:chExt cx="609480" cy="762120"/>
            </a:xfrm>
          </p:grpSpPr>
          <p:sp>
            <p:nvSpPr>
              <p:cNvPr id="172" name=""/>
              <p:cNvSpPr/>
              <p:nvPr/>
            </p:nvSpPr>
            <p:spPr>
              <a:xfrm>
                <a:off x="7620120" y="3200400"/>
                <a:ext cx="533160" cy="7621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620120" y="34290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o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3124080" y="2286000"/>
            <a:ext cx="1143000" cy="2821680"/>
            <a:chOff x="3124080" y="2286000"/>
            <a:chExt cx="1143000" cy="2821680"/>
          </a:xfrm>
        </p:grpSpPr>
        <p:sp>
          <p:nvSpPr>
            <p:cNvPr id="175" name=""/>
            <p:cNvSpPr/>
            <p:nvPr/>
          </p:nvSpPr>
          <p:spPr>
            <a:xfrm>
              <a:off x="3124080" y="2286000"/>
              <a:ext cx="11430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3200400"/>
              <a:ext cx="1143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lob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eptu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238200" y="4495680"/>
              <a:ext cx="914400" cy="612000"/>
              <a:chOff x="3238200" y="4495680"/>
              <a:chExt cx="914400" cy="612000"/>
            </a:xfrm>
          </p:grpSpPr>
          <p:sp>
            <p:nvSpPr>
              <p:cNvPr id="178" name=""/>
              <p:cNvSpPr/>
              <p:nvPr/>
            </p:nvSpPr>
            <p:spPr>
              <a:xfrm>
                <a:off x="3238200" y="4495680"/>
                <a:ext cx="838080" cy="6098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90480" y="48006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D/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80" name=""/>
          <p:cNvCxnSpPr>
            <a:stCxn id="175" idx="1"/>
            <a:endCxn id="143" idx="3"/>
          </p:cNvCxnSpPr>
          <p:nvPr/>
        </p:nvCxnSpPr>
        <p:spPr>
          <a:xfrm flipH="1" flipV="1">
            <a:off x="2636280" y="2485800"/>
            <a:ext cx="48780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5" idx="1"/>
            <a:endCxn id="146" idx="3"/>
          </p:cNvCxnSpPr>
          <p:nvPr/>
        </p:nvCxnSpPr>
        <p:spPr>
          <a:xfrm flipH="1">
            <a:off x="2636280" y="2581200"/>
            <a:ext cx="487800" cy="7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1"/>
            <a:endCxn id="146" idx="3"/>
          </p:cNvCxnSpPr>
          <p:nvPr/>
        </p:nvCxnSpPr>
        <p:spPr>
          <a:xfrm flipH="1" flipV="1">
            <a:off x="2636280" y="3323880"/>
            <a:ext cx="4878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6" idx="1"/>
            <a:endCxn id="149" idx="3"/>
          </p:cNvCxnSpPr>
          <p:nvPr/>
        </p:nvCxnSpPr>
        <p:spPr>
          <a:xfrm flipH="1">
            <a:off x="2636280" y="3618000"/>
            <a:ext cx="48780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49" idx="3"/>
          </p:cNvCxnSpPr>
          <p:nvPr/>
        </p:nvCxnSpPr>
        <p:spPr>
          <a:xfrm flipH="1" flipV="1">
            <a:off x="2636280" y="4161600"/>
            <a:ext cx="81180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62" idx="3"/>
            <a:endCxn id="173" idx="1"/>
          </p:cNvCxnSpPr>
          <p:nvPr/>
        </p:nvCxnSpPr>
        <p:spPr>
          <a:xfrm>
            <a:off x="6980040" y="3552480"/>
            <a:ext cx="6404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"/>
          <p:cNvCxnSpPr>
            <a:stCxn id="170" idx="1"/>
            <a:endCxn id="165" idx="3"/>
          </p:cNvCxnSpPr>
          <p:nvPr/>
        </p:nvCxnSpPr>
        <p:spPr>
          <a:xfrm flipH="1" flipV="1">
            <a:off x="7025400" y="4390560"/>
            <a:ext cx="32796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69" idx="1"/>
            <a:endCxn id="159" idx="3"/>
          </p:cNvCxnSpPr>
          <p:nvPr/>
        </p:nvCxnSpPr>
        <p:spPr>
          <a:xfrm flipH="1">
            <a:off x="6980040" y="2703240"/>
            <a:ext cx="3736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5" idx="2"/>
            <a:endCxn id="151" idx="2"/>
          </p:cNvCxnSpPr>
          <p:nvPr/>
        </p:nvCxnSpPr>
        <p:spPr>
          <a:xfrm rot="5400000">
            <a:off x="3685320" y="2839680"/>
            <a:ext cx="653400" cy="4336200"/>
          </a:xfrm>
          <a:prstGeom prst="curvedConnector5">
            <a:avLst>
              <a:gd name="adj1" fmla="val 135005"/>
              <a:gd name="adj2" fmla="val 50000"/>
              <a:gd name="adj3" fmla="val 135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52" idx="2"/>
            <a:endCxn id="142" idx="1"/>
          </p:cNvCxnSpPr>
          <p:nvPr/>
        </p:nvCxnSpPr>
        <p:spPr>
          <a:xfrm flipV="1" rot="16200000">
            <a:off x="28800" y="3483000"/>
            <a:ext cx="2815560" cy="800640"/>
          </a:xfrm>
          <a:prstGeom prst="curvedConnector5">
            <a:avLst>
              <a:gd name="adj1" fmla="val -8120"/>
              <a:gd name="adj2" fmla="val 83625"/>
              <a:gd name="adj3" fmla="val -81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597600" y="562464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3280" y="562464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6160" y="1585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019920"/>
            <a:ext cx="457200" cy="6858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64" idx="2"/>
            <a:endCxn id="193" idx="1"/>
          </p:cNvCxnSpPr>
          <p:nvPr/>
        </p:nvCxnSpPr>
        <p:spPr>
          <a:xfrm>
            <a:off x="6188040" y="4723920"/>
            <a:ext cx="975600" cy="129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42" idx="0"/>
            <a:endCxn id="192" idx="3"/>
          </p:cNvCxnSpPr>
          <p:nvPr/>
        </p:nvCxnSpPr>
        <p:spPr>
          <a:xfrm flipV="1" rot="16200000">
            <a:off x="1290240" y="1625040"/>
            <a:ext cx="380160" cy="637200"/>
          </a:xfrm>
          <a:prstGeom prst="curved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 of the D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: interprets commands and formats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data controller: checks integrity constraints and authorizations (def. in GCS) to check if the query can be pro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query optimizer and decomposer: controls execution strategy, translates global queries into local ones (GCS and L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execution monitor (distributed transaction manager): coordinates the distributed execution of the query (via possible communication with other moni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 of the D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query optimizer (access path selector): controls the way how data is accessed (access path means data structures + algorithms to access data, e.g. index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recovery manager: ensures local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support processor: physically accesses the data storage according to the commands, interfaces th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separation of higher-level semantics from lover-level imple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e the implementation from user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can be provided at different levels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distributed multi-DBMSs and distributed tightly integrated DBMSs: aut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difference in architecture: the global conceptu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DBMSs it represents the conceptual view of the entire database, while in MDBMSs it represents some of the loc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using global conceptu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556884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4273560"/>
            <a:ext cx="2361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ceptu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438280"/>
            <a:ext cx="259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13255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13255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44560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575136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5111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391520" y="488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90340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31147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0862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31147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114300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04" idx="0"/>
            <a:endCxn id="213" idx="2"/>
          </p:cNvCxnSpPr>
          <p:nvPr/>
        </p:nvCxnSpPr>
        <p:spPr>
          <a:xfrm flipH="1" flipV="1">
            <a:off x="1294560" y="3734640"/>
            <a:ext cx="8773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04" idx="0"/>
            <a:endCxn id="215" idx="2"/>
          </p:cNvCxnSpPr>
          <p:nvPr/>
        </p:nvCxnSpPr>
        <p:spPr>
          <a:xfrm flipV="1">
            <a:off x="2171880" y="3552480"/>
            <a:ext cx="8769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8" idx="0"/>
            <a:endCxn id="214" idx="2"/>
          </p:cNvCxnSpPr>
          <p:nvPr/>
        </p:nvCxnSpPr>
        <p:spPr>
          <a:xfrm flipH="1" flipV="1">
            <a:off x="7085880" y="3580920"/>
            <a:ext cx="30564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8" idx="0"/>
            <a:endCxn id="216" idx="2"/>
          </p:cNvCxnSpPr>
          <p:nvPr/>
        </p:nvCxnSpPr>
        <p:spPr>
          <a:xfrm flipV="1">
            <a:off x="7391520" y="3580920"/>
            <a:ext cx="91512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05" idx="0"/>
            <a:endCxn id="217" idx="2"/>
          </p:cNvCxnSpPr>
          <p:nvPr/>
        </p:nvCxnSpPr>
        <p:spPr>
          <a:xfrm flipH="1" flipV="1">
            <a:off x="3047760" y="1974240"/>
            <a:ext cx="205776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05" idx="0"/>
            <a:endCxn id="206" idx="2"/>
          </p:cNvCxnSpPr>
          <p:nvPr/>
        </p:nvCxnSpPr>
        <p:spPr>
          <a:xfrm flipV="1">
            <a:off x="5105160" y="1792080"/>
            <a:ext cx="7668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05" idx="0"/>
            <a:endCxn id="207" idx="2"/>
          </p:cNvCxnSpPr>
          <p:nvPr/>
        </p:nvCxnSpPr>
        <p:spPr>
          <a:xfrm flipV="1">
            <a:off x="5105520" y="1792080"/>
            <a:ext cx="182952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04" idx="0"/>
            <a:endCxn id="205" idx="2"/>
          </p:cNvCxnSpPr>
          <p:nvPr/>
        </p:nvCxnSpPr>
        <p:spPr>
          <a:xfrm flipV="1">
            <a:off x="2171520" y="3269880"/>
            <a:ext cx="293436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08" idx="0"/>
            <a:endCxn id="205" idx="2"/>
          </p:cNvCxnSpPr>
          <p:nvPr/>
        </p:nvCxnSpPr>
        <p:spPr>
          <a:xfrm flipH="1" flipV="1">
            <a:off x="5105160" y="3269880"/>
            <a:ext cx="228672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using global conceptual schema (semiautonomous, federat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S is defined by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tegrating local external schema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tegrating parts of the local conceptu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the GC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DDBMS: mapping from global to local conceptu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BMS: mapping from local to global conceptu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resence of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lingua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lingual approaches a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without a global conceptu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5257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396252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ceptu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175896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41450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4403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19414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194148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414504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54403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3412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31520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200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5909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database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2004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system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2" idx="0"/>
            <a:endCxn id="233" idx="2"/>
          </p:cNvCxnSpPr>
          <p:nvPr/>
        </p:nvCxnSpPr>
        <p:spPr>
          <a:xfrm flipV="1">
            <a:off x="2552400" y="259056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2" idx="0"/>
            <a:endCxn id="236" idx="2"/>
          </p:cNvCxnSpPr>
          <p:nvPr/>
        </p:nvCxnSpPr>
        <p:spPr>
          <a:xfrm flipV="1">
            <a:off x="2552760" y="2407680"/>
            <a:ext cx="2782080" cy="155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34" idx="0"/>
            <a:endCxn id="236" idx="2"/>
          </p:cNvCxnSpPr>
          <p:nvPr/>
        </p:nvCxnSpPr>
        <p:spPr>
          <a:xfrm flipV="1">
            <a:off x="5333760" y="2408040"/>
            <a:ext cx="1080" cy="17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34" idx="0"/>
            <a:endCxn id="237" idx="2"/>
          </p:cNvCxnSpPr>
          <p:nvPr/>
        </p:nvCxnSpPr>
        <p:spPr>
          <a:xfrm flipV="1">
            <a:off x="5333760" y="2408040"/>
            <a:ext cx="1981800" cy="17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8" idx="0"/>
            <a:endCxn id="237" idx="2"/>
          </p:cNvCxnSpPr>
          <p:nvPr/>
        </p:nvCxnSpPr>
        <p:spPr>
          <a:xfrm flipV="1">
            <a:off x="7314840" y="2408040"/>
            <a:ext cx="1080" cy="17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32" idx="0"/>
            <a:endCxn id="237" idx="2"/>
          </p:cNvCxnSpPr>
          <p:nvPr/>
        </p:nvCxnSpPr>
        <p:spPr>
          <a:xfrm flipV="1">
            <a:off x="2552400" y="2407680"/>
            <a:ext cx="4763160" cy="155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without a global conceptu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efinitions claim the essence of multidatabase management is the lack of glob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ted DB architectures sometimes do not use a global schema,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rt schema for sharing data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schema for accessing the global database (global external view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tion: the content (or parts of the content) of different DBs are put together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ay use different physical implementation (L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ay use different data representation (L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CS, the Import and Export Schemas serve as a bridge between the different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way to generate these schemas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created and tailored to each application individ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s presented here are idealized and usually do not appear in this clean form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dire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lobal directory is an extension of the ANSI/SPARC dictionary that describes the location and the properties of fra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 meta-database that contains information about the database, e.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of frag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of fragmen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25920" y="3892680"/>
            <a:ext cx="2913120" cy="9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920" y="4594320"/>
            <a:ext cx="2913120" cy="9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509920" y="3892320"/>
            <a:ext cx="111600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23040" y="4809960"/>
            <a:ext cx="1116000" cy="7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423040" y="3892320"/>
            <a:ext cx="111600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25920" y="3352680"/>
            <a:ext cx="0" cy="145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25920" y="4809960"/>
            <a:ext cx="3841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828800" y="4809960"/>
            <a:ext cx="1797120" cy="11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9600" y="3429000"/>
            <a:ext cx="13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global/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12920" y="4191120"/>
            <a:ext cx="19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central/distribu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30400" y="61578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971800"/>
            <a:ext cx="287820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109046"/>
              <a:gd name="adj5" fmla="val 478356"/>
              <a:gd name="adj6" fmla="val 115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, distributed, re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048120"/>
            <a:ext cx="2514600" cy="58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55" y="4181"/>
                </a:moveTo>
                <a:lnTo>
                  <a:pt x="-1991" y="4181"/>
                </a:lnTo>
                <a:lnTo>
                  <a:pt x="-1991" y="24039"/>
                </a:lnTo>
                <a:lnTo>
                  <a:pt x="3055" y="3218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, distributed, nonre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5638680"/>
            <a:ext cx="2084400" cy="580680"/>
          </a:xfrm>
          <a:prstGeom prst="borderCallout1">
            <a:avLst>
              <a:gd name="adj1" fmla="val 18750"/>
              <a:gd name="adj2" fmla="val -8333"/>
              <a:gd name="adj3" fmla="val -12574"/>
              <a:gd name="adj4" fmla="val -52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, distributed, re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3733920"/>
            <a:ext cx="1447920" cy="580680"/>
          </a:xfrm>
          <a:prstGeom prst="borderCallout2">
            <a:avLst>
              <a:gd name="adj1" fmla="val 18750"/>
              <a:gd name="adj2" fmla="val -8333"/>
              <a:gd name="adj3" fmla="val 13689"/>
              <a:gd name="adj4" fmla="val 105263"/>
              <a:gd name="adj5" fmla="val 179800"/>
              <a:gd name="adj6" fmla="val 229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, central, nonreplic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gmentation, replication, al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parallel and distributed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ed DB is fragmented because data is fragmented by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graphically distributed sites of different architectures, systems, different concepts are put together log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 is usually given and it is not a fundamental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cation of DBs are also given, the allocation is addressed if replication is ap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llel DB can be fragmented to gai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 is a crucial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 is also up to the desig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have a fundamental impa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allel DB is essentially a single DB and administrators have a greater freedom to tun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ole of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: decomposition of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ot aimed at data distribution! Ra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lation is not a proper unit for distribution, a more appropriate unit can be obtained by part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view only a subset of relations - locality can be opti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necessary replication and high volume of remote memory accesses can be avo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 can be executed concurrently: intraquery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licting requirements may prevent decomposition into mutually exclusive fragments that can lead to performance degra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 data control: checking for dependencies may b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gmentation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80880" y="1752480"/>
          <a:ext cx="3743280" cy="12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37432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4495680" y="4114800"/>
            <a:ext cx="4357800" cy="1257480"/>
            <a:chOff x="4495680" y="4114800"/>
            <a:chExt cx="4357800" cy="1257480"/>
          </a:xfrm>
        </p:grpSpPr>
        <p:graphicFrame>
          <p:nvGraphicFramePr>
            <p:cNvPr id="281" name=""/>
            <p:cNvGraphicFramePr/>
            <p:nvPr/>
          </p:nvGraphicFramePr>
          <p:xfrm>
            <a:off x="4495680" y="4114800"/>
            <a:ext cx="1914480" cy="12574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4114800"/>
                      <a:ext cx="191448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6553080" y="4114800"/>
            <a:ext cx="2300400" cy="1257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4114800"/>
                      <a:ext cx="23004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"/>
          <p:cNvGrpSpPr/>
          <p:nvPr/>
        </p:nvGrpSpPr>
        <p:grpSpPr>
          <a:xfrm>
            <a:off x="380880" y="4114800"/>
            <a:ext cx="3743280" cy="1762200"/>
            <a:chOff x="380880" y="4114800"/>
            <a:chExt cx="3743280" cy="1762200"/>
          </a:xfrm>
        </p:grpSpPr>
        <p:graphicFrame>
          <p:nvGraphicFramePr>
            <p:cNvPr id="286" name=""/>
            <p:cNvGraphicFramePr/>
            <p:nvPr/>
          </p:nvGraphicFramePr>
          <p:xfrm>
            <a:off x="380880" y="4114800"/>
            <a:ext cx="3743280" cy="77148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114800"/>
                      <a:ext cx="374328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"/>
            <p:cNvGraphicFramePr/>
            <p:nvPr/>
          </p:nvGraphicFramePr>
          <p:xfrm>
            <a:off x="380880" y="5105520"/>
            <a:ext cx="3743280" cy="77148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880" y="5105520"/>
                      <a:ext cx="374328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290" name=""/>
          <p:cNvCxnSpPr/>
          <p:nvPr/>
        </p:nvCxnSpPr>
        <p:spPr>
          <a:xfrm>
            <a:off x="2252160" y="3009600"/>
            <a:ext cx="108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/>
          <p:nvPr/>
        </p:nvCxnSpPr>
        <p:spPr>
          <a:xfrm>
            <a:off x="2252520" y="3009600"/>
            <a:ext cx="320112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-3600" y="32004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str. + parall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1200" y="3200400"/>
            <a:ext cx="26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rall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data independence: user applications are not affected by changes in the logical structure of the DB (schema 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ata independence: hiding the details of the storag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form that is important in centralized DBMSs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(distribution)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transparency: an operation on data is independent of both the location and the system where it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 transparency: unique name is provided for each object in the D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gree of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ent to which the database is frag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ragmented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ed to individual tuples (h) or attributes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c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lication should be characterized according to a number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result, the fragmentation can be de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ssential in parallel DB and less important in distributed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hapter ‘Database Desig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rectness rules of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ertical) fragmentation is similar to normaliz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to avoid semantic changes at frag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ness (lossless decomposition): no attributes or tuples may be eliminated at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: there must be a relational operato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at can reconstruct the original relation, i.e. R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be different for different alternatives of fragmentation (horizontal or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jointness: horizontal fragments must be disjoint, i.e. if data item d is i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it is not in any othe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s of relations are placed across the sites multipl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reliability - if some sites fail, the data is still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locality - the data can be retrieved from the closest or 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performance - a certain fragment may be accessed by less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mutual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ency must be add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B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ed (no repl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replicated - the whole DB is copied to each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ly re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 of al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DB has been partitioned, fragments must be allocated to various sites in the network or processing elements of a parallel machine - possibly multiple times when re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fragments F={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nd sites S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on which a set of applications Q={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os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cost. Minimize the cost of storing each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si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querying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si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pdating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all sites where it is stored and the cost of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. Maintain a performance according to a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a very simple formulation of the optimization is proven to be NP-complete - heuristics for suboptimal solutions. For a general model see ‘Database Design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replicated for reliability and performance consid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should not be aware of the existence of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relations are divided into smaller fragments for performance and availability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queries should be translated to fragment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stion of query proc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rigin of 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layer: transparency features are built into user language which is translated into the requested operations (little transparency is provided from DBMS and 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: language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: acts as an integrated OS and DBMS, makes all the necessary translation between OS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ential when security and fault tolerance is critical and the OS cannot provide such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: data, replication and fragmentation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: transparent access to resources provided by OS (e.g. device drivers, etc.) can be extended to distribute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: network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chitecture of a system defines its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oregoing parts the ‘architecture’ is a refer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n idealize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world systems may b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t it shows the essential components and it is a reasonable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the issues that need to be addressed a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a framework within which the design and implementation issues can be discu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on: the ISO/OSI 7-layered reference model for compute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ference model can be describ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nd their interrelations are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unctions that the system will perform are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Different types of data and functional units (within an architectural framework), that will realize or use data, are def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there is an interplay amo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I/SPARC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ntralized model from the 70s but generated interest and it is the basis of Distributed DBM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data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view (user) - highest level, users’ view of a portion of the DB and relationships amo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view (enterprise) - abstract definition of the DB, the ‘real world’ view. Represents data without considering the application or the storag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iew (system) - lowest level, physical definition, storag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I/SPARC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1120" y="5486400"/>
            <a:ext cx="1295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819520"/>
            <a:ext cx="1523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92520" y="4114800"/>
            <a:ext cx="175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ganization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34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2819520"/>
            <a:ext cx="1524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7000" y="2819520"/>
            <a:ext cx="1523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980720" y="365760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72000" y="365760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990360" y="22860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81080" y="2286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477120" y="2286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152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08:38:04Z</dcterms:created>
  <dc:creator>LPDS</dc:creator>
  <dc:description/>
  <dc:language>en-US</dc:language>
  <cp:lastModifiedBy>LPDS</cp:lastModifiedBy>
  <dcterms:modified xsi:type="dcterms:W3CDTF">1999-09-08T10:22:10Z</dcterms:modified>
  <cp:revision>39</cp:revision>
  <dc:subject/>
  <dc:title>Distributed DBMS architecture</dc:title>
</cp:coreProperties>
</file>