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B55-0273-4FEE-9242-6B45A7AD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484-8B6F-447A-BC65-37778ED6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ECA-8BEE-47F0-9798-98C91822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4C7-6844-405C-BEBD-A1FB7DCB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B7C-4001-4294-9506-7C77ED2C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E9A-8CE6-4415-8B99-9457657E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EB9-84B1-4A92-9E5C-03AACF3E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5CA-1276-4896-AF3D-A143BA57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066-6FE6-4AF5-BE24-D2E9F90B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C02-68D9-480F-A957-E0239E12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506-0710-4B63-A1C9-037071BA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3FA-6CA3-4F37-B758-C28530C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F6B0-3130-4670-83AD-CA0BABCC5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nsaction Models of DDBM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Zsolt N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éme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28191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pics cov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ation of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ization of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a transaction commits, its results are permanent and cannot be erased even if system failure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base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ermination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nsaction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ways term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task is successful: com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task is incomplete (for some reasons): ab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ither due to system failure or unsatisfied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llback: undone the actions and return the DB to its state befor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int of n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transaction i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s results are permanently stored in the DB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u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s results can be made visible to other transaction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nsistency, is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Example of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_TRANSACTION RE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PUT(flight_no, date, customer_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EC SQL SELECT STSOLD, C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O temp1, tem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ROM 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ERE FNO = flight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ND DATE =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temp1 = temp2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TPUT(„no free seats“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EC SQL UPDATE 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T STSOLD = STSOLD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ERE FNO = flight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ND DATE =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EC SQL 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O FC(FNO, DATE, CNAME,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LUES(flight_no, date, customer_name,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TPUT(„reservation completed“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tems that a given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s: Read Set (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s: Write Set (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y are not necessarily mutually exclu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se Set (BS): BS = R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ertion and deletion are omitted, the discussion is restricted to static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x): some atomic operation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transactio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at operates on DB entit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{read, writ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.e. all operations i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{abort, commit}, the termination condition for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partial ordering over its operations and the termination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al order P =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T Extra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n irreflexive and transitiv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itio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partial order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O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two operations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if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R(x) and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W(x) for any data item x then eithe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, i.e. ´there must be an order between conflicting operations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, i.e. áll operations must precede the termination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rdering relation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pplication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= x +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{R(x), R(y), W(x)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T Extra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{(R(x), W(x)), (R(y), W(x)), (W(x), C), (R(x), C), (R(y), C)}  where (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means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al order: the ordering is not specified for every pai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5560" y="20574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5560" y="30160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(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41200" y="25146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4000" y="25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22860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876920" y="27432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haracterization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application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ular or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ns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d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-line (short life) or batch (long li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t, nested or work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the order of read and wri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-step: all read ops before any write 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tricted: a data item must be read before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tricted two-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: restricted where each read-write pair is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tructural types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equence of primitive operations between begin and end ma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ransaction may include other transactions with their own commit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concurrency int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very is possible independently for each sub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ubtransaction can be a nested on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transactions begin after their parents and finish before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ment is conditional upon the commitment of the pa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transactions can execute and commit independ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nsation may b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Architecture revis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2280" y="1905120"/>
            <a:ext cx="3338640" cy="3504960"/>
            <a:chOff x="152280" y="1905120"/>
            <a:chExt cx="3338640" cy="3504960"/>
          </a:xfrm>
        </p:grpSpPr>
        <p:sp>
          <p:nvSpPr>
            <p:cNvPr id="97" name=""/>
            <p:cNvSpPr/>
            <p:nvPr/>
          </p:nvSpPr>
          <p:spPr>
            <a:xfrm>
              <a:off x="152280" y="2130480"/>
              <a:ext cx="3338640" cy="316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65280" y="2309760"/>
              <a:ext cx="1250640" cy="536760"/>
              <a:chOff x="665280" y="2309760"/>
              <a:chExt cx="1250640" cy="536760"/>
            </a:xfrm>
          </p:grpSpPr>
          <p:sp>
            <p:nvSpPr>
              <p:cNvPr id="99" name=""/>
              <p:cNvSpPr/>
              <p:nvPr/>
            </p:nvSpPr>
            <p:spPr>
              <a:xfrm>
                <a:off x="665280" y="2309760"/>
                <a:ext cx="1192680" cy="53676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20" y="2355480"/>
                <a:ext cx="120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r Interface Handl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65280" y="2965320"/>
              <a:ext cx="1250640" cy="536760"/>
              <a:chOff x="665280" y="2965320"/>
              <a:chExt cx="1250640" cy="536760"/>
            </a:xfrm>
          </p:grpSpPr>
          <p:sp>
            <p:nvSpPr>
              <p:cNvPr id="102" name=""/>
              <p:cNvSpPr/>
              <p:nvPr/>
            </p:nvSpPr>
            <p:spPr>
              <a:xfrm>
                <a:off x="665280" y="2965320"/>
                <a:ext cx="1192320" cy="53676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13520" y="3011040"/>
                <a:ext cx="120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mantic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65280" y="3621240"/>
              <a:ext cx="1250640" cy="536400"/>
              <a:chOff x="665280" y="3621240"/>
              <a:chExt cx="1250640" cy="536400"/>
            </a:xfrm>
          </p:grpSpPr>
          <p:sp>
            <p:nvSpPr>
              <p:cNvPr id="105" name=""/>
              <p:cNvSpPr/>
              <p:nvPr/>
            </p:nvSpPr>
            <p:spPr>
              <a:xfrm>
                <a:off x="665280" y="3621240"/>
                <a:ext cx="1192680" cy="5364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3520" y="3667320"/>
                <a:ext cx="120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obal Qu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ptimiz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01640" y="4276800"/>
              <a:ext cx="1192320" cy="536400"/>
            </a:xfrm>
            <a:prstGeom prst="roundRect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560" y="4325760"/>
              <a:ext cx="132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lobal Execution Moni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99" idx="1"/>
              <a:endCxn id="103" idx="1"/>
            </p:cNvCxnSpPr>
            <p:nvPr/>
          </p:nvCxnSpPr>
          <p:spPr>
            <a:xfrm flipH="1" flipV="1" rot="10800000">
              <a:off x="664920" y="2577600"/>
              <a:ext cx="48240" cy="664560"/>
            </a:xfrm>
            <a:prstGeom prst="curvedConnector5">
              <a:avLst>
                <a:gd name="adj1" fmla="val -378947"/>
                <a:gd name="adj2" fmla="val 49972"/>
                <a:gd name="adj3" fmla="val -378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103" idx="1"/>
              <a:endCxn id="106" idx="1"/>
            </p:cNvCxnSpPr>
            <p:nvPr/>
          </p:nvCxnSpPr>
          <p:spPr>
            <a:xfrm flipH="1" flipV="1" rot="10800000">
              <a:off x="712440" y="3240720"/>
              <a:ext cx="2160" cy="65628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1"/>
              <a:endCxn id="108" idx="1"/>
            </p:cNvCxnSpPr>
            <p:nvPr/>
          </p:nvCxnSpPr>
          <p:spPr>
            <a:xfrm flipV="1" rot="10800000">
              <a:off x="627840" y="3896280"/>
              <a:ext cx="84960" cy="656280"/>
            </a:xfrm>
            <a:prstGeom prst="curvedConnector5">
              <a:avLst>
                <a:gd name="adj1" fmla="val 314893"/>
                <a:gd name="adj2" fmla="val 50000"/>
                <a:gd name="adj3" fmla="val 3148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2" name=""/>
            <p:cNvGrpSpPr/>
            <p:nvPr/>
          </p:nvGrpSpPr>
          <p:grpSpPr>
            <a:xfrm>
              <a:off x="2298600" y="2428920"/>
              <a:ext cx="893880" cy="2246400"/>
              <a:chOff x="2298600" y="2428920"/>
              <a:chExt cx="893880" cy="2246400"/>
            </a:xfrm>
          </p:grpSpPr>
          <p:sp>
            <p:nvSpPr>
              <p:cNvPr id="113" name=""/>
              <p:cNvSpPr/>
              <p:nvPr/>
            </p:nvSpPr>
            <p:spPr>
              <a:xfrm>
                <a:off x="2298600" y="2428920"/>
                <a:ext cx="8938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ernal Sche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98600" y="3144240"/>
                <a:ext cx="89388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obal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ceptual Sche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2387520" y="4158000"/>
                <a:ext cx="716040" cy="517320"/>
                <a:chOff x="2387520" y="4158000"/>
                <a:chExt cx="716040" cy="5173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387520" y="4158000"/>
                  <a:ext cx="655560" cy="47700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507760" y="4398840"/>
                  <a:ext cx="59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GD/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18" name=""/>
            <p:cNvCxnSpPr>
              <a:stCxn id="113" idx="1"/>
              <a:endCxn id="100" idx="3"/>
            </p:cNvCxnSpPr>
            <p:nvPr/>
          </p:nvCxnSpPr>
          <p:spPr>
            <a:xfrm flipH="1" flipV="1">
              <a:off x="1917360" y="2585520"/>
              <a:ext cx="381600" cy="75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3" idx="1"/>
              <a:endCxn id="103" idx="3"/>
            </p:cNvCxnSpPr>
            <p:nvPr/>
          </p:nvCxnSpPr>
          <p:spPr>
            <a:xfrm flipH="1">
              <a:off x="1917360" y="2660760"/>
              <a:ext cx="381600" cy="58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4" idx="1"/>
              <a:endCxn id="103" idx="3"/>
            </p:cNvCxnSpPr>
            <p:nvPr/>
          </p:nvCxnSpPr>
          <p:spPr>
            <a:xfrm flipH="1" flipV="1">
              <a:off x="1917360" y="3241080"/>
              <a:ext cx="381600" cy="23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4" idx="1"/>
              <a:endCxn id="106" idx="3"/>
            </p:cNvCxnSpPr>
            <p:nvPr/>
          </p:nvCxnSpPr>
          <p:spPr>
            <a:xfrm flipH="1">
              <a:off x="1917360" y="3471840"/>
              <a:ext cx="3816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16" idx="1"/>
              <a:endCxn id="106" idx="3"/>
            </p:cNvCxnSpPr>
            <p:nvPr/>
          </p:nvCxnSpPr>
          <p:spPr>
            <a:xfrm flipH="1" flipV="1">
              <a:off x="1917360" y="3896640"/>
              <a:ext cx="635760" cy="50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08" idx="2"/>
              <a:endCxn id="99" idx="1"/>
            </p:cNvCxnSpPr>
            <p:nvPr/>
          </p:nvCxnSpPr>
          <p:spPr>
            <a:xfrm flipV="1" rot="16200000">
              <a:off x="-123840" y="3365640"/>
              <a:ext cx="2202840" cy="626040"/>
            </a:xfrm>
            <a:prstGeom prst="curvedConnector5">
              <a:avLst>
                <a:gd name="adj1" fmla="val -8107"/>
                <a:gd name="adj2" fmla="val 84119"/>
                <a:gd name="adj3" fmla="val -810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4" name=""/>
            <p:cNvSpPr/>
            <p:nvPr/>
          </p:nvSpPr>
          <p:spPr>
            <a:xfrm>
              <a:off x="320040" y="5064120"/>
              <a:ext cx="12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 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2200" y="190512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99" idx="0"/>
              <a:endCxn id="125" idx="3"/>
            </p:cNvCxnSpPr>
            <p:nvPr/>
          </p:nvCxnSpPr>
          <p:spPr>
            <a:xfrm flipV="1" rot="16200000">
              <a:off x="864000" y="1911600"/>
              <a:ext cx="297360" cy="4993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7" name=""/>
            <p:cNvSpPr/>
            <p:nvPr/>
          </p:nvSpPr>
          <p:spPr>
            <a:xfrm>
              <a:off x="1285920" y="4813200"/>
              <a:ext cx="5868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2000" y="1955520"/>
            <a:ext cx="3124080" cy="3429360"/>
            <a:chOff x="4572000" y="1955520"/>
            <a:chExt cx="3124080" cy="3429360"/>
          </a:xfrm>
        </p:grpSpPr>
        <p:sp>
          <p:nvSpPr>
            <p:cNvPr id="129" name=""/>
            <p:cNvSpPr/>
            <p:nvPr/>
          </p:nvSpPr>
          <p:spPr>
            <a:xfrm>
              <a:off x="4800600" y="2260800"/>
              <a:ext cx="2743200" cy="289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58320" y="4206960"/>
              <a:ext cx="142596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cheduler (S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77400" y="3124440"/>
              <a:ext cx="1389240" cy="580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nager (T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0" idx="0"/>
              <a:endCxn id="131" idx="2"/>
            </p:cNvCxnSpPr>
            <p:nvPr/>
          </p:nvCxnSpPr>
          <p:spPr>
            <a:xfrm flipV="1">
              <a:off x="6171840" y="3707640"/>
              <a:ext cx="1080" cy="49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3" name=""/>
            <p:cNvSpPr/>
            <p:nvPr/>
          </p:nvSpPr>
          <p:spPr>
            <a:xfrm>
              <a:off x="5715000" y="19558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629400" y="1955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72200" y="4546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858000" y="309852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58000" y="355608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572000" y="4394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343400" y="5856120"/>
            <a:ext cx="3048120" cy="580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40" y="2957"/>
                </a:moveTo>
                <a:lnTo>
                  <a:pt x="-1811" y="2957"/>
                </a:lnTo>
                <a:lnTo>
                  <a:pt x="-1811" y="-14783"/>
                </a:lnTo>
                <a:lnTo>
                  <a:pt x="3283" y="-3885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lobal Execution Monitor (Distributed Execution Moni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4720" y="121932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egin_transaction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ad, Write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ommit, Ab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167652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07920" y="53848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o data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5120" y="40132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th oth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19040" y="26416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th oth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2360" y="3860640"/>
            <a:ext cx="128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th oth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ata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ncept of transaction is a unit of consistent and reliable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 management: keeping the DB in consistent state even when concurrent accesses and failures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7920" y="2438280"/>
            <a:ext cx="6306840" cy="2010600"/>
            <a:chOff x="1447920" y="2438280"/>
            <a:chExt cx="6306840" cy="2010600"/>
          </a:xfrm>
        </p:grpSpPr>
        <p:sp>
          <p:nvSpPr>
            <p:cNvPr id="46" name=""/>
            <p:cNvSpPr/>
            <p:nvPr/>
          </p:nvSpPr>
          <p:spPr>
            <a:xfrm>
              <a:off x="2286000" y="3235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53080" y="3235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3657600"/>
              <a:ext cx="487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51520" y="4111560"/>
              <a:ext cx="16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egin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70880" y="411156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nd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4040" y="4111560"/>
              <a:ext cx="21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xecution of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7920" y="2511360"/>
              <a:ext cx="158580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038" y="4181"/>
                  </a:moveTo>
                  <a:lnTo>
                    <a:pt x="-5470" y="4181"/>
                  </a:lnTo>
                  <a:lnTo>
                    <a:pt x="-5470" y="26071"/>
                  </a:lnTo>
                  <a:lnTo>
                    <a:pt x="11241" y="406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atabase in a consist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68960" y="2511360"/>
              <a:ext cx="158580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638" y="4181"/>
                  </a:moveTo>
                  <a:lnTo>
                    <a:pt x="24778" y="4181"/>
                  </a:lnTo>
                  <a:lnTo>
                    <a:pt x="24778" y="24097"/>
                  </a:lnTo>
                  <a:lnTo>
                    <a:pt x="5599" y="415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abase in a consist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2438280"/>
              <a:ext cx="1787400" cy="824040"/>
            </a:xfrm>
            <a:prstGeom prst="borderCallout2">
              <a:avLst>
                <a:gd name="adj1" fmla="val 18750"/>
                <a:gd name="adj2" fmla="val -8333"/>
                <a:gd name="adj3" fmla="val 13689"/>
                <a:gd name="adj4" fmla="val -15986"/>
                <a:gd name="adj5" fmla="val 144148"/>
                <a:gd name="adj6" fmla="val -282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abase may be temporarily in an inconsist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e (history) S: specifies an interleaved execution order over a set of transactions T={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...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te schedule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s a partial order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over a set of transactions T={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...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that defines the execution order of all operations in its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two conflicting operations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eithe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00200" y="4267080"/>
                <a:ext cx="1576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4800600"/>
                <a:ext cx="1598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⊇</m:t>
                    </m:r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chedule (example): a possible complet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},  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T Extra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428160" y="5105520"/>
            <a:ext cx="1413000" cy="1405800"/>
            <a:chOff x="6428160" y="5105520"/>
            <a:chExt cx="1413000" cy="1405800"/>
          </a:xfrm>
        </p:grpSpPr>
        <p:sp>
          <p:nvSpPr>
            <p:cNvPr id="153" name=""/>
            <p:cNvSpPr/>
            <p:nvPr/>
          </p:nvSpPr>
          <p:spPr>
            <a:xfrm>
              <a:off x="6456600" y="5105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37600" y="5105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28160" y="563868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9160" y="563868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56600" y="6140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37600" y="6140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16520" y="52578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16520" y="5791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642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549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64240" y="5943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54960" y="5943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fix: P´ =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´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´} is a prefix of partial order P =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,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ff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, if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hen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the conflicting operations are relevant at scheduling - redefine sche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e (incomplete) S: is a prefix of complete schedule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omplete schedule (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ite(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z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te schedu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al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artial schedule is a prefix of complete schedule and equivalent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4640" y="4113360"/>
            <a:ext cx="3497400" cy="2593080"/>
            <a:chOff x="764640" y="4113360"/>
            <a:chExt cx="3497400" cy="2593080"/>
          </a:xfrm>
        </p:grpSpPr>
        <p:sp>
          <p:nvSpPr>
            <p:cNvPr id="170" name=""/>
            <p:cNvSpPr/>
            <p:nvPr/>
          </p:nvSpPr>
          <p:spPr>
            <a:xfrm>
              <a:off x="792360" y="41133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1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67920" y="41148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05400" y="41148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4640" y="48546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1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67920" y="48560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07200" y="485604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0800" y="561168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14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2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126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12640" y="6369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23840" y="6369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17720" y="43117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370160" y="4311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1560" y="4387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1560" y="5149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3160" y="4387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13160" y="5149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3160" y="59119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84760" y="4387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84760" y="5149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4760" y="59119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7720" y="50734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41760" y="5759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107320" y="4113360"/>
            <a:ext cx="3469320" cy="1835640"/>
            <a:chOff x="5107320" y="4113360"/>
            <a:chExt cx="3469320" cy="1835640"/>
          </a:xfrm>
        </p:grpSpPr>
        <p:sp>
          <p:nvSpPr>
            <p:cNvPr id="194" name=""/>
            <p:cNvSpPr/>
            <p:nvPr/>
          </p:nvSpPr>
          <p:spPr>
            <a:xfrm>
              <a:off x="5107320" y="41133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1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82520" y="41144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20360" y="411444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82520" y="48560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1800" y="485604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160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2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272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32680" y="43113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684400" y="43113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7760" y="438768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27760" y="5149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99360" y="438768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99360" y="5149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32680" y="5073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56360" y="5759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rial schedu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serial history): if in a schedule S the operations of various transactions are not interleaved, the schedule is s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= {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y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)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y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)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schedules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f for each pair of conflicting operations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) whenever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n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flict equivale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e S 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f it is conflict equivalent to a serial schedule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flict-based serializ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execute concurrently but the overall effect of the resulted history upon the database is equivalent to some serial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goal of concurrency control: generate a serializable schedule for the pending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histories must be taken into accou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chedule (at each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ched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B is partitioned, if each local schedule is serializable then the global schedule is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B is replicated, the global schedule is serializable (one-copy serializable)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chedules are 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flicting operations are in the same relative order in each local schedule where they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plica control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stency in presence of replication: one-copy serializability must be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urrency control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lica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e data item x (logical data) is replicated as 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... 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hysical data i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read(x) is mapped to one of the physic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write(x) is mapped to a subset of the physical data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read(x) is mapped to one and write(x) is mapped to all physical copies, it is a read-once/write-all (ROWA)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oncurrency control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ssim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-Phase Locking based (2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tr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mary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stamp Ordering (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lti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erv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stamp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s ensure that data shared by conflicting operations are accessed by one operation at a time - a simple way of se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ck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t by a transaction before the lock unit is ac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et at the end of the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the lock is set already, the lock unit cannot be ac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 lock (shared 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 lock (exclusive 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s are controlled by the Lock Manager (LM) which is a part of the Scheduler (see architecture revisi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962520" y="3703680"/>
            <a:ext cx="47242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efin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f a trans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nsaction makes transformations of system states preserving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nsaction is a sequence of read and write operations together with computation steps, assuming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ransaction may be executed concurrently with others: concurrency transparency must be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ilures may occur during execution: failure transparency must be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-phase locking (2PL): no transaction should request a lock after it releases one of its 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ing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inking 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m: any schedule that obeys 2PL rule is serializabl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Eswaran et al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icult to implement Transaction Manager (among others due to cascading abor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038480" y="2133720"/>
            <a:ext cx="4403880" cy="2532600"/>
            <a:chOff x="4038480" y="2133720"/>
            <a:chExt cx="4403880" cy="2532600"/>
          </a:xfrm>
        </p:grpSpPr>
        <p:sp>
          <p:nvSpPr>
            <p:cNvPr id="225" name=""/>
            <p:cNvSpPr/>
            <p:nvPr/>
          </p:nvSpPr>
          <p:spPr>
            <a:xfrm>
              <a:off x="4038480" y="21337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38480" y="42670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57200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3962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876920" y="3657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6920" y="3657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3412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412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486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6400" y="3048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1500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500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2743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72200" y="3048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7712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77120" y="3352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8168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81680" y="3657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3657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396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012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72200" y="25146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15000" y="2133720"/>
              <a:ext cx="107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Lock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52680" y="432900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e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38960" y="432900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19720" y="2328840"/>
              <a:ext cx="76176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2160" y="4181"/>
                  </a:moveTo>
                  <a:lnTo>
                    <a:pt x="-4455" y="4181"/>
                  </a:lnTo>
                  <a:lnTo>
                    <a:pt x="-4455" y="27639"/>
                  </a:lnTo>
                  <a:lnTo>
                    <a:pt x="25957" y="4582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Obtain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27960" y="2317680"/>
              <a:ext cx="914400" cy="580680"/>
            </a:xfrm>
            <a:prstGeom prst="borderCallout2">
              <a:avLst>
                <a:gd name="adj1" fmla="val 18750"/>
                <a:gd name="adj2" fmla="val -8333"/>
                <a:gd name="adj3" fmla="val 19356"/>
                <a:gd name="adj4" fmla="val -44273"/>
                <a:gd name="adj5" fmla="val 201236"/>
                <a:gd name="adj6" fmla="val -8157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elease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ict two-phase locking (S2PL): locks are released if the operation is a commit or an 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86000" y="2971800"/>
            <a:ext cx="4800600" cy="2532960"/>
            <a:chOff x="2286000" y="2971800"/>
            <a:chExt cx="4800600" cy="2532960"/>
          </a:xfrm>
        </p:grpSpPr>
        <p:sp>
          <p:nvSpPr>
            <p:cNvPr id="255" name=""/>
            <p:cNvSpPr/>
            <p:nvPr/>
          </p:nvSpPr>
          <p:spPr>
            <a:xfrm>
              <a:off x="2286000" y="29718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0" y="510552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819160" y="4800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19160" y="4800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124080" y="4496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4496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581280" y="4190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1280" y="4191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3356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35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962160" y="35816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62160" y="358164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8680" y="35816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00200" y="516744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e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95680" y="516744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3167280"/>
              <a:ext cx="76212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2160" y="4181"/>
                  </a:moveTo>
                  <a:lnTo>
                    <a:pt x="-4455" y="4181"/>
                  </a:lnTo>
                  <a:lnTo>
                    <a:pt x="-4455" y="27639"/>
                  </a:lnTo>
                  <a:lnTo>
                    <a:pt x="25965" y="4582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Obtain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72200" y="3581640"/>
              <a:ext cx="914400" cy="580680"/>
            </a:xfrm>
            <a:prstGeom prst="borderCallout2">
              <a:avLst>
                <a:gd name="adj1" fmla="val 18750"/>
                <a:gd name="adj2" fmla="val -8333"/>
                <a:gd name="adj3" fmla="val 19356"/>
                <a:gd name="adj4" fmla="val -32120"/>
                <a:gd name="adj5" fmla="val 59351"/>
                <a:gd name="adj6" fmla="val -567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elease l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8160" y="318636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a in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62160" y="34290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 in distributed DBSs: Centralized 2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only one 2PL scheduler (lock manager) in the distribute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lock requests are address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ortant: TM must implement the replica control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601280" y="2666880"/>
            <a:ext cx="5566680" cy="2667240"/>
            <a:chOff x="1601280" y="2666880"/>
            <a:chExt cx="5566680" cy="2667240"/>
          </a:xfrm>
        </p:grpSpPr>
        <p:sp>
          <p:nvSpPr>
            <p:cNvPr id="277" name=""/>
            <p:cNvSpPr/>
            <p:nvPr/>
          </p:nvSpPr>
          <p:spPr>
            <a:xfrm>
              <a:off x="1601280" y="266688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Data 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95960" y="266688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oordinating 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28880" y="266688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entralized L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54480" y="3081240"/>
              <a:ext cx="199872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254480" y="3562200"/>
              <a:ext cx="199872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254320" y="3908520"/>
              <a:ext cx="186192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54320" y="4459320"/>
              <a:ext cx="186192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54480" y="4803840"/>
              <a:ext cx="199872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486600">
              <a:off x="4393440" y="315900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1 Lock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986200">
              <a:off x="4671720" y="3687840"/>
              <a:ext cx="145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2 Lock Gra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1111600">
              <a:off x="2674440" y="376236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3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622200">
              <a:off x="2322720" y="4613400"/>
              <a:ext cx="174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4 End of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72400">
              <a:off x="4665240" y="474624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5 Release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09680" y="31240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31240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1120" y="31240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 in distributed DBSs: Primary copy 2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alized 2PL scheduler may form a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C2PL lock managers are implemented at a number of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responsible for a given set of lock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Ms send lock and unlock requests to the scheduler that is responsible for the given lock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copy of the data item is treated as a primary 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cation of the primary copy must be determined prior to sending lock and unlock requests - a directory design iss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 in distributed DBSs: Distributed 2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Ms are available at each site in D2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DB is not replicated, it is the same as PC2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replicated, it implements the ROWA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ons are passed via LMs - there is no lock granted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057760" y="3581280"/>
            <a:ext cx="5718600" cy="2667240"/>
            <a:chOff x="2057760" y="3581280"/>
            <a:chExt cx="5718600" cy="2667240"/>
          </a:xfrm>
        </p:grpSpPr>
        <p:sp>
          <p:nvSpPr>
            <p:cNvPr id="298" name=""/>
            <p:cNvSpPr/>
            <p:nvPr/>
          </p:nvSpPr>
          <p:spPr>
            <a:xfrm>
              <a:off x="5986440" y="358128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articipating D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57760" y="358128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oordinating 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52440" y="3581280"/>
              <a:ext cx="18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articipating L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6880" y="4038480"/>
              <a:ext cx="198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42840" y="5105520"/>
              <a:ext cx="388584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2840" y="5867280"/>
              <a:ext cx="186192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4280" y="4343400"/>
              <a:ext cx="199836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486600">
              <a:off x="2805840" y="411624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1 Lock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92200">
              <a:off x="5107680" y="449532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2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115200">
              <a:off x="3812400" y="5105520"/>
              <a:ext cx="174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3 End of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72400">
              <a:off x="2973960" y="571464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4 Release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6880" y="40384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360" y="40384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47960" y="40384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of a trans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 D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LIGHT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FNO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SRC, DEST, STSOLD, C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UST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C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ADDR, B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FNO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C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SPE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GIN_TRANSACTION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PUT(flight_no, date, customer_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XEC SQL UPDATE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T STSOLD = STSOLD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ERE FNO = flight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ND DATE =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XEC SQL INS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O FC(FNO, DATE, CNAME,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LUES(flight_no, date, customer_name,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erties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or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ps one consistent DB state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´correctness´of a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transaction sees a consistent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sults of a transaction must survive system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membe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eated as a unit of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ither all the actions of a transaction are completed or none of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on failure the DBMS can decide whether to terminate by completing the pending actions or terminate by undoing the actions that have been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intainig atomicity requires recovery from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action failures: data errors, deadlocks, etc.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ransaction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failures: media, processor failures, communication breakages, etc.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rash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lassification of consistency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by Gray et al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rty data: data values that have been written by a transaction prior to its commi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0 (Transaction T sees degree 0 consistency 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does not overwrite dirty data of othe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1: Degree 0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does not commit any writes before end of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2: Degree 1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does not read dirty data from othe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3: Degree 2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transactions do not dirty any data read by T before T compl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Isolation 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sible execution schemes of T1 and T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Read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Read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x = x +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x = x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Write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Read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Comm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Writ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Read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x = x +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x = x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Write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Writ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Comm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st update: incomplete results can be seen by other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cading aborts: if T1 decides to abort, all transactions that have seen T1´s incomplete results must be ab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905120"/>
            <a:ext cx="1066680" cy="916920"/>
          </a:xfrm>
          <a:prstGeom prst="borderCallout2">
            <a:avLst>
              <a:gd name="adj1" fmla="val 18750"/>
              <a:gd name="adj2" fmla="val -8333"/>
              <a:gd name="adj3" fmla="val 12351"/>
              <a:gd name="adj4" fmla="val -36013"/>
              <a:gd name="adj5" fmla="val 54000"/>
              <a:gd name="adj6" fmla="val -660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ads 50 when x is 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xecuting transaction cannot reveal it results to other concurrent transactions before its commi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lation is related to serializability: if several transactions are executed concurrently, the results must be the same as if they were executed serially in some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a strong relationship between isolation and degrees of consisten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ree 0: low level of isolation, yet solves the problem of lost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ree 2: solves both lost updates and cascading ab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ree 3: full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4:52:09Z</dcterms:created>
  <dc:creator>ITEC</dc:creator>
  <dc:description/>
  <dc:language>en-US</dc:language>
  <cp:lastModifiedBy>zsnemeth</cp:lastModifiedBy>
  <dcterms:modified xsi:type="dcterms:W3CDTF">1999-10-13T17:08:50Z</dcterms:modified>
  <cp:revision>88</cp:revision>
  <dc:subject/>
  <dc:title>Transaction Models of DDBMS</dc:title>
</cp:coreProperties>
</file>