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47970-D02A-4CF5-B61E-BF6A125A7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2F6FB-7F55-4D95-823D-7C45893EC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59018-F4E1-4A15-B8E2-F0DEFA58A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2CCFE-75CA-40DD-B6BF-B31AAF0F4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652C3-BA81-40BB-94C9-8D297CE9E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BA550-D481-4406-8D87-4AAAA748A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A664C-56C9-4A8D-9F3A-CB385484A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FBAB5-5942-45DB-8D74-E2977D25C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85A72-38BA-4D0D-81A3-5499FA4AA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9CFA5-34FE-449C-BAB0-B6BB01041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1BD7-5179-4E57-AE3E-014A2A08D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970D5-BB09-4940-AE6B-BEBE6A7CB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GB" sz="1400" spc="-1" strike="noStrike">
                <a:solidFill>
                  <a:srgbClr val="000000"/>
                </a:solidFill>
                <a:latin typeface="Times New Roman"/>
              </a:rPr>
              <a:t>Tempus S_JEP 12495-9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a:t>
            </a:r>
            <a:fld id="{7656D731-B1EB-46EB-8FE7-695B92673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Web serve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dr. Broczkó Péter</a:t>
            </a:r>
            <a:r>
              <a:rPr b="0" lang="en-US" sz="3200" spc="-1" strike="noStrike">
                <a:solidFill>
                  <a:srgbClr val="000000"/>
                </a:solidFill>
                <a:latin typeface="Times New Roman"/>
              </a:rPr>
              <a:t> </a:t>
            </a:r>
            <a:r>
              <a:rPr b="0" lang="en-GB" sz="3200" spc="-1" strike="noStrike">
                <a:solidFill>
                  <a:srgbClr val="000000"/>
                </a:solidFill>
                <a:latin typeface="Times New Roman"/>
              </a:rPr>
              <a:t>-</a:t>
            </a:r>
            <a:r>
              <a:rPr b="0" lang="hu-HU" sz="3200" spc="-1" strike="noStrike">
                <a:solidFill>
                  <a:srgbClr val="000000"/>
                </a:solidFill>
                <a:latin typeface="Times New Roman"/>
                <a:ea typeface="Times New Roman"/>
              </a:rPr>
              <a:t>Kandó Polytechni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London</a:t>
            </a:r>
            <a:r>
              <a:rPr b="0" lang="en-US"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 1999</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8305560" cy="603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1. The different between Web script and gateway</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he scripts</a:t>
            </a:r>
            <a:endParaRPr b="0" lang="en-US" sz="18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are used to access information from non-Web sources, such as databas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allow interaction between the user and server. This allows the user to search databases, make purchases, and many other possibiliti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can construct custom documents dynamically at the time they are requested. Scripts create intelligent documents that reflects the user circumstanc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s</a:t>
            </a:r>
            <a:r>
              <a:rPr b="0" lang="hu-HU" sz="1600" spc="-1" strike="noStrike">
                <a:solidFill>
                  <a:srgbClr val="000000"/>
                </a:solidFill>
                <a:latin typeface="H-Times New Roman"/>
                <a:ea typeface="Times New Roman"/>
              </a:rPr>
              <a:t>cripts collect information from the user through a special type of HTML document that is a fill in form: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1. </a:t>
            </a:r>
            <a:r>
              <a:rPr b="0" lang="hu-HU" sz="1600" spc="-1" strike="noStrike">
                <a:solidFill>
                  <a:srgbClr val="000000"/>
                </a:solidFill>
                <a:latin typeface="H-Times New Roman"/>
                <a:ea typeface="Times New Roman"/>
              </a:rPr>
              <a:t>the form document is sent to the clien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2. </a:t>
            </a:r>
            <a:r>
              <a:rPr b="0" lang="hu-HU" sz="1600" spc="-1" strike="noStrike">
                <a:solidFill>
                  <a:srgbClr val="000000"/>
                </a:solidFill>
                <a:latin typeface="H-Times New Roman"/>
                <a:ea typeface="Times New Roman"/>
              </a:rPr>
              <a:t>the browser displays the form to the user and collects input from the use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3. </a:t>
            </a:r>
            <a:r>
              <a:rPr b="0" lang="hu-HU" sz="1600" spc="-1" strike="noStrike">
                <a:solidFill>
                  <a:srgbClr val="000000"/>
                </a:solidFill>
                <a:latin typeface="H-Times New Roman"/>
                <a:ea typeface="Times New Roman"/>
              </a:rPr>
              <a:t>the filled-in form returned to the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4. </a:t>
            </a:r>
            <a:r>
              <a:rPr b="0" lang="hu-HU" sz="1600" spc="-1" strike="noStrike">
                <a:solidFill>
                  <a:srgbClr val="000000"/>
                </a:solidFill>
                <a:latin typeface="H-Times New Roman"/>
                <a:ea typeface="Times New Roman"/>
              </a:rPr>
              <a:t>the server send back the customised answer to the user browse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Gate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script that provides access to an on-line service, such as an existing database, is commonly called as </a:t>
            </a:r>
            <a:r>
              <a:rPr b="0" i="1" lang="hu-HU" sz="1600" spc="-1" strike="noStrike">
                <a:solidFill>
                  <a:srgbClr val="000000"/>
                </a:solidFill>
                <a:latin typeface="H-Times New Roman"/>
                <a:ea typeface="Times New Roman"/>
              </a:rPr>
              <a:t>gateway</a:t>
            </a:r>
            <a:r>
              <a:rPr b="0" lang="hu-HU" sz="1600" spc="-1" strike="noStrike">
                <a:solidFill>
                  <a:srgbClr val="000000"/>
                </a:solidFill>
                <a:latin typeface="H-Times New Roman"/>
                <a:ea typeface="Times New Roman"/>
              </a:rPr>
              <a:t> because it acts as a door between the Web and another on-line service. A Web gateway script talks to a database service by translating from the Web language, to the language which is spoken by the database servi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9BA9DE4-CC24-4869-B74A-B9A08D0B6C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763120" cy="65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2. The Web script</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A Web script is a program that can be executed by the Web server in response to Web request. Despite the name, practically any program can be a Web script; it does not matter what language it is written in. Programs compiled in C or BASIC work as well as Perl. The basic goal is for the browser program and the script program to communicate with each other. From the point of view of the Web script, the input comes from the client and the output goes back to the cli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From the point of view of the Web server, all scripts work the same way. The httpd program starts the script and passes the data from the browser to the script and vice versa. The httpd daemon must do the same basic things:</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determine that the request is really supposed to be a program rather than a documen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locate the program and determine if it is permissible to execute i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start the script program and ensure that the input from the client will be passed to the scrip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read the output from the script and pass it back to the clien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send and error message back to the client if something goes wrong with the script program. The daemon must also close the network connection properly when the script complet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1AF99FF-16CF-42FD-9B37-AFD6D5B282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838080"/>
            <a:ext cx="8686800" cy="539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3. The executable Web scrip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How does the Web server know which „documents” are programs to execute and which documents are information to be delivered? The execution of scripts is always controlled by the Web server and not the browser. The server software will execute scripts only according to specific rules, as configured by the system administrator.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NCSA httpd for UNIX system requires scripts</a:t>
            </a:r>
            <a:endParaRPr b="0" lang="en-US" sz="20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o be located in a particular directory or directories and to have UNIX execute permission or</a:t>
            </a:r>
            <a:endParaRPr b="0" lang="en-US" sz="20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have a particular name, such us files ending in .cgi.</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CERN httpd server, also for UNIX systems, uses rules in its configuration file to determinate which specific URLs are allowed to be execute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A893B1E-CD38-4AE3-A888-1F79CC8A07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533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80880" y="609480"/>
            <a:ext cx="8534520" cy="544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 </a:t>
            </a:r>
            <a:r>
              <a:rPr b="1" lang="hu-HU" sz="2400" spc="-1" strike="noStrike">
                <a:solidFill>
                  <a:srgbClr val="000000"/>
                </a:solidFill>
                <a:latin typeface="Times New Roman"/>
                <a:ea typeface="Times New Roman"/>
              </a:rPr>
              <a:t>4. Running of the scrip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server software has a simple role: it starts the script program and passes along data. Making sure that the server program and the script will work correctly together can be a problem, though, since they are usually written by completely different programmer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is problem is solved by standards, from which we talk about some typ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4451F4-669B-45A5-88D2-8872B3267F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146160"/>
            <a:ext cx="8610480" cy="705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The Common Gateway Interface: CGI</a:t>
            </a: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Common Gateway Interface: CGI. This is a standard for how scripts are to be called and how data is passed between the httpd server and the script. The CGI performs the same role for the server and the script as HTTP does for the server and the client: as long as both the httpd program and the script program follow the CGI rules, everything will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a:t>
            </a:r>
            <a:r>
              <a:rPr b="0" lang="hu-HU" sz="24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script that works well on one type of Web server system may not work at all on another type of server system. The details of the CGI-rules depend on the type of operating system the server runs on:</a:t>
            </a:r>
            <a:endParaRPr b="0" lang="en-US" sz="1800" spc="-1" strike="noStrike">
              <a:solidFill>
                <a:srgbClr val="000000"/>
              </a:solidFill>
              <a:latin typeface="Times New Roman"/>
            </a:endParaRPr>
          </a:p>
          <a:p>
            <a:pPr>
              <a:lnSpc>
                <a:spcPct val="100000"/>
              </a:lnSpc>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UNIX systems the script executes as a process, with the data from the browser arriving through standard input as UNIX environment variables, and the results passed back through standard outpu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Macintosh systems the Web script program runs as a Macintosh script and the data is passed through Apple Events;</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Windows NT servers the script is launched as an application process and data are passed through temporaly files.</a:t>
            </a:r>
            <a:endParaRPr b="0" lang="en-US" sz="16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CGI standard is actually a suite of standards, one for each operating system.</a:t>
            </a:r>
            <a:endParaRPr b="0" lang="en-US" sz="18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Netscape Server Application Program Interface: NSAP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Netscape servers also use NSAPI, which serves the same purpose as the CGI.</a:t>
            </a:r>
            <a:endParaRPr b="0" lang="en-US" sz="1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 </a:t>
            </a:r>
            <a:r>
              <a:rPr b="1" lang="hu-HU" sz="2000" spc="-1" strike="noStrike">
                <a:solidFill>
                  <a:srgbClr val="000000"/>
                </a:solidFill>
                <a:latin typeface="H-Times New Roman"/>
                <a:ea typeface="Times New Roman"/>
              </a:rPr>
              <a:t>Windows possibiliti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Web servers on Microsoft Windows platforms can use the standard DLL interface or OL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8793BD7-94A5-4F6F-8D4D-9D0A963FC8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28600"/>
            <a:ext cx="8839080" cy="586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5. The script’s view from two 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The user’s vie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If the user want to run a UNIX program from the client computer, than the script does two things:</a:t>
            </a:r>
            <a:endParaRPr b="0" lang="en-US" sz="2400" spc="-1" strike="noStrike">
              <a:solidFill>
                <a:srgbClr val="000000"/>
              </a:solidFill>
              <a:latin typeface="Times New Roman"/>
            </a:endParaRPr>
          </a:p>
          <a:p>
            <a:pPr>
              <a:lnSpc>
                <a:spcPct val="100000"/>
              </a:lnSpc>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prints information describing the information to come (the metainformation);</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prints the result of running the asked UNIX-program.</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In this case three programs run on the server:</a:t>
            </a:r>
            <a:endParaRPr b="0" lang="en-US" sz="2400" spc="-1" strike="noStrike">
              <a:solidFill>
                <a:srgbClr val="000000"/>
              </a:solidFill>
              <a:latin typeface="Times New Roman"/>
            </a:endParaRPr>
          </a:p>
          <a:p>
            <a:pPr algn="just">
              <a:lnSpc>
                <a:spcPct val="100000"/>
              </a:lnSpc>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httpd</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cript</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UNIX-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C5E9B9-D6BC-4DBE-A3E4-DC575E9374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5720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57200" y="380880"/>
            <a:ext cx="8305920" cy="6119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The server’s view</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httpd daemon begins by listening to the network until a request arrives from somewhere. A user requests a script the same way as he requests a document: usually by clicking on an anchor. The user may have no idea that he has clicked to  a script. So the server tasks are follows:</a:t>
            </a:r>
            <a:endParaRPr b="0" lang="en-US" sz="2000" spc="-1" strike="noStrike">
              <a:solidFill>
                <a:srgbClr val="000000"/>
              </a:solidFill>
              <a:latin typeface="Times New Roman"/>
            </a:endParaRPr>
          </a:p>
          <a:p>
            <a:pPr algn="just">
              <a:lnSpc>
                <a:spcPct val="10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listening to the network;</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arrives a request from somewhere;</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httpd program decodes the request and discovers that the requested „document” is really a program to execute;</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httpd software sets up an appropriate context;</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must lunch the script program;</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pass data from the script to the client</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wait for the script to finish.</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details of these steps depend on the operating system and the CGI standard. In general, the httpd program does whatever is necessary to start up the script program, then waits to pass along whatever results occu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C6EAC61-2C9C-41AA-9FA0-C842DE4A8D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533520"/>
            <a:ext cx="8305920" cy="62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Times New Roman"/>
                <a:ea typeface="Times New Roman"/>
              </a:rPr>
              <a:t>6. The cost of using script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Scripts require the Web server to do a lot more work than just retrieve a document. Running the script means that at least twice as many programs must run on the server, and if the script does any significant computation, executes other programs, or communicates with other servers, this can add up to very large burden on the server. If the server processes more than one request at the same time, it might run many scripts at the same time, magnifying the proble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If the source language of the script is Perl or Shell, these programming languages are interpreted. Interpreter are generally slower and less efficient than the compiled programs. Web scripts that are really compiled programs generally run faster and take up less memory than scripts executed by shells. For heavily used script program on a busy Web server, using Shell or Perl scripts may merit a second look.</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17D9C86-5729-4FE1-80C0-29DF7F76E6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228600"/>
            <a:ext cx="8610480" cy="66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7. Occurring a problem</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Unless Web scripts are carefully written, they may not work correctly. At best, the user will get an error message. At worst, the whole Web server system could hang or crash. If the script program encounters an error or has problem and does not return appropriate data, the httpd server may or may not be able to figure out what to send to the client. The httpd server will generally return anything it gets from the script to the browser, but if turns out to be meaningless garbage, the browser may not know what to do. Unusual error messages and any information that is not correctly formatted as an HTML document may baffle both the browser program and the user. For these reasons, Web scripts must be robust and should reliably return information that will make sense to httpd and the brows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It is important to note that if the script fails to terminate, the httpd server will wait indefinitely for the script to reply. For this reason, Web scripts should never stop and wait for anything. Remember that the client is waiting for the response and will only continue to wait for a reasonable time. A script that takes too long to finish will find that the client has given up and gone away. Also, if scripts hang around a long time, they will fill up the server system and eventually cause it to be completely unusa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If the script crashes, the connection will terminate and the client will probably get an error message of some kind, but the user will almost certainly have no way to tell what went wrong. Web scripts should be as „bullet-proof” as possible, so that mistakes by a user are diagnosed and useful feedback is returned. If an error by a user is are diagnosed and useful feedback is returned. If an error by the user causes a script to crash and the user does not know it is an error, he my make the same mistake over and over again. This is frustrating to him and running the same script the same wrong way over and over again is a waste of resources of the serv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767272C-C059-4613-BA51-2D635E9B66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1219320"/>
            <a:ext cx="8381880" cy="449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5. Architecture, improving </a:t>
            </a:r>
            <a:br>
              <a:rPr sz="4400"/>
            </a:br>
            <a:r>
              <a:rPr b="1" lang="hu-HU" sz="4400" spc="-1" strike="noStrike">
                <a:solidFill>
                  <a:srgbClr val="000000"/>
                </a:solidFill>
                <a:latin typeface="H-Times New Roman"/>
                <a:ea typeface="Times New Roman"/>
              </a:rPr>
              <a:t>the performance</a:t>
            </a:r>
            <a:endParaRPr b="0" lang="en-US" sz="4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1. The Web serv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2. The networ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3. The browser and the client system</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9444D9-AEF1-4BCC-B298-8A18FCE5CA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t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Infrastructure of Web serv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1. Introdu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2. The parts of the Web serv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3</a:t>
            </a:r>
            <a:r>
              <a:rPr b="0" lang="en-GB" sz="2400" spc="-1" strike="noStrike">
                <a:solidFill>
                  <a:srgbClr val="000000"/>
                </a:solidFill>
                <a:latin typeface="H-Times New Roman"/>
                <a:ea typeface="Times New Roman"/>
              </a:rPr>
              <a:t>.</a:t>
            </a:r>
            <a:r>
              <a:rPr b="0" lang="hu-HU" sz="2400" spc="-1" strike="noStrike">
                <a:solidFill>
                  <a:srgbClr val="000000"/>
                </a:solidFill>
                <a:latin typeface="H-Times New Roman"/>
                <a:ea typeface="Times New Roman"/>
              </a:rPr>
              <a:t> The Web server softwa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4. Formulating of the reque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Improving of Web transfer</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5. Architecture, improving the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6. Organisation of the document tre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7. Caching Web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01E5683-67A7-41CD-8692-168F7FDEF7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28600" y="914400"/>
            <a:ext cx="853452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a:t>
            </a:r>
            <a:r>
              <a:rPr b="1" lang="en-GB" sz="3200" spc="-1" strike="noStrike">
                <a:solidFill>
                  <a:srgbClr val="000000"/>
                </a:solidFill>
                <a:latin typeface="H-Times New Roman"/>
                <a:ea typeface="Times New Roman"/>
              </a:rPr>
              <a:t>t</a:t>
            </a:r>
            <a:r>
              <a:rPr b="1" lang="hu-HU" sz="3200" spc="-1" strike="noStrike">
                <a:solidFill>
                  <a:srgbClr val="000000"/>
                </a:solidFill>
                <a:latin typeface="H-Times New Roman"/>
                <a:ea typeface="Times New Roman"/>
              </a:rPr>
              <a: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server architectu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tasks of Web serv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 simple cyc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Execution of CGI scripts and other progra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Data compression and encry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ccessing docu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AB881F7-149B-4441-810D-DB3E33E9C9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0"/>
            <a:ext cx="8305920" cy="231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I.</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Different server configur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One process per request</a:t>
            </a:r>
            <a:endParaRPr b="0" lang="en-US" sz="1800" spc="-1" strike="noStrike">
              <a:solidFill>
                <a:srgbClr val="000000"/>
              </a:solidFill>
              <a:latin typeface="Times New Roman"/>
            </a:endParaRPr>
          </a:p>
        </p:txBody>
      </p:sp>
      <p:sp>
        <p:nvSpPr>
          <p:cNvPr id="68" name=""/>
          <p:cNvSpPr/>
          <p:nvPr/>
        </p:nvSpPr>
        <p:spPr>
          <a:xfrm>
            <a:off x="1981080" y="1981080"/>
            <a:ext cx="259092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1.: Listening</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p:txBody>
      </p:sp>
      <p:sp>
        <p:nvSpPr>
          <p:cNvPr id="69" name=""/>
          <p:cNvSpPr/>
          <p:nvPr/>
        </p:nvSpPr>
        <p:spPr>
          <a:xfrm>
            <a:off x="2133720" y="2438280"/>
            <a:ext cx="2133360" cy="365400"/>
          </a:xfrm>
          <a:prstGeom prst="rect">
            <a:avLst/>
          </a:prstGeom>
          <a:noFill/>
          <a:ln w="9360">
            <a:solidFill>
              <a:srgbClr val="969696"/>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a:t>
            </a:r>
            <a:endParaRPr b="0" lang="en-US" sz="1800" spc="-1" strike="noStrike">
              <a:solidFill>
                <a:srgbClr val="000000"/>
              </a:solidFill>
              <a:latin typeface="Times New Roman"/>
            </a:endParaRPr>
          </a:p>
        </p:txBody>
      </p:sp>
      <p:sp>
        <p:nvSpPr>
          <p:cNvPr id="70" name=""/>
          <p:cNvSpPr/>
          <p:nvPr/>
        </p:nvSpPr>
        <p:spPr>
          <a:xfrm>
            <a:off x="2362320" y="2895480"/>
            <a:ext cx="29718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2.: A new conne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685800" y="3657600"/>
            <a:ext cx="2101680" cy="380880"/>
          </a:xfrm>
          <a:prstGeom prst="rect">
            <a:avLst/>
          </a:prstGeom>
          <a:noFill/>
          <a:ln w="9360">
            <a:solidFill>
              <a:srgbClr val="000000"/>
            </a:solidFill>
            <a:miter/>
          </a:ln>
        </p:spPr>
        <p:style>
          <a:lnRef idx="0"/>
          <a:fillRef idx="0"/>
          <a:effectRef idx="0"/>
          <a:fontRef idx="minor"/>
        </p:style>
        <p:txBody>
          <a:bodyPr lIns="0" rIns="90000" tIns="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72" name=""/>
          <p:cNvSpPr/>
          <p:nvPr/>
        </p:nvSpPr>
        <p:spPr>
          <a:xfrm>
            <a:off x="4495680" y="3657600"/>
            <a:ext cx="2102040" cy="365040"/>
          </a:xfrm>
          <a:prstGeom prst="rect">
            <a:avLst/>
          </a:prstGeom>
          <a:noFill/>
          <a:ln w="9360">
            <a:solidFill>
              <a:srgbClr val="000000"/>
            </a:solidFill>
            <a:miter/>
          </a:ln>
        </p:spPr>
        <p:style>
          <a:lnRef idx="0"/>
          <a:fillRef idx="0"/>
          <a:effectRef idx="0"/>
          <a:fontRef idx="minor"/>
        </p:style>
        <p:txBody>
          <a:bodyPr lIns="0" rIns="90000" tIns="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child)</a:t>
            </a:r>
            <a:endParaRPr b="0" lang="en-US" sz="1800" spc="-1" strike="noStrike">
              <a:solidFill>
                <a:srgbClr val="000000"/>
              </a:solidFill>
              <a:latin typeface="Times New Roman"/>
            </a:endParaRPr>
          </a:p>
        </p:txBody>
      </p:sp>
      <p:sp>
        <p:nvSpPr>
          <p:cNvPr id="73" name=""/>
          <p:cNvSpPr/>
          <p:nvPr/>
        </p:nvSpPr>
        <p:spPr>
          <a:xfrm>
            <a:off x="3124080" y="3352680"/>
            <a:ext cx="1067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k()</a:t>
            </a:r>
            <a:endParaRPr b="0" lang="en-US" sz="2000" spc="-1" strike="noStrike">
              <a:solidFill>
                <a:srgbClr val="000000"/>
              </a:solidFill>
              <a:latin typeface="Times New Roman"/>
            </a:endParaRPr>
          </a:p>
        </p:txBody>
      </p:sp>
      <p:sp>
        <p:nvSpPr>
          <p:cNvPr id="74" name=""/>
          <p:cNvSpPr/>
          <p:nvPr/>
        </p:nvSpPr>
        <p:spPr>
          <a:xfrm>
            <a:off x="2819520" y="38098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81480" y="3124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 new</a:t>
            </a:r>
            <a:endParaRPr b="0" lang="en-US" sz="1800" spc="-1" strike="noStrike">
              <a:solidFill>
                <a:srgbClr val="000000"/>
              </a:solidFill>
              <a:latin typeface="Times New Roman"/>
            </a:endParaRPr>
          </a:p>
        </p:txBody>
      </p:sp>
      <p:sp>
        <p:nvSpPr>
          <p:cNvPr id="76" name=""/>
          <p:cNvSpPr/>
          <p:nvPr/>
        </p:nvSpPr>
        <p:spPr>
          <a:xfrm flipH="1">
            <a:off x="4952520" y="335268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85800" y="41148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3.: Listening again...</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with the new connection</a:t>
            </a:r>
            <a:endParaRPr b="0" lang="en-US" sz="1800" spc="-1" strike="noStrike">
              <a:solidFill>
                <a:srgbClr val="000000"/>
              </a:solidFill>
              <a:latin typeface="Times New Roman"/>
            </a:endParaRPr>
          </a:p>
        </p:txBody>
      </p:sp>
      <p:sp>
        <p:nvSpPr>
          <p:cNvPr id="78" name=""/>
          <p:cNvSpPr/>
          <p:nvPr/>
        </p:nvSpPr>
        <p:spPr>
          <a:xfrm>
            <a:off x="457200" y="57150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04920" y="4572000"/>
            <a:ext cx="1904760" cy="3650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0" name=""/>
          <p:cNvSpPr/>
          <p:nvPr/>
        </p:nvSpPr>
        <p:spPr>
          <a:xfrm>
            <a:off x="23623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1" name=""/>
          <p:cNvSpPr/>
          <p:nvPr/>
        </p:nvSpPr>
        <p:spPr>
          <a:xfrm>
            <a:off x="44197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2" name=""/>
          <p:cNvSpPr/>
          <p:nvPr/>
        </p:nvSpPr>
        <p:spPr>
          <a:xfrm>
            <a:off x="64771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3" name=""/>
          <p:cNvSpPr/>
          <p:nvPr/>
        </p:nvSpPr>
        <p:spPr>
          <a:xfrm>
            <a:off x="228600" y="5029200"/>
            <a:ext cx="815328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Listening...</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1</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2</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s...</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s...</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986B21A-F709-40DB-BC25-D3EC354523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533520"/>
            <a:ext cx="8229600" cy="26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II.</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Different server configurat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A multithreaded server</a:t>
            </a:r>
            <a:endParaRPr b="0" lang="en-US" sz="2000" spc="-1" strike="noStrike">
              <a:solidFill>
                <a:srgbClr val="000000"/>
              </a:solidFill>
              <a:latin typeface="Times New Roman"/>
            </a:endParaRPr>
          </a:p>
        </p:txBody>
      </p:sp>
      <p:sp>
        <p:nvSpPr>
          <p:cNvPr id="85" name=""/>
          <p:cNvSpPr/>
          <p:nvPr/>
        </p:nvSpPr>
        <p:spPr>
          <a:xfrm>
            <a:off x="3733920" y="4038480"/>
            <a:ext cx="1828800" cy="459720"/>
          </a:xfrm>
          <a:prstGeom prst="rect">
            <a:avLst/>
          </a:prstGeom>
          <a:gradFill rotWithShape="0">
            <a:gsLst>
              <a:gs pos="0">
                <a:srgbClr val="d2d2d2"/>
              </a:gs>
              <a:gs pos="100000">
                <a:srgbClr val="c0c0c0"/>
              </a:gs>
            </a:gsLst>
            <a:path path="rect">
              <a:fillToRect l="50000" t="50000" r="50000" b="50000"/>
            </a:path>
          </a:gradFill>
          <a:ln w="158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d</a:t>
            </a:r>
            <a:endParaRPr b="0" lang="en-US" sz="2400" spc="-1" strike="noStrike">
              <a:solidFill>
                <a:srgbClr val="000000"/>
              </a:solidFill>
              <a:latin typeface="Times New Roman"/>
            </a:endParaRPr>
          </a:p>
        </p:txBody>
      </p:sp>
      <p:sp>
        <p:nvSpPr>
          <p:cNvPr id="86" name=""/>
          <p:cNvSpPr/>
          <p:nvPr/>
        </p:nvSpPr>
        <p:spPr>
          <a:xfrm>
            <a:off x="3505320" y="304812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1. Waiting...</a:t>
            </a:r>
            <a:endParaRPr b="0" lang="en-US" sz="1800" spc="-1" strike="noStrike">
              <a:solidFill>
                <a:srgbClr val="000000"/>
              </a:solidFill>
              <a:latin typeface="Times New Roman"/>
            </a:endParaRPr>
          </a:p>
        </p:txBody>
      </p:sp>
      <p:sp>
        <p:nvSpPr>
          <p:cNvPr id="87" name=""/>
          <p:cNvSpPr/>
          <p:nvPr/>
        </p:nvSpPr>
        <p:spPr>
          <a:xfrm>
            <a:off x="762120" y="464832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4</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88" name=""/>
          <p:cNvSpPr/>
          <p:nvPr/>
        </p:nvSpPr>
        <p:spPr>
          <a:xfrm>
            <a:off x="762120" y="38098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5</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89" name=""/>
          <p:cNvSpPr/>
          <p:nvPr/>
        </p:nvSpPr>
        <p:spPr>
          <a:xfrm>
            <a:off x="6172200" y="38098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2</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90" name=""/>
          <p:cNvSpPr/>
          <p:nvPr/>
        </p:nvSpPr>
        <p:spPr>
          <a:xfrm>
            <a:off x="6248520" y="47242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3</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91" name=""/>
          <p:cNvSpPr/>
          <p:nvPr/>
        </p:nvSpPr>
        <p:spPr>
          <a:xfrm>
            <a:off x="838080" y="54864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H-Times New Roman"/>
                <a:ea typeface="Times New Roman"/>
              </a:rPr>
              <a:t>One server program processing five request at onc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36CEC6-1EA6-47BB-9386-0E25790B4E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3520" y="762120"/>
            <a:ext cx="8305560" cy="25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V.</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Different server configu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Helper processes</a:t>
            </a: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93" name=""/>
          <p:cNvSpPr/>
          <p:nvPr/>
        </p:nvSpPr>
        <p:spPr>
          <a:xfrm>
            <a:off x="533520" y="3276720"/>
            <a:ext cx="243828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Dispatcher)</a:t>
            </a:r>
            <a:endParaRPr b="0" lang="en-US" sz="1800" spc="-1" strike="noStrike">
              <a:solidFill>
                <a:srgbClr val="000000"/>
              </a:solidFill>
              <a:latin typeface="Times New Roman"/>
            </a:endParaRPr>
          </a:p>
        </p:txBody>
      </p:sp>
      <p:sp>
        <p:nvSpPr>
          <p:cNvPr id="94" name=""/>
          <p:cNvSpPr/>
          <p:nvPr/>
        </p:nvSpPr>
        <p:spPr>
          <a:xfrm>
            <a:off x="3124080" y="3276720"/>
            <a:ext cx="243864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a:t>
            </a:r>
            <a:r>
              <a:rPr b="1" lang="en-GB" sz="1800" spc="-1" strike="noStrike">
                <a:solidFill>
                  <a:srgbClr val="000000"/>
                </a:solidFill>
                <a:latin typeface="Times New Roman"/>
                <a:ea typeface="Times New Roman"/>
              </a:rPr>
              <a:t>Helper 1</a:t>
            </a:r>
            <a:r>
              <a:rPr b="1"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95" name=""/>
          <p:cNvSpPr/>
          <p:nvPr/>
        </p:nvSpPr>
        <p:spPr>
          <a:xfrm>
            <a:off x="5715000" y="3276720"/>
            <a:ext cx="243828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a:t>
            </a:r>
            <a:r>
              <a:rPr b="1" lang="en-GB" sz="1800" spc="-1" strike="noStrike">
                <a:solidFill>
                  <a:srgbClr val="000000"/>
                </a:solidFill>
                <a:latin typeface="Times New Roman"/>
                <a:ea typeface="Times New Roman"/>
              </a:rPr>
              <a:t>Helper 2</a:t>
            </a:r>
            <a:r>
              <a:rPr b="1"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96" name=""/>
          <p:cNvSpPr/>
          <p:nvPr/>
        </p:nvSpPr>
        <p:spPr>
          <a:xfrm>
            <a:off x="533520" y="434340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Listening</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1 in progress...</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2 in progres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3 is waiting for Helper</a:t>
            </a:r>
            <a:endParaRPr b="0" lang="en-US" sz="1800" spc="-1" strike="noStrike">
              <a:solidFill>
                <a:srgbClr val="000000"/>
              </a:solidFill>
              <a:latin typeface="Times New Roman"/>
            </a:endParaRPr>
          </a:p>
        </p:txBody>
      </p:sp>
      <p:sp>
        <p:nvSpPr>
          <p:cNvPr id="97" name=""/>
          <p:cNvSpPr/>
          <p:nvPr/>
        </p:nvSpPr>
        <p:spPr>
          <a:xfrm>
            <a:off x="228600" y="541008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A dispatcher and two helpers, with two requests in progress and one for wai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DC7D7F7-AC12-40F9-BA0D-F3EF948E5F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914400"/>
            <a:ext cx="8153280" cy="49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performance of the Web serv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Connections per seco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Bytes per seco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Round-trip ti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Monitoring the syst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91C710-00C6-49F6-847B-1A7E450770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762120"/>
            <a:ext cx="7848720" cy="49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2. The network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Latency or del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Capacity (bandwid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Conges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Protocols us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5810FB9-85CB-48BC-90F7-9E5FEA6008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1066680"/>
            <a:ext cx="8153280" cy="38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2. The network 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Latency or del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Delay of dist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Delay of relay po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7809EB-4DA7-45E3-A43C-CEC1CDD708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24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br>
              <a:rPr sz="1800"/>
            </a:br>
            <a:r>
              <a:rPr b="1" lang="hu-HU" sz="1800" spc="-1" strike="noStrike">
                <a:solidFill>
                  <a:srgbClr val="000000"/>
                </a:solidFill>
                <a:latin typeface="H-Times New Roman"/>
                <a:ea typeface="Times New Roman"/>
              </a:rPr>
              <a:t>2. The network III.</a:t>
            </a:r>
            <a:br>
              <a:rPr sz="1800"/>
            </a:br>
            <a:r>
              <a:rPr b="0" lang="hu-HU" sz="1800" spc="-1" strike="noStrike">
                <a:solidFill>
                  <a:srgbClr val="000000"/>
                </a:solidFill>
                <a:latin typeface="Times New Roman"/>
                <a:ea typeface="Times New Roman"/>
              </a:rPr>
              <a:t>Capacity (bandwidth)</a:t>
            </a:r>
            <a:endParaRPr b="0" lang="en-US" sz="1800" spc="-1" strike="noStrike">
              <a:solidFill>
                <a:srgbClr val="000000"/>
              </a:solidFill>
              <a:latin typeface="Times New Roman"/>
            </a:endParaRPr>
          </a:p>
        </p:txBody>
      </p:sp>
      <p:graphicFrame>
        <p:nvGraphicFramePr>
          <p:cNvPr id="102" name=""/>
          <p:cNvGraphicFramePr/>
          <p:nvPr/>
        </p:nvGraphicFramePr>
        <p:xfrm>
          <a:off x="304920" y="1523880"/>
          <a:ext cx="8610480" cy="4380120"/>
        </p:xfrm>
        <a:graphic>
          <a:graphicData uri="http://schemas.openxmlformats.org/drawingml/2006/table">
            <a:tbl>
              <a:tblPr/>
              <a:tblGrid>
                <a:gridCol w="2895480"/>
                <a:gridCol w="1981080"/>
                <a:gridCol w="37339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echnology</a:t>
                      </a:r>
                      <a:r>
                        <a:rPr b="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heoretical bandwidth</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General use</a:t>
                      </a:r>
                      <a:r>
                        <a:rPr b="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Modem</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28.800 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ersonal computer or 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56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64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 (ISD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28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ersonal computer</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 (ISD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 LAN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Ether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0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runk</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4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FDDI</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00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ATM (OC-3)</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5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ATM (OC-12)</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622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C9C4D29-A467-4CAF-8E23-200403E097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7621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000000"/>
                </a:solidFill>
                <a:latin typeface="H-Times New Roman"/>
                <a:ea typeface="Times New Roman"/>
              </a:rPr>
              <a:t>The speed of computer network</a:t>
            </a:r>
            <a:endParaRPr b="0" lang="en-US" sz="2800" spc="-1" strike="noStrike">
              <a:solidFill>
                <a:srgbClr val="000000"/>
              </a:solidFill>
              <a:latin typeface="Times New Roman"/>
            </a:endParaRPr>
          </a:p>
        </p:txBody>
      </p:sp>
      <p:sp>
        <p:nvSpPr>
          <p:cNvPr id="104" name=""/>
          <p:cNvSpPr/>
          <p:nvPr/>
        </p:nvSpPr>
        <p:spPr>
          <a:xfrm>
            <a:off x="762120" y="17524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14400" y="33526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6" name=""/>
          <p:cNvGraphicFramePr/>
          <p:nvPr/>
        </p:nvGraphicFramePr>
        <p:xfrm>
          <a:off x="304920" y="2362320"/>
          <a:ext cx="8610480" cy="2571480"/>
        </p:xfrm>
        <a:graphic>
          <a:graphicData uri="http://schemas.openxmlformats.org/drawingml/2006/table">
            <a:tbl>
              <a:tblPr/>
              <a:tblGrid>
                <a:gridCol w="1722240"/>
                <a:gridCol w="1722600"/>
                <a:gridCol w="1720800"/>
                <a:gridCol w="1722240"/>
                <a:gridCol w="1722600"/>
              </a:tblGrid>
              <a:tr h="551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Docu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Size</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14.400 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56 K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100 M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r>
              <a:tr h="55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SCII text</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0 K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6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4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0.0008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Im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 M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9,25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2,5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0.08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Movie </a:t>
                      </a:r>
                      <a:br>
                        <a:rPr sz="1800"/>
                      </a:br>
                      <a:r>
                        <a:rPr b="0" lang="hu-HU" sz="1800" spc="-1" strike="noStrike">
                          <a:solidFill>
                            <a:srgbClr val="000000"/>
                          </a:solidFill>
                          <a:latin typeface="H-Times New Roman"/>
                          <a:ea typeface="Times New Roman"/>
                        </a:rPr>
                        <a:t>(5 minutes playing time)</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50 M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7,7 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2 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4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3581280" y="175248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Network speed &amp; Time to transf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 name=""/>
          <p:cNvSpPr/>
          <p:nvPr/>
        </p:nvSpPr>
        <p:spPr>
          <a:xfrm>
            <a:off x="304920" y="51055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ransfer times for Web documents over different networ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oretical maximum network speed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0F67B19-6B56-4F84-B975-C332A4B550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57200" y="762120"/>
            <a:ext cx="8077320" cy="3962160"/>
            <a:chOff x="457200" y="762120"/>
            <a:chExt cx="8077320" cy="3962160"/>
          </a:xfrm>
        </p:grpSpPr>
        <p:sp>
          <p:nvSpPr>
            <p:cNvPr id="110" name=""/>
            <p:cNvSpPr/>
            <p:nvPr/>
          </p:nvSpPr>
          <p:spPr>
            <a:xfrm>
              <a:off x="457200" y="838080"/>
              <a:ext cx="2133720" cy="8226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Cli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6095880" y="838080"/>
              <a:ext cx="2438640" cy="8226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2" name=""/>
            <p:cNvGrpSpPr/>
            <p:nvPr/>
          </p:nvGrpSpPr>
          <p:grpSpPr>
            <a:xfrm>
              <a:off x="3352680" y="762120"/>
              <a:ext cx="2362320" cy="1218960"/>
              <a:chOff x="3352680" y="762120"/>
              <a:chExt cx="2362320" cy="1218960"/>
            </a:xfrm>
          </p:grpSpPr>
          <p:sp>
            <p:nvSpPr>
              <p:cNvPr id="113" name=""/>
              <p:cNvSpPr/>
              <p:nvPr/>
            </p:nvSpPr>
            <p:spPr>
              <a:xfrm>
                <a:off x="3352680" y="762120"/>
                <a:ext cx="2362320" cy="121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657600" y="12193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809880" y="990720"/>
                <a:ext cx="15242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L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100 M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6" name=""/>
            <p:cNvSpPr/>
            <p:nvPr/>
          </p:nvSpPr>
          <p:spPr>
            <a:xfrm>
              <a:off x="457200" y="2971800"/>
              <a:ext cx="1981080" cy="63972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dem</a:t>
              </a:r>
              <a:endParaRPr b="0" lang="en-US" sz="2400" spc="-1" strike="noStrike">
                <a:solidFill>
                  <a:srgbClr val="000000"/>
                </a:solidFill>
                <a:latin typeface="Times New Roman"/>
              </a:endParaRPr>
            </a:p>
          </p:txBody>
        </p:sp>
        <p:sp>
          <p:nvSpPr>
            <p:cNvPr id="117" name=""/>
            <p:cNvSpPr/>
            <p:nvPr/>
          </p:nvSpPr>
          <p:spPr>
            <a:xfrm>
              <a:off x="1905120" y="1981080"/>
              <a:ext cx="1676160" cy="366120"/>
            </a:xfrm>
            <a:prstGeom prst="rect">
              <a:avLst/>
            </a:prstGeom>
            <a:noFill/>
            <a:ln w="3240">
              <a:solidFill>
                <a:srgbClr val="969696"/>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slowest l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3581280" y="3352680"/>
              <a:ext cx="2361960" cy="1219320"/>
              <a:chOff x="3581280" y="3352680"/>
              <a:chExt cx="2361960" cy="1219320"/>
            </a:xfrm>
          </p:grpSpPr>
          <p:sp>
            <p:nvSpPr>
              <p:cNvPr id="119" name=""/>
              <p:cNvSpPr/>
              <p:nvPr/>
            </p:nvSpPr>
            <p:spPr>
              <a:xfrm>
                <a:off x="3581280" y="3352680"/>
                <a:ext cx="2361960" cy="121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85840" y="380988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038480" y="3581280"/>
                <a:ext cx="15238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L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10</a:t>
                </a:r>
                <a:r>
                  <a:rPr b="1" lang="hu-HU" sz="1800" spc="-1" strike="noStrike">
                    <a:solidFill>
                      <a:srgbClr val="000000"/>
                    </a:solidFill>
                    <a:latin typeface="Times New Roman"/>
                  </a:rPr>
                  <a:t> </a:t>
                </a:r>
                <a:r>
                  <a:rPr b="1" lang="hu-HU" sz="1800" spc="-1" strike="noStrike">
                    <a:solidFill>
                      <a:srgbClr val="000000"/>
                    </a:solidFill>
                    <a:latin typeface="Times New Roman"/>
                    <a:ea typeface="Times New Roman"/>
                  </a:rPr>
                  <a:t>M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22" name=""/>
            <p:cNvSpPr/>
            <p:nvPr/>
          </p:nvSpPr>
          <p:spPr>
            <a:xfrm>
              <a:off x="6858000" y="2666880"/>
              <a:ext cx="1447920" cy="12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56 Kbp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447920" y="1676520"/>
              <a:ext cx="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15000" y="1295280"/>
              <a:ext cx="380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66880" y="2743200"/>
              <a:ext cx="762120" cy="198108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438280" y="3276720"/>
              <a:ext cx="1143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2590560" y="3276720"/>
              <a:ext cx="990360" cy="685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90920" y="3962520"/>
              <a:ext cx="990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48320" y="1981080"/>
              <a:ext cx="0" cy="1371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429000" y="2666520"/>
              <a:ext cx="1066680" cy="366120"/>
            </a:xfrm>
            <a:prstGeom prst="rect">
              <a:avLst/>
            </a:prstGeom>
            <a:noFill/>
            <a:ln cap="rnd" w="9360">
              <a:solidFill>
                <a:srgbClr val="000000"/>
              </a:solidFill>
              <a:custDash>
                <a:ds d="100000" sp="1000"/>
              </a:custDash>
              <a:miter/>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14 K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flipH="1">
              <a:off x="5790960" y="3276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4724280" y="2514240"/>
              <a:ext cx="1067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304920" y="5105520"/>
            <a:ext cx="861048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client connects to the server through different links with different speeds. The slowest determines the fastest speed that data can reach the client</a:t>
            </a:r>
            <a:r>
              <a:rPr b="0" i="1"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60E0AE-D69C-42BB-AA1F-D86A6186F1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685800"/>
            <a:ext cx="792468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1. Introduction</a:t>
            </a:r>
            <a:endParaRPr b="0" lang="en-US" sz="4400" spc="-1" strike="noStrike">
              <a:solidFill>
                <a:srgbClr val="000000"/>
              </a:solidFill>
              <a:latin typeface="Times New Roman"/>
            </a:endParaRPr>
          </a:p>
          <a:p>
            <a:pPr>
              <a:spcBef>
                <a:spcPts val="29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People use World Wide Web through browser software on their local computer, the client system</a:t>
            </a:r>
            <a:endParaRPr b="0" lang="en-US" sz="24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The client computer software retrieves information (documents, images, etc) from other computers, which are called</a:t>
            </a:r>
            <a:r>
              <a:rPr b="0" lang="en-GB" sz="2000" spc="-1" strike="noStrike">
                <a:solidFill>
                  <a:srgbClr val="000000"/>
                </a:solidFill>
                <a:latin typeface="Times New Roman"/>
                <a:ea typeface="Times New Roman"/>
              </a:rPr>
              <a:t>.</a:t>
            </a:r>
            <a:r>
              <a:rPr b="0" lang="hu-H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Web servers</a:t>
            </a: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The Web client and the Web server communicate by exchanging mess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7B5A392-E8AF-4E9B-B1B6-A7AAFCC46B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533520"/>
            <a:ext cx="8076960" cy="17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I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onges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On local networks with large numbers of clients</a:t>
            </a:r>
            <a:endParaRPr b="0" lang="en-US" sz="2000" spc="-1" strike="noStrike">
              <a:solidFill>
                <a:srgbClr val="000000"/>
              </a:solidFill>
              <a:latin typeface="Times New Roman"/>
            </a:endParaRPr>
          </a:p>
        </p:txBody>
      </p:sp>
      <p:sp>
        <p:nvSpPr>
          <p:cNvPr id="135" name=""/>
          <p:cNvSpPr/>
          <p:nvPr/>
        </p:nvSpPr>
        <p:spPr>
          <a:xfrm>
            <a:off x="457200" y="548640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user’s (browser’s) view of the Web (it hides the real network)</a:t>
            </a:r>
            <a:endParaRPr b="0" lang="en-US" sz="2000" spc="-1" strike="noStrike">
              <a:solidFill>
                <a:srgbClr val="000000"/>
              </a:solidFill>
              <a:latin typeface="Times New Roman"/>
            </a:endParaRPr>
          </a:p>
        </p:txBody>
      </p:sp>
      <p:grpSp>
        <p:nvGrpSpPr>
          <p:cNvPr id="136" name=""/>
          <p:cNvGrpSpPr/>
          <p:nvPr/>
        </p:nvGrpSpPr>
        <p:grpSpPr>
          <a:xfrm>
            <a:off x="533520" y="2514600"/>
            <a:ext cx="7772400" cy="2697120"/>
            <a:chOff x="533520" y="2514600"/>
            <a:chExt cx="7772400" cy="2697120"/>
          </a:xfrm>
        </p:grpSpPr>
        <p:sp>
          <p:nvSpPr>
            <p:cNvPr id="137" name=""/>
            <p:cNvSpPr/>
            <p:nvPr/>
          </p:nvSpPr>
          <p:spPr>
            <a:xfrm>
              <a:off x="533520" y="25146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533520" y="350532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335268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617220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533520" y="45720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3352680" y="3505320"/>
              <a:ext cx="2133720" cy="639720"/>
            </a:xfrm>
            <a:prstGeom prst="rect">
              <a:avLst/>
            </a:prstGeom>
            <a:gradFill rotWithShape="0">
              <a:gsLst>
                <a:gs pos="0">
                  <a:srgbClr val="c0c0c0"/>
                </a:gs>
                <a:gs pos="100000">
                  <a:srgbClr val="dbdbdb"/>
                </a:gs>
              </a:gsLst>
              <a:path path="rect">
                <a:fillToRect l="50000" t="50000" r="50000" b="50000"/>
              </a:path>
            </a:grad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Client (browser)</a:t>
              </a:r>
              <a:endParaRPr b="0" lang="en-US" sz="2000" spc="-1" strike="noStrike">
                <a:solidFill>
                  <a:srgbClr val="000000"/>
                </a:solidFill>
                <a:latin typeface="Times New Roman"/>
              </a:endParaRPr>
            </a:p>
          </p:txBody>
        </p:sp>
        <p:sp>
          <p:nvSpPr>
            <p:cNvPr id="143" name=""/>
            <p:cNvSpPr/>
            <p:nvPr/>
          </p:nvSpPr>
          <p:spPr>
            <a:xfrm>
              <a:off x="6172200" y="350532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3352680" y="45720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5" name=""/>
            <p:cNvSpPr/>
            <p:nvPr/>
          </p:nvSpPr>
          <p:spPr>
            <a:xfrm>
              <a:off x="6172200" y="449568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6" name=""/>
            <p:cNvSpPr/>
            <p:nvPr/>
          </p:nvSpPr>
          <p:spPr>
            <a:xfrm>
              <a:off x="4419720" y="3124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419720" y="4191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48640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666880" y="312408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486400" y="312372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666880" y="411480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5486040" y="4114800"/>
              <a:ext cx="6858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E5399BD-28D5-421B-AE50-457258636B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57800" y="228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7238880" y="228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685800" y="4952880"/>
            <a:ext cx="8001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real network architecture from clients 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link from the local network to the Internet may be a bottleneck)</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57" name=""/>
          <p:cNvGrpSpPr/>
          <p:nvPr/>
        </p:nvGrpSpPr>
        <p:grpSpPr>
          <a:xfrm>
            <a:off x="228600" y="304920"/>
            <a:ext cx="8610480" cy="4357440"/>
            <a:chOff x="228600" y="304920"/>
            <a:chExt cx="8610480" cy="4357440"/>
          </a:xfrm>
        </p:grpSpPr>
        <p:sp>
          <p:nvSpPr>
            <p:cNvPr id="158" name=""/>
            <p:cNvSpPr/>
            <p:nvPr/>
          </p:nvSpPr>
          <p:spPr>
            <a:xfrm>
              <a:off x="2286000" y="3049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59" name=""/>
            <p:cNvSpPr/>
            <p:nvPr/>
          </p:nvSpPr>
          <p:spPr>
            <a:xfrm>
              <a:off x="7238880" y="1066680"/>
              <a:ext cx="160020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0" name=""/>
            <p:cNvSpPr/>
            <p:nvPr/>
          </p:nvSpPr>
          <p:spPr>
            <a:xfrm>
              <a:off x="7238880" y="1752480"/>
              <a:ext cx="160020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
            <p:cNvSpPr/>
            <p:nvPr/>
          </p:nvSpPr>
          <p:spPr>
            <a:xfrm>
              <a:off x="7238880" y="2514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2" name=""/>
            <p:cNvSpPr/>
            <p:nvPr/>
          </p:nvSpPr>
          <p:spPr>
            <a:xfrm>
              <a:off x="7238880" y="327672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228600" y="12193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4" name=""/>
            <p:cNvSpPr/>
            <p:nvPr/>
          </p:nvSpPr>
          <p:spPr>
            <a:xfrm>
              <a:off x="228600" y="20574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5" name=""/>
            <p:cNvSpPr/>
            <p:nvPr/>
          </p:nvSpPr>
          <p:spPr>
            <a:xfrm>
              <a:off x="228600" y="2819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6" name=""/>
            <p:cNvSpPr/>
            <p:nvPr/>
          </p:nvSpPr>
          <p:spPr>
            <a:xfrm>
              <a:off x="228600" y="35812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grpSp>
          <p:nvGrpSpPr>
            <p:cNvPr id="167" name=""/>
            <p:cNvGrpSpPr/>
            <p:nvPr/>
          </p:nvGrpSpPr>
          <p:grpSpPr>
            <a:xfrm>
              <a:off x="1752480" y="2057400"/>
              <a:ext cx="2133720" cy="1143000"/>
              <a:chOff x="1752480" y="2057400"/>
              <a:chExt cx="2133720" cy="1143000"/>
            </a:xfrm>
          </p:grpSpPr>
          <p:sp>
            <p:nvSpPr>
              <p:cNvPr id="168" name=""/>
              <p:cNvSpPr/>
              <p:nvPr/>
            </p:nvSpPr>
            <p:spPr>
              <a:xfrm>
                <a:off x="1752480" y="2057400"/>
                <a:ext cx="21337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86000" y="2438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L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170" name=""/>
            <p:cNvSpPr/>
            <p:nvPr/>
          </p:nvSpPr>
          <p:spPr>
            <a:xfrm>
              <a:off x="4495680" y="1371600"/>
              <a:ext cx="2238480" cy="2235240"/>
            </a:xfrm>
            <a:custGeom>
              <a:avLst/>
              <a:gdLst/>
              <a:ahLst/>
              <a:rect l="l" t="t" r="r" b="b"/>
              <a:pathLst>
                <a:path w="1410" h="1408">
                  <a:moveTo>
                    <a:pt x="258" y="37"/>
                  </a:moveTo>
                  <a:cubicBezTo>
                    <a:pt x="320" y="22"/>
                    <a:pt x="367" y="8"/>
                    <a:pt x="431" y="0"/>
                  </a:cubicBezTo>
                  <a:cubicBezTo>
                    <a:pt x="504" y="3"/>
                    <a:pt x="578" y="2"/>
                    <a:pt x="651" y="10"/>
                  </a:cubicBezTo>
                  <a:cubicBezTo>
                    <a:pt x="722" y="18"/>
                    <a:pt x="781" y="102"/>
                    <a:pt x="852" y="119"/>
                  </a:cubicBezTo>
                  <a:cubicBezTo>
                    <a:pt x="890" y="146"/>
                    <a:pt x="928" y="148"/>
                    <a:pt x="971" y="165"/>
                  </a:cubicBezTo>
                  <a:cubicBezTo>
                    <a:pt x="1015" y="182"/>
                    <a:pt x="1033" y="202"/>
                    <a:pt x="1081" y="211"/>
                  </a:cubicBezTo>
                  <a:cubicBezTo>
                    <a:pt x="1151" y="245"/>
                    <a:pt x="1159" y="239"/>
                    <a:pt x="1190" y="302"/>
                  </a:cubicBezTo>
                  <a:cubicBezTo>
                    <a:pt x="1197" y="343"/>
                    <a:pt x="1209" y="373"/>
                    <a:pt x="1218" y="412"/>
                  </a:cubicBezTo>
                  <a:cubicBezTo>
                    <a:pt x="1235" y="482"/>
                    <a:pt x="1241" y="543"/>
                    <a:pt x="1282" y="604"/>
                  </a:cubicBezTo>
                  <a:cubicBezTo>
                    <a:pt x="1302" y="664"/>
                    <a:pt x="1274" y="594"/>
                    <a:pt x="1327" y="668"/>
                  </a:cubicBezTo>
                  <a:cubicBezTo>
                    <a:pt x="1359" y="713"/>
                    <a:pt x="1392" y="769"/>
                    <a:pt x="1410" y="823"/>
                  </a:cubicBezTo>
                  <a:cubicBezTo>
                    <a:pt x="1405" y="912"/>
                    <a:pt x="1409" y="971"/>
                    <a:pt x="1382" y="1052"/>
                  </a:cubicBezTo>
                  <a:cubicBezTo>
                    <a:pt x="1357" y="1127"/>
                    <a:pt x="1294" y="1201"/>
                    <a:pt x="1245" y="1262"/>
                  </a:cubicBezTo>
                  <a:cubicBezTo>
                    <a:pt x="1242" y="1266"/>
                    <a:pt x="1177" y="1346"/>
                    <a:pt x="1163" y="1354"/>
                  </a:cubicBezTo>
                  <a:cubicBezTo>
                    <a:pt x="1110" y="1384"/>
                    <a:pt x="1048" y="1398"/>
                    <a:pt x="989" y="1408"/>
                  </a:cubicBezTo>
                  <a:cubicBezTo>
                    <a:pt x="882" y="1401"/>
                    <a:pt x="810" y="1389"/>
                    <a:pt x="706" y="1372"/>
                  </a:cubicBezTo>
                  <a:cubicBezTo>
                    <a:pt x="616" y="1337"/>
                    <a:pt x="526" y="1322"/>
                    <a:pt x="431" y="1299"/>
                  </a:cubicBezTo>
                  <a:cubicBezTo>
                    <a:pt x="408" y="1293"/>
                    <a:pt x="389" y="1278"/>
                    <a:pt x="367" y="1271"/>
                  </a:cubicBezTo>
                  <a:cubicBezTo>
                    <a:pt x="337" y="1262"/>
                    <a:pt x="276" y="1253"/>
                    <a:pt x="276" y="1253"/>
                  </a:cubicBezTo>
                  <a:cubicBezTo>
                    <a:pt x="239" y="1256"/>
                    <a:pt x="202" y="1255"/>
                    <a:pt x="166" y="1262"/>
                  </a:cubicBezTo>
                  <a:cubicBezTo>
                    <a:pt x="122" y="1270"/>
                    <a:pt x="140" y="1280"/>
                    <a:pt x="111" y="1299"/>
                  </a:cubicBezTo>
                  <a:cubicBezTo>
                    <a:pt x="85" y="1316"/>
                    <a:pt x="56" y="1328"/>
                    <a:pt x="29" y="1344"/>
                  </a:cubicBezTo>
                  <a:cubicBezTo>
                    <a:pt x="13" y="1053"/>
                    <a:pt x="0" y="755"/>
                    <a:pt x="47" y="467"/>
                  </a:cubicBezTo>
                  <a:cubicBezTo>
                    <a:pt x="50" y="421"/>
                    <a:pt x="52" y="376"/>
                    <a:pt x="57" y="330"/>
                  </a:cubicBezTo>
                  <a:cubicBezTo>
                    <a:pt x="64" y="263"/>
                    <a:pt x="110" y="254"/>
                    <a:pt x="157" y="220"/>
                  </a:cubicBezTo>
                  <a:cubicBezTo>
                    <a:pt x="168" y="212"/>
                    <a:pt x="175" y="200"/>
                    <a:pt x="185" y="192"/>
                  </a:cubicBezTo>
                  <a:cubicBezTo>
                    <a:pt x="193" y="185"/>
                    <a:pt x="203" y="180"/>
                    <a:pt x="212" y="174"/>
                  </a:cubicBezTo>
                  <a:cubicBezTo>
                    <a:pt x="215" y="150"/>
                    <a:pt x="221" y="101"/>
                    <a:pt x="221" y="101"/>
                  </a:cubicBezTo>
                  <a:lnTo>
                    <a:pt x="258" y="3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876920" y="2286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2286000" y="37339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73" name=""/>
            <p:cNvSpPr/>
            <p:nvPr/>
          </p:nvSpPr>
          <p:spPr>
            <a:xfrm>
              <a:off x="5181480" y="41148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 name=""/>
            <p:cNvSpPr/>
            <p:nvPr/>
          </p:nvSpPr>
          <p:spPr>
            <a:xfrm>
              <a:off x="3886200" y="2590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9520" y="8380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95280" y="1447920"/>
              <a:ext cx="9144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295280" y="228600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1295280" y="281916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1295280" y="3123720"/>
              <a:ext cx="9144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281952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581280" y="1981080"/>
              <a:ext cx="381240" cy="1371600"/>
            </a:xfrm>
            <a:prstGeom prst="ellipse">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62520" y="3733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ottleneck</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3" name=""/>
            <p:cNvSpPr/>
            <p:nvPr/>
          </p:nvSpPr>
          <p:spPr>
            <a:xfrm flipV="1">
              <a:off x="3809880" y="3505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5943600" y="3581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19920" y="762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324480" y="762120"/>
              <a:ext cx="9144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6400800" y="1600200"/>
              <a:ext cx="8380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6552720" y="228600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705360" y="2743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flipV="1">
              <a:off x="6705360" y="304776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A1F588D-6157-4176-A482-96D59C35A2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380880"/>
            <a:ext cx="8458200" cy="17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On the local network of the Web server</a:t>
            </a:r>
            <a:endParaRPr b="0" lang="en-US" sz="2000" spc="-1" strike="noStrike">
              <a:solidFill>
                <a:srgbClr val="000000"/>
              </a:solidFill>
              <a:latin typeface="Times New Roman"/>
            </a:endParaRPr>
          </a:p>
        </p:txBody>
      </p:sp>
      <p:sp>
        <p:nvSpPr>
          <p:cNvPr id="192" name=""/>
          <p:cNvSpPr/>
          <p:nvPr/>
        </p:nvSpPr>
        <p:spPr>
          <a:xfrm>
            <a:off x="457200" y="25146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 name=""/>
          <p:cNvGrpSpPr/>
          <p:nvPr/>
        </p:nvGrpSpPr>
        <p:grpSpPr>
          <a:xfrm>
            <a:off x="533520" y="2514600"/>
            <a:ext cx="7848360" cy="3355200"/>
            <a:chOff x="533520" y="2514600"/>
            <a:chExt cx="7848360" cy="3355200"/>
          </a:xfrm>
        </p:grpSpPr>
        <p:sp>
          <p:nvSpPr>
            <p:cNvPr id="194" name=""/>
            <p:cNvSpPr/>
            <p:nvPr/>
          </p:nvSpPr>
          <p:spPr>
            <a:xfrm>
              <a:off x="533520" y="25146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5" name=""/>
            <p:cNvSpPr/>
            <p:nvPr/>
          </p:nvSpPr>
          <p:spPr>
            <a:xfrm>
              <a:off x="533520" y="350532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335268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7" name=""/>
            <p:cNvSpPr/>
            <p:nvPr/>
          </p:nvSpPr>
          <p:spPr>
            <a:xfrm>
              <a:off x="617220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8" name=""/>
            <p:cNvSpPr/>
            <p:nvPr/>
          </p:nvSpPr>
          <p:spPr>
            <a:xfrm>
              <a:off x="533520" y="45720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9" name=""/>
            <p:cNvSpPr/>
            <p:nvPr/>
          </p:nvSpPr>
          <p:spPr>
            <a:xfrm>
              <a:off x="3352680" y="3505320"/>
              <a:ext cx="2133720" cy="639720"/>
            </a:xfrm>
            <a:prstGeom prst="rect">
              <a:avLst/>
            </a:prstGeom>
            <a:gradFill rotWithShape="0">
              <a:gsLst>
                <a:gs pos="0">
                  <a:srgbClr val="c0c0c0"/>
                </a:gs>
                <a:gs pos="100000">
                  <a:srgbClr val="dbdbdb"/>
                </a:gs>
              </a:gsLst>
              <a:path path="rect">
                <a:fillToRect l="50000" t="50000" r="50000" b="50000"/>
              </a:path>
            </a:grad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0" name=""/>
            <p:cNvSpPr/>
            <p:nvPr/>
          </p:nvSpPr>
          <p:spPr>
            <a:xfrm>
              <a:off x="6172200" y="350532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1" name=""/>
            <p:cNvSpPr/>
            <p:nvPr/>
          </p:nvSpPr>
          <p:spPr>
            <a:xfrm>
              <a:off x="3352680" y="45720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2" name=""/>
            <p:cNvSpPr/>
            <p:nvPr/>
          </p:nvSpPr>
          <p:spPr>
            <a:xfrm>
              <a:off x="6172200" y="449568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3" name=""/>
            <p:cNvSpPr/>
            <p:nvPr/>
          </p:nvSpPr>
          <p:spPr>
            <a:xfrm>
              <a:off x="4419720" y="3124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19720" y="4191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6688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48640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666880" y="312408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5486400" y="312372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2666880" y="411480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5486040" y="4114800"/>
              <a:ext cx="6858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9480" y="54100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H-Times New Roman"/>
                  <a:ea typeface="Times New Roman"/>
                </a:rPr>
                <a:t>The server’s view of the Web (it hides the real net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DB27C1A-7C6B-4831-A09B-BC700E1E58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5334120"/>
            <a:ext cx="8381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real network architecture from server’s 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between the server’s local network and the Internet may be a bottleneck)</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213" name=""/>
          <p:cNvGrpSpPr/>
          <p:nvPr/>
        </p:nvGrpSpPr>
        <p:grpSpPr>
          <a:xfrm>
            <a:off x="457200" y="533520"/>
            <a:ext cx="8381880" cy="4281480"/>
            <a:chOff x="457200" y="533520"/>
            <a:chExt cx="8381880" cy="4281480"/>
          </a:xfrm>
        </p:grpSpPr>
        <p:sp>
          <p:nvSpPr>
            <p:cNvPr id="214" name=""/>
            <p:cNvSpPr/>
            <p:nvPr/>
          </p:nvSpPr>
          <p:spPr>
            <a:xfrm>
              <a:off x="457200" y="35053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5" name=""/>
            <p:cNvSpPr/>
            <p:nvPr/>
          </p:nvSpPr>
          <p:spPr>
            <a:xfrm>
              <a:off x="2057400" y="533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6" name=""/>
            <p:cNvSpPr/>
            <p:nvPr/>
          </p:nvSpPr>
          <p:spPr>
            <a:xfrm>
              <a:off x="457200" y="20574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7" name=""/>
            <p:cNvSpPr/>
            <p:nvPr/>
          </p:nvSpPr>
          <p:spPr>
            <a:xfrm>
              <a:off x="457200" y="27432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8" name=""/>
            <p:cNvSpPr/>
            <p:nvPr/>
          </p:nvSpPr>
          <p:spPr>
            <a:xfrm>
              <a:off x="457200" y="12952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9" name=""/>
            <p:cNvSpPr/>
            <p:nvPr/>
          </p:nvSpPr>
          <p:spPr>
            <a:xfrm>
              <a:off x="457200" y="533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0" name=""/>
            <p:cNvSpPr/>
            <p:nvPr/>
          </p:nvSpPr>
          <p:spPr>
            <a:xfrm>
              <a:off x="2133720" y="42670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905120" y="1676520"/>
              <a:ext cx="2238120" cy="1854000"/>
            </a:xfrm>
            <a:custGeom>
              <a:avLst/>
              <a:gdLst/>
              <a:ahLst/>
              <a:rect l="l" t="t" r="r" b="b"/>
              <a:pathLst>
                <a:path w="1410" h="1408">
                  <a:moveTo>
                    <a:pt x="258" y="37"/>
                  </a:moveTo>
                  <a:cubicBezTo>
                    <a:pt x="320" y="22"/>
                    <a:pt x="367" y="8"/>
                    <a:pt x="431" y="0"/>
                  </a:cubicBezTo>
                  <a:cubicBezTo>
                    <a:pt x="504" y="3"/>
                    <a:pt x="578" y="2"/>
                    <a:pt x="651" y="10"/>
                  </a:cubicBezTo>
                  <a:cubicBezTo>
                    <a:pt x="722" y="18"/>
                    <a:pt x="781" y="102"/>
                    <a:pt x="852" y="119"/>
                  </a:cubicBezTo>
                  <a:cubicBezTo>
                    <a:pt x="890" y="146"/>
                    <a:pt x="928" y="148"/>
                    <a:pt x="971" y="165"/>
                  </a:cubicBezTo>
                  <a:cubicBezTo>
                    <a:pt x="1015" y="182"/>
                    <a:pt x="1033" y="202"/>
                    <a:pt x="1081" y="211"/>
                  </a:cubicBezTo>
                  <a:cubicBezTo>
                    <a:pt x="1151" y="245"/>
                    <a:pt x="1159" y="239"/>
                    <a:pt x="1190" y="302"/>
                  </a:cubicBezTo>
                  <a:cubicBezTo>
                    <a:pt x="1197" y="343"/>
                    <a:pt x="1209" y="373"/>
                    <a:pt x="1218" y="412"/>
                  </a:cubicBezTo>
                  <a:cubicBezTo>
                    <a:pt x="1235" y="482"/>
                    <a:pt x="1241" y="543"/>
                    <a:pt x="1282" y="604"/>
                  </a:cubicBezTo>
                  <a:cubicBezTo>
                    <a:pt x="1302" y="664"/>
                    <a:pt x="1274" y="594"/>
                    <a:pt x="1327" y="668"/>
                  </a:cubicBezTo>
                  <a:cubicBezTo>
                    <a:pt x="1359" y="713"/>
                    <a:pt x="1392" y="769"/>
                    <a:pt x="1410" y="823"/>
                  </a:cubicBezTo>
                  <a:cubicBezTo>
                    <a:pt x="1405" y="912"/>
                    <a:pt x="1409" y="971"/>
                    <a:pt x="1382" y="1052"/>
                  </a:cubicBezTo>
                  <a:cubicBezTo>
                    <a:pt x="1357" y="1127"/>
                    <a:pt x="1294" y="1201"/>
                    <a:pt x="1245" y="1262"/>
                  </a:cubicBezTo>
                  <a:cubicBezTo>
                    <a:pt x="1242" y="1266"/>
                    <a:pt x="1177" y="1346"/>
                    <a:pt x="1163" y="1354"/>
                  </a:cubicBezTo>
                  <a:cubicBezTo>
                    <a:pt x="1110" y="1384"/>
                    <a:pt x="1048" y="1398"/>
                    <a:pt x="989" y="1408"/>
                  </a:cubicBezTo>
                  <a:cubicBezTo>
                    <a:pt x="882" y="1401"/>
                    <a:pt x="810" y="1389"/>
                    <a:pt x="706" y="1372"/>
                  </a:cubicBezTo>
                  <a:cubicBezTo>
                    <a:pt x="616" y="1337"/>
                    <a:pt x="526" y="1322"/>
                    <a:pt x="431" y="1299"/>
                  </a:cubicBezTo>
                  <a:cubicBezTo>
                    <a:pt x="408" y="1293"/>
                    <a:pt x="389" y="1278"/>
                    <a:pt x="367" y="1271"/>
                  </a:cubicBezTo>
                  <a:cubicBezTo>
                    <a:pt x="337" y="1262"/>
                    <a:pt x="276" y="1253"/>
                    <a:pt x="276" y="1253"/>
                  </a:cubicBezTo>
                  <a:cubicBezTo>
                    <a:pt x="239" y="1256"/>
                    <a:pt x="202" y="1255"/>
                    <a:pt x="166" y="1262"/>
                  </a:cubicBezTo>
                  <a:cubicBezTo>
                    <a:pt x="122" y="1270"/>
                    <a:pt x="140" y="1280"/>
                    <a:pt x="111" y="1299"/>
                  </a:cubicBezTo>
                  <a:cubicBezTo>
                    <a:pt x="85" y="1316"/>
                    <a:pt x="56" y="1328"/>
                    <a:pt x="29" y="1344"/>
                  </a:cubicBezTo>
                  <a:cubicBezTo>
                    <a:pt x="13" y="1053"/>
                    <a:pt x="0" y="755"/>
                    <a:pt x="47" y="467"/>
                  </a:cubicBezTo>
                  <a:cubicBezTo>
                    <a:pt x="50" y="421"/>
                    <a:pt x="52" y="376"/>
                    <a:pt x="57" y="330"/>
                  </a:cubicBezTo>
                  <a:cubicBezTo>
                    <a:pt x="64" y="263"/>
                    <a:pt x="110" y="254"/>
                    <a:pt x="157" y="220"/>
                  </a:cubicBezTo>
                  <a:cubicBezTo>
                    <a:pt x="168" y="212"/>
                    <a:pt x="175" y="200"/>
                    <a:pt x="185" y="192"/>
                  </a:cubicBezTo>
                  <a:cubicBezTo>
                    <a:pt x="193" y="185"/>
                    <a:pt x="203" y="180"/>
                    <a:pt x="212" y="174"/>
                  </a:cubicBezTo>
                  <a:cubicBezTo>
                    <a:pt x="215" y="150"/>
                    <a:pt x="221" y="101"/>
                    <a:pt x="221" y="101"/>
                  </a:cubicBezTo>
                  <a:lnTo>
                    <a:pt x="258" y="3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33720" y="24382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23" name=""/>
            <p:cNvGrpSpPr/>
            <p:nvPr/>
          </p:nvGrpSpPr>
          <p:grpSpPr>
            <a:xfrm>
              <a:off x="4724280" y="2057400"/>
              <a:ext cx="2133720" cy="1143000"/>
              <a:chOff x="4724280" y="2057400"/>
              <a:chExt cx="2133720" cy="1143000"/>
            </a:xfrm>
          </p:grpSpPr>
          <p:sp>
            <p:nvSpPr>
              <p:cNvPr id="224" name=""/>
              <p:cNvSpPr/>
              <p:nvPr/>
            </p:nvSpPr>
            <p:spPr>
              <a:xfrm>
                <a:off x="4724280" y="2057400"/>
                <a:ext cx="21337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257800" y="2438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L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226" name=""/>
            <p:cNvSpPr/>
            <p:nvPr/>
          </p:nvSpPr>
          <p:spPr>
            <a:xfrm>
              <a:off x="4495680" y="1981080"/>
              <a:ext cx="533520" cy="1371600"/>
            </a:xfrm>
            <a:prstGeom prst="ellipse">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238880" y="236232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8" name=""/>
            <p:cNvSpPr/>
            <p:nvPr/>
          </p:nvSpPr>
          <p:spPr>
            <a:xfrm>
              <a:off x="3352680" y="373392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ottleneck</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9" name=""/>
            <p:cNvSpPr/>
            <p:nvPr/>
          </p:nvSpPr>
          <p:spPr>
            <a:xfrm flipV="1">
              <a:off x="4724280" y="3429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48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8000" y="2590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3880" y="2971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1066680"/>
              <a:ext cx="838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666880" y="1066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523880" y="182880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23880" y="2362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523880" y="320004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2590920" y="34290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39AFF43-C2FD-4036-B162-A827B7453B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304920"/>
            <a:ext cx="8610480" cy="67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VI.</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rotocols us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uses own protocol, HTTP, and also relies on Internet protocols such TCP/IP.</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i="1" lang="hu-HU" sz="2400" spc="-1" strike="noStrike">
                <a:solidFill>
                  <a:srgbClr val="000000"/>
                </a:solidFill>
                <a:latin typeface="H-Times New Roman"/>
                <a:ea typeface="Times New Roman"/>
              </a:rPr>
              <a:t>	</a:t>
            </a:r>
            <a:r>
              <a:rPr b="1" i="1" lang="hu-HU" sz="2000" spc="-1" strike="noStrike">
                <a:solidFill>
                  <a:srgbClr val="000000"/>
                </a:solidFill>
                <a:latin typeface="H-Times New Roman"/>
                <a:ea typeface="Times New Roman"/>
              </a:rPr>
              <a:t>Domain Name Service (DNS)</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One problem with the Web services is the translation of network addresses. The URL contains an Internet host address. This host name must be converted into network address and then to route through network to the computer. The translations usually done by a network name service, such as the Domain Name Service (DNS). The DNS system keep lists of host addresses it knows and will automatically contact other servers (using the Internet) to find addresses it does not already know.</a:t>
            </a:r>
            <a:endParaRPr b="0" lang="en-US" sz="16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i="1" lang="hu-HU" sz="2400" spc="-1" strike="noStrike">
                <a:solidFill>
                  <a:srgbClr val="000000"/>
                </a:solidFill>
                <a:latin typeface="H-Times New Roman"/>
                <a:ea typeface="Times New Roman"/>
              </a:rPr>
              <a:t>	</a:t>
            </a:r>
            <a:r>
              <a:rPr b="1" i="1" lang="hu-HU" sz="2000" spc="-1" strike="noStrike">
                <a:solidFill>
                  <a:srgbClr val="000000"/>
                </a:solidFill>
                <a:latin typeface="H-Times New Roman"/>
                <a:ea typeface="Times New Roman"/>
              </a:rPr>
              <a:t>TCP/IP and HTTP</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HTTP protocol was designed to efficiently transfer files in a single request-response transaction, using separate TCP/IP connection for each transaction. This design causes two sort of probl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Wingdings 2"/>
                <a:ea typeface="Wingdings 2"/>
              </a:rPr>
              <a:t></a:t>
            </a:r>
            <a:r>
              <a:rPr b="0" lang="hu-HU" sz="1600" spc="-1" strike="noStrike">
                <a:solidFill>
                  <a:srgbClr val="000000"/>
                </a:solidFill>
                <a:latin typeface="Times New Roman"/>
              </a:rPr>
              <a:t> </a:t>
            </a:r>
            <a:r>
              <a:rPr b="0" lang="hu-HU" sz="1600" spc="-1" strike="noStrike">
                <a:solidFill>
                  <a:srgbClr val="000000"/>
                </a:solidFill>
                <a:latin typeface="Times New Roman"/>
              </a:rPr>
              <a:t>series of requwst and responses</a:t>
            </a:r>
            <a:endParaRPr b="0" lang="en-US" sz="1600" spc="-1" strike="noStrike">
              <a:solidFill>
                <a:srgbClr val="000000"/>
              </a:solidFill>
              <a:latin typeface="Times New Roman"/>
            </a:endParaRPr>
          </a:p>
          <a:p>
            <a:pPr algn="jus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Wingdings 2"/>
                <a:ea typeface="Wingdings 2"/>
              </a:rPr>
              <a:t></a:t>
            </a:r>
            <a:r>
              <a:rPr b="0" lang="hu-HU" sz="1600" spc="-1" strike="noStrike">
                <a:solidFill>
                  <a:srgbClr val="000000"/>
                </a:solidFill>
                <a:latin typeface="Times New Roman"/>
                <a:ea typeface="Times New Roman"/>
              </a:rPr>
              <a:t> </a:t>
            </a:r>
            <a:r>
              <a:rPr b="0" lang="hu-HU" sz="1600" spc="-1" strike="noStrike">
                <a:solidFill>
                  <a:srgbClr val="000000"/>
                </a:solidFill>
                <a:latin typeface="H-Times New Roman"/>
                <a:ea typeface="Times New Roman"/>
              </a:rPr>
              <a:t>slow start-mechanis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29B8D19-F173-4C01-865E-D0C7CF6338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4920" y="609480"/>
            <a:ext cx="8534160" cy="53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The browser and the client system</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If the client system does not perform well, the Web service will appear to be slow or broken. From users’s perspective, it will take a long time for the document to be displayed, and it might not arrived at all - regardless the speed and capacity of the network or Web servers. The typical problems:</a:t>
            </a:r>
            <a:endParaRPr b="0" lang="en-US" sz="1800" spc="-1" strike="noStrike">
              <a:solidFill>
                <a:srgbClr val="000000"/>
              </a:solidFill>
              <a:latin typeface="Times New Roman"/>
            </a:endParaRPr>
          </a:p>
          <a:p>
            <a:pPr algn="just">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ome browsers simply cannot display anything other than ASCII text;</a:t>
            </a:r>
            <a:endParaRPr b="0" lang="en-US" sz="1800" spc="-1" strike="noStrike">
              <a:solidFill>
                <a:srgbClr val="000000"/>
              </a:solidFill>
              <a:latin typeface="Times New Roman"/>
            </a:endParaRPr>
          </a:p>
          <a:p>
            <a:pPr algn="just">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other browsers that are capable of displaying multimedia documents may not be able to display all types of information;</a:t>
            </a:r>
            <a:endParaRPr b="0" lang="en-US" sz="1800" spc="-1" strike="noStrike">
              <a:solidFill>
                <a:srgbClr val="000000"/>
              </a:solidFill>
              <a:latin typeface="Times New Roman"/>
            </a:endParaRPr>
          </a:p>
          <a:p>
            <a:pPr>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even when the browser can display multimedia documents in principle, this may be impractical on a given system because the images may take too long to transmit or require too much memory to disp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B37BE47-266D-4CD0-8E70-1BE7B2867F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28600" y="1523880"/>
            <a:ext cx="8610480" cy="4615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Times New Roman"/>
                <a:ea typeface="Times New Roman"/>
              </a:rPr>
              <a:t>6. Organisation of the document tree</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800" spc="-1" strike="noStrike">
                <a:solidFill>
                  <a:srgbClr val="000000"/>
                </a:solidFill>
                <a:latin typeface="H-Times New Roman"/>
                <a:ea typeface="Times New Roman"/>
              </a:rPr>
              <a:t>1. Connections between logical and physical view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H-Times New Roman"/>
                <a:ea typeface="Times New Roman"/>
              </a:rPr>
              <a:t>2. Spreading the documents across several server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H-Times New Roman"/>
                <a:ea typeface="Times New Roman"/>
              </a:rPr>
              <a:t>3. Location-independent nam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DA15461-C0B3-4FA6-AA1E-D002CE1275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69840"/>
            <a:ext cx="8381880" cy="6202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World Wide Web gives users access to information in millions of documents on thousand of computers.  All this information is available through a single interface, a Web browser, which gives the user a single, consistent view of the information. But there are two different views:</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1800" spc="-1" strike="noStrike">
                <a:solidFill>
                  <a:srgbClr val="000000"/>
                </a:solidFill>
                <a:latin typeface="H-Times New Roman"/>
                <a:ea typeface="Times New Roman"/>
              </a:rPr>
              <a:t>the view that the user sees is actually a convenient fiction, which we could call: logical view of the organisation of the information of WWW;</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the real, physical organisation of the information is much different from the logical organisation.</a:t>
            </a:r>
            <a:r>
              <a:rPr b="0" lang="hu-HU" sz="2000" spc="-1" strike="noStrike">
                <a:solidFill>
                  <a:srgbClr val="000000"/>
                </a:solidFill>
                <a:latin typeface="H-Times New Roman"/>
                <a:ea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1. Connections between logical and physical views </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1800" spc="-1" strike="noStrike">
                <a:solidFill>
                  <a:srgbClr val="000000"/>
                </a:solidFill>
                <a:latin typeface="H-Times New Roman"/>
                <a:ea typeface="Times New Roman"/>
              </a:rPr>
              <a:t>Mapp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ymbolic link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Spreading the documents across several server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ividing the documents across several servers (each document stored only o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Replicating (mirroring) (each document has minimum one more cop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istributed file-system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3. Location-independent nam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F83C3C8-74BA-4924-B75D-68900CE2EF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57200"/>
            <a:ext cx="8534160" cy="570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Connections between logical and physical vi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i="1" lang="hu-HU" sz="1800" spc="-1" strike="noStrike">
                <a:solidFill>
                  <a:srgbClr val="000000"/>
                </a:solidFill>
                <a:latin typeface="H-Times New Roman"/>
                <a:ea typeface="Times New Roman"/>
              </a:rPr>
              <a:t>Mapping</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server software can translate from URL to the actual name of the file using rules in its configuration f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MAP /siker/* /users/image/siker-projekt/web-do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which says when a user requests a URL to, s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siker/kep12.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the server should return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users/image/siker-projekt/web-docs/kep12.html</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Symbolic links</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server can also use the facilities of the operating system and the file system itself to make such mappings. For instance, on UNIX system, the translation above could have been done by creating symbolic link fro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si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users/image/siker-projekt/web-do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nsted of using configuration fil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68E26F7-CE13-4CA8-AF78-4BB605104B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04920" y="5335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304920" y="380880"/>
            <a:ext cx="8458200" cy="6125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Spreading the documents across several server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ea typeface="Times New Roman"/>
              </a:rPr>
              <a:t>Dividing the documents across several servers (each document stored only o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ways of redirection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ome Web servers allow a mapping to include a full URL;</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nother way to redirect an access is to use a simple CGI script that returns the new URL of the document in HTTP header information using the </a:t>
            </a:r>
            <a:r>
              <a:rPr b="0" lang="hu-HU" sz="1800" spc="-1" strike="noStrike">
                <a:solidFill>
                  <a:srgbClr val="000000"/>
                </a:solidFill>
                <a:latin typeface="H-Courier New"/>
                <a:ea typeface="Times New Roman"/>
              </a:rPr>
              <a:t>Location</a:t>
            </a:r>
            <a:r>
              <a:rPr b="0" lang="hu-HU" sz="1800" spc="-1" strike="noStrike">
                <a:solidFill>
                  <a:srgbClr val="000000"/>
                </a:solidFill>
                <a:latin typeface="H-Times New Roman"/>
                <a:ea typeface="Times New Roman"/>
              </a:rPr>
              <a:t> header. This header line tells the client the correct URL of the document, and the browser can automatically send the request to the new server without the user’s being aware of the redirection. In fact, this is what the server itself does when the MAP directive sends the request to a new 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ea typeface="Times New Roman"/>
              </a:rPr>
              <a:t>Replicating (mirroring) (each document has minimum one more copy)</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dvantage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Probl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 </a:t>
            </a:r>
            <a:r>
              <a:rPr b="0" i="1" lang="hu-HU" sz="1800" spc="-1" strike="noStrike">
                <a:solidFill>
                  <a:srgbClr val="000000"/>
                </a:solidFill>
                <a:latin typeface="Times New Roman"/>
                <a:ea typeface="Times New Roman"/>
              </a:rPr>
              <a:t>Distributed file-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 </a:t>
            </a:r>
            <a:r>
              <a:rPr b="0" lang="hu-HU" sz="1800" spc="-1" strike="noStrike">
                <a:solidFill>
                  <a:srgbClr val="000000"/>
                </a:solidFill>
                <a:latin typeface="H-Times New Roman"/>
                <a:ea typeface="Times New Roman"/>
              </a:rPr>
              <a:t>There are many distributed file systems available:</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Novell of Pc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pleshare for Macintoshe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FS, DFS and NFS for UNIX.</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6A8CD1D-0C7C-4AF3-A832-A265AF92FF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609480"/>
            <a:ext cx="8001000" cy="73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2. The parts of the Web servers</a:t>
            </a:r>
            <a:endParaRPr b="0" lang="en-US" sz="4400" spc="-1" strike="noStrike">
              <a:solidFill>
                <a:srgbClr val="000000"/>
              </a:solidFill>
              <a:latin typeface="Times New Roman"/>
            </a:endParaRPr>
          </a:p>
          <a:p>
            <a:pPr algn="just">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A Web server can be described by the next formula:</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Web server = platform, connected to Internet + software + information</a:t>
            </a:r>
            <a:endParaRPr b="0" lang="en-US" sz="20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next part of the Web server is the software itself.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platform is the computer hardware, its operating </a:t>
            </a: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ystem and the network softwar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information is the reason for the existing of the Web server.</a:t>
            </a:r>
            <a:endParaRPr b="0" lang="en-US" sz="24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In this material we concentrate to the second part of the Web server: on the softwar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4C1F9DA-46CC-4983-BF46-0DC8326A6C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1143000"/>
            <a:ext cx="7848720" cy="4459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Location-independent nam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would be very useful to separate </a:t>
            </a:r>
            <a:endParaRPr b="0" lang="en-US" sz="2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Times New Roman"/>
              </a:rPr>
              <a:t>    </a:t>
            </a:r>
            <a:r>
              <a:rPr b="0" lang="hu-HU" sz="2400" spc="-1" strike="noStrike">
                <a:solidFill>
                  <a:srgbClr val="000000"/>
                </a:solidFill>
                <a:latin typeface="H-Times New Roman"/>
                <a:ea typeface="Times New Roman"/>
              </a:rPr>
              <a:t>the name of the document</a:t>
            </a:r>
            <a:endParaRPr b="0" lang="en-US" sz="24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H-Times New Roman"/>
                <a:ea typeface="Times New Roman"/>
              </a:rPr>
              <a:t>from it’s loc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o give documents location-independent n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Internet community has defined such names, called Universal Resource Names (UR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E92BC7-4CA3-4059-80FF-EFD100F74D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80880" y="609480"/>
            <a:ext cx="8610840" cy="55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ork of Web c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The Web browser itself can save documents it has fetc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The Web servers themselves may act as cach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Use an intermediate server that provides the c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2. Tuning a caching ser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mount of the stor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What documents should be cach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3. The effectiveness of cach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24C277-C78C-4421-BCA0-661645729B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09480" y="0"/>
            <a:ext cx="7925040" cy="64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ork of Web caching</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The Web browser itself can save documents it has fetched</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Caching by the browser is tightly limited:</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by the memory and disk space available on the client computer;</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cached documents might not be saved after the browser is closed, so each session might have start over again;</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since each copy of a browser is caching its own documents, each user may well have its own copy of the same popular documents as his neighbour. This is a waste and does little reduce the load on the Internet, since each user fetches the document at least once. </a:t>
            </a: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The Web servers themselves may act as cach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is is especially true for server that contains many pointers to the servers:</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Web server itself can fetch the document and modify the links to point to its local copy rather than the more distant original;</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replication or mirroring is also a form of caching, because the documents are copies to several servers to improve their availability and reduce the load on server. Caching and replication of documents by servers makes accessing some documents more convenient, but the clients must still connect to the Web server, which means that the load on the Internet is not reduced</a:t>
            </a:r>
            <a:r>
              <a:rPr b="0" lang="hu-HU" sz="1600" spc="-1" strike="noStrike">
                <a:solidFill>
                  <a:srgbClr val="000000"/>
                </a:solidFill>
                <a:latin typeface="H-Times New Roman"/>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H-Times New Roman"/>
                <a:ea typeface="Times New Roman"/>
              </a:rPr>
              <a:t>Use an intermediate server that provides the cac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intermediate server acts as an agent representing the server to the client and the client to the server. Such a server is usually called a „proxy server” or just a „proxy”. In general, proxy servers forward Web requests from clients to other Web servers and return responses from servers to clients. The purpose is to filter or redirect the requests from some reason - usually to improve performance (or to enforce a security policy).</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1ADF2A2-7AD3-4FED-9B5D-66B71FC9B1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457200"/>
            <a:ext cx="8610840" cy="628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2. Tuning a caching server</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Times New Roman"/>
                <a:ea typeface="Times New Roman"/>
              </a:rPr>
              <a:t>Amount of the stora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mount of the storage available sets the limit on the cache. The more information that can be cached, the more likely that requests will be satisfied by a cache hi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Times New Roman"/>
                <a:ea typeface="Times New Roman"/>
              </a:rPr>
              <a:t>What documents should be cach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caching server also manages what documents are cached and how the cached copies are kept consistent with the originals:</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results of scripts should never be cached</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nor should documents requiring authorisation or payment;</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ome documents have explicit expiration times, the proxy server should it consider;</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imilarly some documents can have a „don’t cache me” message provided by the originating server;</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documents from local or nearby Web servers probably should not be cached, as they can be retrieves as easily from the Web server as from the caching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E711ECE-F756-4EEB-8518-1878129052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9480" y="1066680"/>
            <a:ext cx="762012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The effectiveness of caching</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size and retention strategy of the cache should be adjusted to maximise the number of cache hits. The proxy server can log hits and misses; these logs could be analysed to evaluate the hit rate of cache. These logs tell which documents were served from the cache (hits), which were requested from other servers (misses), and whe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CE9C4A0-7B3E-417B-B66C-7C08B02C5AFB}"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8153640" cy="4656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1</a:t>
            </a:r>
            <a:r>
              <a:rPr b="0" lang="hu-HU" sz="2800" spc="-1" strike="noStrike">
                <a:solidFill>
                  <a:srgbClr val="000000"/>
                </a:solidFill>
                <a:latin typeface="H-Times New Roman"/>
                <a:ea typeface="Times New Roman"/>
              </a:rPr>
              <a:t>. The job of the Web serv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2. The HTTP protoco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3. The connec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The reques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The respons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0208A7D-FB9B-42D6-81A3-DF3BE81B87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762120"/>
            <a:ext cx="8381880" cy="5384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1. The job of the Web server</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job of the Web server software is very simpl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receives requests from browsers for information (represented in different formats of files) over the network;</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determines from requests which file is needed;</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finds that file if it is avail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ends the requested file back to the Web browser over the network connec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9574873-B887-42B8-8650-C0EEB81E15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533520"/>
            <a:ext cx="8381880" cy="5923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3200" spc="-1" strike="noStrike">
                <a:solidFill>
                  <a:srgbClr val="000000"/>
                </a:solidFill>
                <a:latin typeface="H-Times New Roman"/>
                <a:ea typeface="Times New Roman"/>
              </a:rPr>
              <a:t>2. The HTTP protocol</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browser and the Web server communicate with each other using the HyperText Transfer Protocol (HTTP), which defines a simple request - response conversation. </a:t>
            </a:r>
            <a:endParaRPr b="0" lang="en-US" sz="24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requesting program (the client) establishes a connection with a receiving program (the server). The client sends a request to the server. </a:t>
            </a:r>
            <a:br>
              <a:rPr sz="2000"/>
            </a:br>
            <a:r>
              <a:rPr b="0" lang="hu-HU" sz="2000" spc="-1" strike="noStrike">
                <a:solidFill>
                  <a:srgbClr val="000000"/>
                </a:solidFill>
                <a:latin typeface="H-Times New Roman"/>
                <a:ea typeface="Times New Roman"/>
              </a:rPr>
              <a:t>The HTTP rules define, how to correctly form the request.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server replies the request with a response, which, it is hoped, includes information desired by the client.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rules the HTTP also define, how to correctly form the respons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2C9061-D516-4260-9864-DD12E150D0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0"/>
            <a:ext cx="8534520" cy="62614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3. The conne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The requ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n HTTP request consist of the following pie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en-GB" sz="2400" spc="-1" strike="noStrike">
                <a:solidFill>
                  <a:srgbClr val="000000"/>
                </a:solidFill>
                <a:latin typeface="H-Times New Roman"/>
                <a:ea typeface="Times New Roman"/>
              </a:rPr>
              <a:t>1. </a:t>
            </a:r>
            <a:r>
              <a:rPr b="0" lang="hu-HU" sz="2000" spc="-1" strike="noStrike">
                <a:solidFill>
                  <a:srgbClr val="000000"/>
                </a:solidFill>
                <a:latin typeface="H-Times New Roman"/>
                <a:ea typeface="Times New Roman"/>
              </a:rPr>
              <a:t>The method, which must be one of a set of legal a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2.  </a:t>
            </a:r>
            <a:r>
              <a:rPr b="0" lang="hu-HU" sz="2000" spc="-1" strike="noStrike">
                <a:solidFill>
                  <a:srgbClr val="000000"/>
                </a:solidFill>
                <a:latin typeface="H-Times New Roman"/>
                <a:ea typeface="Times New Roman"/>
              </a:rPr>
              <a:t>The Universal Resource Identificator (URL), which is the name of information reques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3.   </a:t>
            </a:r>
            <a:r>
              <a:rPr b="0" lang="hu-HU" sz="2000" spc="-1" strike="noStrike">
                <a:solidFill>
                  <a:srgbClr val="000000"/>
                </a:solidFill>
                <a:latin typeface="H-Times New Roman"/>
                <a:ea typeface="Times New Roman"/>
              </a:rPr>
              <a:t>The protocol ver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4.  </a:t>
            </a:r>
            <a:r>
              <a:rPr b="0" lang="hu-HU" sz="2000" spc="-1" strike="noStrike">
                <a:solidFill>
                  <a:srgbClr val="000000"/>
                </a:solidFill>
                <a:latin typeface="H-Times New Roman"/>
                <a:ea typeface="Times New Roman"/>
              </a:rPr>
              <a:t>Optionally other information to modify or supplement the request</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The respons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n HTTP response consist of the following pie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en-GB" sz="2400" spc="-1" strike="noStrike">
                <a:solidFill>
                  <a:srgbClr val="000000"/>
                </a:solidFill>
                <a:latin typeface="H-Times New Roman"/>
                <a:ea typeface="Times New Roman"/>
              </a:rPr>
              <a:t>1. </a:t>
            </a:r>
            <a:r>
              <a:rPr b="0" lang="hu-HU" sz="2000" spc="-1" strike="noStrike">
                <a:solidFill>
                  <a:srgbClr val="000000"/>
                </a:solidFill>
                <a:latin typeface="H-Times New Roman"/>
                <a:ea typeface="Times New Roman"/>
              </a:rPr>
              <a:t>a status 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2. </a:t>
            </a:r>
            <a:r>
              <a:rPr b="0" lang="hu-HU" sz="2000" spc="-1" strike="noStrike">
                <a:solidFill>
                  <a:srgbClr val="000000"/>
                </a:solidFill>
                <a:latin typeface="H-Times New Roman"/>
                <a:ea typeface="Times New Roman"/>
              </a:rPr>
              <a:t>a description of the information in the response. This is information about information, called metainforma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3. </a:t>
            </a:r>
            <a:r>
              <a:rPr b="0" lang="hu-HU" sz="2000" spc="-1" strike="noStrike">
                <a:solidFill>
                  <a:srgbClr val="000000"/>
                </a:solidFill>
                <a:latin typeface="H-Times New Roman"/>
                <a:ea typeface="Times New Roman"/>
              </a:rPr>
              <a:t>the actual information requested</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B50122-8ECD-431E-86AB-F169CA8AF2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609480"/>
            <a:ext cx="8153640" cy="62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4. Formulating of the request</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1. The different between Web script and gate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2. The Web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3. The executable Web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4. Running of the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5. The script’s view from two 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6. The cost of using scrip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7. Occurring a probl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B432DA-8717-4DB5-87C5-A8C19061CD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06:29:44Z</dcterms:created>
  <dc:creator>Donald</dc:creator>
  <dc:description/>
  <dc:language>en-US</dc:language>
  <cp:lastModifiedBy>Donald</cp:lastModifiedBy>
  <dcterms:modified xsi:type="dcterms:W3CDTF">2001-09-25T19:09:04Z</dcterms:modified>
  <cp:revision>47</cp:revision>
  <dc:subject/>
  <dc:title>Web servers </dc:title>
</cp:coreProperties>
</file>