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DD62-ED10-405C-A6D8-C4DBF44032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3360"/>
            <a:ext cx="3886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676160" y="3123720"/>
            <a:ext cx="6476760" cy="2057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
        <p:nvSpPr>
          <p:cNvPr id="43" name=""/>
          <p:cNvSpPr/>
          <p:nvPr/>
        </p:nvSpPr>
        <p:spPr>
          <a:xfrm>
            <a:off x="457200" y="91440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1999-01-25T11:17:10Z</dcterms:modified>
  <cp:revision>239</cp:revision>
  <dc:subject/>
  <dc:title>Advanced Network Technologies</dc:title>
</cp:coreProperties>
</file>