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902825" cy="6858000"/>
  <p:notesSz cx="67278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86C-1D54-49A2-BAC0-47E3E650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AA3-FA4E-4A6D-BC93-A95C63B4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07B-B04E-4ED3-BCEA-22C562497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4664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1240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52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4664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1240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818-AFB1-4D21-BA93-FCFE3FFA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FB14-75E0-419F-B591-C7762D8E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6FC9-3543-489C-8DCC-F1E9B68D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8E18-9A14-4BD2-A3C2-5291C991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E43D-9414-4323-9B8D-A50BFFDB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2C11-93AB-4088-8721-B1C555D0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93D8-23FC-4EC1-94FA-4719A5A8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429F-7949-4DA0-A1FF-781DF21B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AF3-19E0-4483-84CC-4A3B362A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190C-343E-4F76-91F7-7E22DB6F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0862-C377-419D-9FDE-3EBE8A78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5690-DC7C-4FCB-899F-23886E47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0599-1413-411A-91B4-0667B420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44664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12400" y="99036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8052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44664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12400" y="3657240"/>
            <a:ext cx="291960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5D42-DBC0-41D5-9C09-9CCD8EF4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630B-46F3-4DDC-BE6C-FC190F53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E00-9AA9-492D-9E34-23820B61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F579-0AA6-4DAB-9D5E-58F9F851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9067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BB4-7B7C-4B41-98BE-C2ED3362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4862-448E-4052-85C8-67CBF1BF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400" y="365724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C0A5-8D9A-4036-B278-3CFA2C10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400" y="990360"/>
            <a:ext cx="442512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657240"/>
            <a:ext cx="9068040" cy="243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4C0B-8782-4C6C-8ED4-F37FB3CF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825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2576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90880" indent="-2318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248160"/>
            <a:ext cx="3479760" cy="43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lvl="3" marL="139392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3" marL="139392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9040" indent="0">
              <a:lnSpc>
                <a:spcPct val="100000"/>
              </a:lnSpc>
              <a:buNone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u-H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248520"/>
            <a:ext cx="243540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838080"/>
            <a:ext cx="906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d14539_" descr=""/>
          <p:cNvPicPr/>
          <p:nvPr/>
        </p:nvPicPr>
        <p:blipFill>
          <a:blip r:embed="rId4"/>
          <a:stretch/>
        </p:blipFill>
        <p:spPr>
          <a:xfrm>
            <a:off x="380880" y="801720"/>
            <a:ext cx="9068040" cy="150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9296280" y="152280"/>
            <a:ext cx="6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D71B-0107-4708-8556-ECC0CFAAC392}" type="slidenum"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42680" y="6248160"/>
            <a:ext cx="2609640" cy="4316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18924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724800" y="6248520"/>
            <a:ext cx="2435040" cy="457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lstStyle>
            <a:lvl1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 indent="0" algn="ctr">
              <a:spcBef>
                <a:spcPts val="72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928800" algn="ctr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39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90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br>
              <a:rPr sz="10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EMPUS S_JEP-12495-97</a:t>
            </a: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228564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pter 8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Developing of Network Computing Ap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 Based System Developm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jos Fic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Information Technology, University of Misko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B340-6868-4EB7-BEA8-A8664E1EF8B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of a Component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direct (object)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d by objects that are made available by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direction: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method dispat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object's class determines the implementation of the object'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t runtime, a method invocation is resolved by retrieving the target object's class and directing the call to the nethod implementation in tha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C16E-1C08-41DE-8EA3-6B432246CC5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direct interface: an exampl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91040" y="990360"/>
            <a:ext cx="46864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 checker knows about the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 checker registers itself - the mediator knows only the abstract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processor knows about the medi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6840" indent="-54684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d processor acquires a reference to the current checker from the mediator (the word processor knows only the abstract checker interface)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219320"/>
            <a:ext cx="198144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4191120"/>
            <a:ext cx="411480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1219320"/>
            <a:ext cx="2057400" cy="1295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752480"/>
            <a:ext cx="16761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560" y="1295280"/>
            <a:ext cx="193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 processing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828800"/>
            <a:ext cx="131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d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5480" y="1752480"/>
            <a:ext cx="16765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50040" y="1295280"/>
            <a:ext cx="206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mmar checking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1800" y="182880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ammar che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8800" y="51814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services mediator 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49568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449568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828800" y="2362320"/>
            <a:ext cx="137160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33560" y="2362320"/>
            <a:ext cx="685800" cy="220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6520" y="2362320"/>
            <a:ext cx="167616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362320"/>
            <a:ext cx="380880" cy="21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27432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048120"/>
            <a:ext cx="30456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20040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600" y="31240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8640" y="2666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" y="28195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720" y="487692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1080" y="3505320"/>
            <a:ext cx="10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6200" y="30481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8280" y="3200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9360" y="4419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71800" y="27432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A158-A003-4338-92BD-A221E1B4F2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as contrac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terface specification: contract betwee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client and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 constructor of the client and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ntract states what the client needs to do to use the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n theory, the contract could be refined at run tim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620-D22D-4C38-8296-EBC88F7F19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ent of a Contra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r every oper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econditions: the client has to establish it </a:t>
            </a:r>
            <a:r>
              <a:rPr b="0" i="1" lang="en-US" sz="29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the oper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ostconditions: the component has to establish before returning to the cli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artially correctness: the operation terminates with the correct postconditions or does not terminates at 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28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otal correctness: the operation should eventually termin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Non-functional requirements (performance, availability, data safety capacity etc.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F1D-E52E-40BA-B085-A5B2C89D9A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xplicit context dependenci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 of the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specified interfaces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licit context dependenc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ly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00"/>
              </a:spcBef>
              <a:buSzPct val="121168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he deployment environment will need to provide, such that the component can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601"/>
              </a:spcBef>
              <a:buSzPct val="124304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d interfaces of the othe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601"/>
              </a:spcBef>
              <a:buSzPct val="12430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must include also the specification of the component world (component model and its version). (For example CORBA x.x, Java x.x, COM/DCOM x.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601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01DA-8B7E-4890-8FB8-55BF98DF9D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onen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9068040" cy="1752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ach component model use a specific distributed object model as a middlewa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three major component models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3124080"/>
          <a:ext cx="8534520" cy="2700360"/>
        </p:xfrm>
        <a:graphic>
          <a:graphicData uri="http://schemas.openxmlformats.org/drawingml/2006/table">
            <a:tbl>
              <a:tblPr/>
              <a:tblGrid>
                <a:gridCol w="3048120"/>
                <a:gridCol w="1752480"/>
                <a:gridCol w="1981440"/>
                <a:gridCol w="17524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ddlew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amm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gu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t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Beans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erprise Java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 R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O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rosof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BA 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634-B804-4BB7-9C04-2853120B70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JavaBean Componen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hat is a Bean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DK as a component framework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main aspects of the Bean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sign-time and run-time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sign patter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reating a Be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ow does it work?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5465-8196-4E6D-A133-30900695982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a Bean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specification a Java component architecture for Java component developers and component assembl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a black-box component. It may be visible or invisi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consists in a ZIP-format archive fi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class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set of serialized object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optional HTML help file, localization information, icon and other resour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n optional manifest file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D79D-42D4-427E-93B4-41399DEB32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is a Bean?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 are (mainly) presentation tier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tipically represent GUI elem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share the address space with their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ir clients are containers that provide all the resour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y send events to their contain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115-7F25-455A-9672-0B0B28E4BB1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grammer's View of a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90920" y="2895480"/>
            <a:ext cx="1981080" cy="190512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43400" y="3809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505320" y="18288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3880" y="37339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42670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1219320"/>
            <a:ext cx="175284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2880" y="14479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962160" y="1676520"/>
            <a:ext cx="1904760" cy="1447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75680" y="121932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39440" y="320040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460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29520" y="3124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CCB7-4709-4B9B-A23B-5C5C95027B7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hy Software Components?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ncept of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software compon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componen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Enterprise JavaBeans component model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DCOM Distributed Objec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90D-430B-441B-A9DE-2199FAEAF34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JDK as a Component Framework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ithin the JDK the developer ca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new Beans from scratc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new Beans from existing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ustomize existing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reate applications from customized Beans  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E01-F9E2-41E1-96FC-7E38625C8B5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JDK Framework View of Java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219320"/>
            <a:ext cx="8991720" cy="2590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809880"/>
            <a:ext cx="2666880" cy="228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572000"/>
            <a:ext cx="2133360" cy="990720"/>
          </a:xfrm>
          <a:prstGeom prst="leftRightArrow">
            <a:avLst>
              <a:gd name="adj1" fmla="val 50000"/>
              <a:gd name="adj2" fmla="val 428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12956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7400" y="1600200"/>
            <a:ext cx="10666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76720" y="1600200"/>
            <a:ext cx="1295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600200"/>
            <a:ext cx="16002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1600200"/>
            <a:ext cx="129528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4680" y="1600200"/>
            <a:ext cx="129564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396252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11480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267080"/>
            <a:ext cx="1371600" cy="15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41972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29200" y="4572000"/>
            <a:ext cx="1371600" cy="152388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4724280"/>
            <a:ext cx="1371600" cy="152424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683400" y="49528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wn B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690-29D1-4FAF-AAA2-0641F12F159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Visual Present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s the visual layout of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Let components visually interact with each oth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se are provided b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Foundation Classes (JF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W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-D graphic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wing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3089-FE1B-4275-8277-A6C399C7B36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event model: </a:t>
            </a:r>
            <a:r>
              <a:rPr b="0" i="1" lang="en-US" sz="3300" spc="-1" strike="noStrike">
                <a:solidFill>
                  <a:srgbClr val="000000"/>
                </a:solidFill>
                <a:latin typeface="Times New Roman"/>
              </a:rPr>
              <a:t>event-delegation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the same one JDK 1.1 introduced for AWT but every Beans can use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ts are obje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mponent can post an event (event source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ther components can subscribe to the event sour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4160" indent="-3441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ll the subscribed component (listeners) will be notified if the event "fires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9B3E-4B69-4465-98E5-B8380719A42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have properties: named attribut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programmer can read and modify these properties using a property editor within a visual too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t run time getter and setter methods are availab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perty changes can trigger ev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perties can be constrait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B00-5454-4F36-82F0-A542B30169B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rospec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component can make its services to the outside worl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visual tool use this facility to discover the Bean's incoming and outgoing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velopers can define for their Beans an explicit BeanInfo class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66D5-505A-4A16-88BB-BF59700F4E4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Persistenc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use the JDK serialization servi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isual tools require component that support some form of persisten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 a simple form of version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s never load state written by their older ver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s never store state in a format that is consistent with older ver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can be packaged and distributed using JAR fil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212-B798-4105-9D9E-DEB8AABFF8D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 the toolability of 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priety editor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lasses provide the first level of support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Bean designer can visually edit a particular part of property, for example font, color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Propriety sheets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are visual interfaces that group all the propriety edito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Beans customizers provide dialogs that let the designer edit a bean as a who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632-BF29-430C-972E-256ED4DC62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RB servic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RBA ORB let the programmer invoke methods across languages, operating systems and network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MI can also use for Java-to-Java bean commun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0DB-E74D-42C1-80B4-A5F5D2C8203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sign-Time and Run-Time 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9068040" cy="1752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6000"/>
          </a:bodyPr>
          <a:p>
            <a:pPr marL="333720" indent="-33372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Bean has to works inside a builder as well as in a running applic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33720" indent="-33372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o be toolable a beans must support a lot of extra func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2971800"/>
            <a:ext cx="2895840" cy="3124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iz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yEdito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Info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Descripto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specto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 + (.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971800"/>
            <a:ext cx="2133720" cy="1066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n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R + (.S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12408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3200" y="3784680"/>
            <a:ext cx="18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94880" y="4191120"/>
            <a:ext cx="151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75DA-4839-44F5-979E-7A636E3ADE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y Software Components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ulti-tier architecture separates at least the presentation - application - data management layers, but these tiers usually remain complex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ditional separation of the tiers is possib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mand of the market for the sorter development proce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omponents help in reus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asiest way to develop scalable system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A19B-714B-4518-8762-17C0638C4C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sing Patter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JavaBeans architecture specifies standard name and type conventions for methods that a Bean uses to expose its properties, events and method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introspector uses this convention to discover the Bean's faciliti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programmer can alter this convention by providing an own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BeanInfo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class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BF9-9222-4648-9EFB-F96557FBF7E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reating a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riting a Bean class the naming conventions are compulso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f a Bean is a visual component it must derive from one of the AWT class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ntainer  must be created and the bean must be added to i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f the Bean is a listener it must register to the event sourc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3DC-3D2D-4196-9523-AC6CF563D8E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How does it work?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nt source beans generates event objects and pass them as arguments to the event handling methods of listen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ll registered  listener get the event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very delivery normally is multicas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it possible to create an event adapter to demultiplexing of event sources onto a single liste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4AAE-7B1D-49FA-A186-3A76CA6EEB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Enterprise JavaBeans Component Mod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Goals for Enterprise JavaBeans (EJB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nterprise JavaBeans 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lavors of the Enterprise 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asks of the EJB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racteristics of the Session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haracteristics of the Entity 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23A-035E-4041-9691-8E3C9A4D951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 component model helps to developing the client side ti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business logic tier needs a server-oriented componen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eveloping the business logic tier the support of transactions is essentia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large business application has several different clients.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5C8-FD49-4A7C-8970-85CC161A97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Goals for Enterprise JavaBeans (EJB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rovide the standard architecture for developing distributed, component-based applica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ool interoperatibi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ide all the "technical" details such as handling transactions, security, distribution etc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ddress development, deployment, and runtime aspects of enterprise application life cycle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F4F-ECBA-4F9A-A5DD-B88C7B8A7D1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Enterprise Beans  Typ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ree different typ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2057400"/>
          <a:ext cx="9296280" cy="3657600"/>
        </p:xfrm>
        <a:graphic>
          <a:graphicData uri="http://schemas.openxmlformats.org/drawingml/2006/table">
            <a:tbl>
              <a:tblPr/>
              <a:tblGrid>
                <a:gridCol w="3684600"/>
                <a:gridCol w="5611680"/>
              </a:tblGrid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B Typ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pos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ssio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forms a task for a client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ity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s a business entity object that exists in persistent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ssage-Driven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44640"/>
                          <a:tab algn="l" pos="1889280"/>
                          <a:tab algn="l" pos="2833560"/>
                          <a:tab algn="l" pos="3778200"/>
                          <a:tab algn="l" pos="4722840"/>
                          <a:tab algn="l" pos="5667480"/>
                          <a:tab algn="l" pos="6611760"/>
                          <a:tab algn="l" pos="7556400"/>
                          <a:tab algn="l" pos="8501040"/>
                          <a:tab algn="l" pos="9445680"/>
                          <a:tab algn="l" pos="10390320"/>
                        </a:tabLst>
                      </a:pPr>
                      <a:r>
                        <a:rPr b="0" lang="en-GB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s as a listener for the Java Message Service API, processing messages asynchronously</a:t>
                      </a: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33E-A5DC-4015-BCFF-C9C462B8CF6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Flavors of the Enterprise JavaBea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tipically provide server-side functionalit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run in their own address sp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are integrated into a container that hides all system detai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Manage components and notify components about events such as activation, passivation, transa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 component access to services such as transactions, security, persiste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elp to register and deploy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770-2D9B-4A05-9AF0-407BD77CD9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asks of the EJB Contain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1371600"/>
            <a:ext cx="5410080" cy="2362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3733920"/>
            <a:ext cx="22096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447920"/>
            <a:ext cx="1447920" cy="4419360"/>
          </a:xfrm>
          <a:prstGeom prst="rect">
            <a:avLst/>
          </a:prstGeom>
          <a:solidFill>
            <a:srgbClr val="00cc99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TS/J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16765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30481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4419720"/>
            <a:ext cx="137160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10280" y="1676520"/>
            <a:ext cx="838440" cy="106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426708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4419720"/>
            <a:ext cx="1447560" cy="14475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15000" y="457200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67280" y="4724280"/>
            <a:ext cx="1447920" cy="14479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74360" y="51814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1600200"/>
            <a:ext cx="609840" cy="68580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90720" y="2819520"/>
            <a:ext cx="685800" cy="838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4114800"/>
            <a:ext cx="685800" cy="8380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3240" y="22860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4640" y="5029200"/>
            <a:ext cx="12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X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3733920"/>
            <a:ext cx="123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nif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2440" y="190512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392240" y="4876920"/>
            <a:ext cx="182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76520" y="198108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14800" y="4952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743200"/>
            <a:ext cx="144756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2743200"/>
            <a:ext cx="1600200" cy="190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495320" y="2742840"/>
            <a:ext cx="121932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266688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00800" y="274320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6CD-DC29-4EE3-AE80-9A3F805A9181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racteristics of the Session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t is trans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xecutes on behalf of a single client - the instance is an extension of the client that creates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n be transaction-awar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pdates data in an underlying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ts lifetime is tipically that of its cl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1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Is destroyed when the EJS server crashes. The client has to re-establish a new session objec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F965-A573-4BA9-BB1D-2873F4C372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Characteristic properties of compon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is a unit of independent deploym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is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ell separated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from its environment and from other compon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will never be deployed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partiall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 encapsulates its constituent featur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user of a component cannot be expected to have access to the construction detail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C70-8790-4F84-BBE1-9A91D02035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the Session Bean (cont'd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oes not represent data that should be stores in a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ipically reads and updates data in the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re intended to be private resources used only the client that creates the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onymous - it hides its identit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CAF4-0CE8-45BE-AA80-E0CDB092362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haracteristics of the Entity Bea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pports shared access from multiple us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icipates in transa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Represents data in the databa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an be long-liv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urvives crashes of the EJB server. The crash is transparent to the cli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Has a persistent object reference. The object reference is encapsulated the Object Id for this Bea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B85-4193-4F3A-9587-EEA88315548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09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2590920"/>
            <a:ext cx="2057400" cy="1371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2057400"/>
            <a:ext cx="2667240" cy="3048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05720" y="2362320"/>
            <a:ext cx="1828800" cy="190476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8640" y="30481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2760" y="4572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3352680"/>
            <a:ext cx="185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ent's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72040" y="373392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4520" y="30481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934320" y="2514600"/>
            <a:ext cx="1523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43800" y="29718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32767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5181480"/>
            <a:ext cx="1752480" cy="6098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09160" y="5257800"/>
            <a:ext cx="15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jb-jar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127-B003-4926-8418-2B96A7D872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92966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ntract between client and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Bean has a unique ident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interface: Remote interface provided by bean. Client locates home using JNDI. Primary key server as identification within a home. Bean and container cooperate to implement create, find, home and rem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te interface: provided by Bean. Implementation of business logic in Bean class. Container delegates incoming call to this cl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: serializable classes for storing references persistent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80000"/>
              </a:lnSpc>
              <a:spcBef>
                <a:spcPts val="700"/>
              </a:spcBef>
              <a:buSzPct val="106564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BMetaData: Run-time access to component functiona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795-59D4-451E-983E-FC284937153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 contract between Bean and contain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Instance view of life cycl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tityContext/SessionContext/MessageDriveContext Are passed to Bean instance at creation tim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vironment tha a container makes available to a Bean instan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List of services provided by the contain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EF7-F1AB-4429-BA79-BFD85D42BA7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ntract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ejb-jar fil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XML based Deployment Description for configuration and deploy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ava class files for Enterprise Bea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Key class (Entity Bean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62080" indent="-233280">
              <a:spcBef>
                <a:spcPts val="601"/>
              </a:spcBef>
              <a:buClr>
                <a:srgbClr val="000000"/>
              </a:buClr>
              <a:buSzPct val="140000"/>
              <a:buFont typeface="Times New Roman"/>
              <a:buChar char="•"/>
              <a:tabLst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 objec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270-9393-4FC9-B45D-E01133552D7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The DCOM Distributed Object Model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98000"/>
          </a:bodyPr>
          <a:p>
            <a:pPr marL="3405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Topi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What is D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serv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architectural solu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COM Client/Server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COM Object Cre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0560" indent="-340560">
              <a:lnSpc>
                <a:spcPct val="80000"/>
              </a:lnSpc>
              <a:spcBef>
                <a:spcPts val="825"/>
              </a:spcBef>
              <a:buSzPct val="102847"/>
              <a:buBlip>
                <a:blip r:embed="rId9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ActiveX Conto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666-DF51-4D25-BDC2-274AB8F6143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What is DCOM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DCOM: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Distributed Component Object Mod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istributed object model of Microsof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inary interoperability standard and its implementa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PI level servi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No high-level language bindings, but Microsoft Visual J++ provides Java bind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Based on DCE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1C7-B4F8-40C8-ACEE-E3BB9884CF0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bje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DCOM object a component supports one or more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t is identified by a 128-bit CLSID (Class ID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t is not an object in the classical OO sens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re is no object 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DCOM objects does not maintain state between connection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 client cannot reconnect to exactly the same ob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9EE-CE23-4336-8933-6E2104BCC42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Collection of related functio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Separates the interface from the implementation (uses DCE-based IDL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Defines as a low-level binary API based on a table of pointers (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vtable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n interface has a symbolic name, but at run time is identified by a 128-bit unique IID (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Interface Identifier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D753-D322-4EB1-A0B8-1FBA5FF773C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is a unit of third-party composit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needs to be sufficiently self-containe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needs to come with clear specific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interacts with its environment through a well-defined interfac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0">
              <a:spcBef>
                <a:spcPts val="726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31D-EC99-4129-95A8-584290C33B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2438280"/>
            <a:ext cx="1467000" cy="1390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86440" y="2705040"/>
            <a:ext cx="4362480" cy="3048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781360" y="2685960"/>
            <a:ext cx="1276200" cy="3048120"/>
            <a:chOff x="2781360" y="2685960"/>
            <a:chExt cx="1276200" cy="3048120"/>
          </a:xfrm>
        </p:grpSpPr>
        <p:sp>
          <p:nvSpPr>
            <p:cNvPr id="292" name=""/>
            <p:cNvSpPr/>
            <p:nvPr/>
          </p:nvSpPr>
          <p:spPr>
            <a:xfrm>
              <a:off x="2781360" y="2685960"/>
              <a:ext cx="1238040" cy="3048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81360" y="31053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19160" y="352440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19160" y="394344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81360" y="4381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00440" y="481968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19160" y="527688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67360" y="2705040"/>
            <a:ext cx="1276200" cy="3048120"/>
            <a:chOff x="5067360" y="2705040"/>
            <a:chExt cx="1276200" cy="3048120"/>
          </a:xfrm>
        </p:grpSpPr>
        <p:sp>
          <p:nvSpPr>
            <p:cNvPr id="300" name=""/>
            <p:cNvSpPr/>
            <p:nvPr/>
          </p:nvSpPr>
          <p:spPr>
            <a:xfrm>
              <a:off x="5067360" y="2705040"/>
              <a:ext cx="1238040" cy="3048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67360" y="312444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05160" y="354348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05160" y="396252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67360" y="440064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86440" y="48387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05160" y="5295960"/>
              <a:ext cx="123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74920" y="2517840"/>
            <a:ext cx="114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Poi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2895480"/>
            <a:ext cx="89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29160" y="1285920"/>
            <a:ext cx="156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82320" y="1305000"/>
            <a:ext cx="261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f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186320" y="3743280"/>
            <a:ext cx="142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95272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33148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76640" y="373392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57560" y="417204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7560" y="45910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76640" y="50482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76640" y="550548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7A6-0E03-4925-B21E-DE1C9FFFBED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nterface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5140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726"/>
              </a:spcBef>
              <a:buSzPct val="117023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Every DCOM objects must implement the </a:t>
            </a:r>
            <a:r>
              <a:rPr b="1" lang="en-GB" sz="2900" spc="-1" strike="noStrike">
                <a:solidFill>
                  <a:srgbClr val="0099cc"/>
                </a:solidFill>
                <a:latin typeface="Times New Roman"/>
              </a:rPr>
              <a:t>IUnknow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clients can use it f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00"/>
              </a:spcBef>
              <a:buSzPct val="106564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the lifetime of the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00"/>
              </a:spcBef>
              <a:buSzPct val="106564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cover the interfaces the object sup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0" y="3295800"/>
            <a:ext cx="2610000" cy="24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11760" y="3971880"/>
            <a:ext cx="130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D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8134200" y="26096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6134040" y="3790440"/>
            <a:ext cx="7430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6095880" y="4628880"/>
            <a:ext cx="7430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6095880" y="5372280"/>
            <a:ext cx="743040" cy="1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264080" y="19144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 CE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9200" y="4067280"/>
            <a:ext cx="1886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20840" y="3228840"/>
            <a:ext cx="1905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8640" y="4829040"/>
            <a:ext cx="19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cc"/>
                </a:solidFill>
                <a:latin typeface="Times New Roman CE"/>
              </a:rPr>
              <a:t>Interface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35B-C141-486E-96E8-18951B66E0C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A server contains one or more object classes identified its own CLS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client asks for an object of a given CLSI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server creates a new object by a </a:t>
            </a:r>
            <a:r>
              <a:rPr b="0" i="1" lang="en-GB" sz="3300" spc="-1" strike="noStrike">
                <a:solidFill>
                  <a:srgbClr val="000000"/>
                </a:solidFill>
                <a:latin typeface="Times New Roman"/>
              </a:rPr>
              <a:t>class facto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pointer of the primary interface of the new object is returned to the clien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e server not an object, it is an EXE or DLL (or Java class)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D65-503B-4360-BB10-CB2D36D527A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Structure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315040" y="2552760"/>
            <a:ext cx="2971800" cy="3371760"/>
            <a:chOff x="5315040" y="2552760"/>
            <a:chExt cx="2971800" cy="3371760"/>
          </a:xfrm>
        </p:grpSpPr>
        <p:sp>
          <p:nvSpPr>
            <p:cNvPr id="335" name=""/>
            <p:cNvSpPr/>
            <p:nvPr/>
          </p:nvSpPr>
          <p:spPr>
            <a:xfrm>
              <a:off x="5315040" y="2552760"/>
              <a:ext cx="2971800" cy="3371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91320" y="2838240"/>
              <a:ext cx="1942920" cy="100944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10400" y="4209840"/>
              <a:ext cx="1923840" cy="1066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82920" y="2866680"/>
              <a:ext cx="1303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Obje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2760" y="4257360"/>
              <a:ext cx="1364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a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Fa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50120" y="5362200"/>
              <a:ext cx="239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DCOM 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741280" y="5877000"/>
            <a:ext cx="214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EXE or D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705720" y="1752120"/>
            <a:ext cx="0" cy="80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64120" y="157176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Un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095720" y="318132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095720" y="358128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133880" y="4743360"/>
            <a:ext cx="1657440" cy="1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14360" y="2943360"/>
            <a:ext cx="170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32440" y="4124160"/>
            <a:ext cx="2492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ClassFac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 CE"/>
              </a:rPr>
              <a:t>IClassFactory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BD8-00FD-4FCE-9744-116A470BD7A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Functions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mplement a class factory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for each CLSID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a class can support licensing (IClassFactory2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Register the classes it suppor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registry entry for every CLSID with the pathname to the EXE or DLL of the implement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825"/>
              </a:spcBef>
              <a:buSzPct val="102847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Initialise the DCOM libra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CoInitializ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PI c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90520">
              <a:lnSpc>
                <a:spcPct val="90000"/>
              </a:lnSpc>
              <a:spcBef>
                <a:spcPts val="726"/>
              </a:spcBef>
              <a:buSzPct val="102919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DCOM library provides run-time services and API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490-61AB-4605-BC3E-548841DD649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Functions of a DCOM 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erver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Verify that the library is a compatible versio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lnSpc>
                <a:spcPct val="100000"/>
              </a:lnSpc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CoBuildVersion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API cal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Provide an unloading mechanis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o terminate the objects without active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Uninitialise</a:t>
            </a: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 the DCOM library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f there are no objects with active cli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923-7543-4893-A666-8D10BDA8AD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The Architectural Solu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58560" y="1220760"/>
            <a:ext cx="9542880" cy="4942080"/>
            <a:chOff x="358560" y="1220760"/>
            <a:chExt cx="9542880" cy="4942080"/>
          </a:xfrm>
        </p:grpSpPr>
        <p:grpSp>
          <p:nvGrpSpPr>
            <p:cNvPr id="355" name=""/>
            <p:cNvGrpSpPr/>
            <p:nvPr/>
          </p:nvGrpSpPr>
          <p:grpSpPr>
            <a:xfrm>
              <a:off x="430200" y="1524240"/>
              <a:ext cx="2228760" cy="1009440"/>
              <a:chOff x="430200" y="1524240"/>
              <a:chExt cx="2228760" cy="1009440"/>
            </a:xfrm>
          </p:grpSpPr>
          <p:sp>
            <p:nvSpPr>
              <p:cNvPr id="356" name=""/>
              <p:cNvSpPr/>
              <p:nvPr/>
            </p:nvSpPr>
            <p:spPr>
              <a:xfrm>
                <a:off x="430200" y="1524240"/>
                <a:ext cx="22287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0200" y="2000520"/>
                <a:ext cx="22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430200" y="3124440"/>
              <a:ext cx="2628360" cy="1009440"/>
              <a:chOff x="430200" y="3124440"/>
              <a:chExt cx="2628360" cy="1009440"/>
            </a:xfrm>
          </p:grpSpPr>
          <p:sp>
            <p:nvSpPr>
              <p:cNvPr id="359" name=""/>
              <p:cNvSpPr/>
              <p:nvPr/>
            </p:nvSpPr>
            <p:spPr>
              <a:xfrm>
                <a:off x="430200" y="3124440"/>
                <a:ext cx="26283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0200" y="3600720"/>
                <a:ext cx="262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449280" y="4838760"/>
              <a:ext cx="2971440" cy="1009440"/>
              <a:chOff x="449280" y="4838760"/>
              <a:chExt cx="2971440" cy="1009440"/>
            </a:xfrm>
          </p:grpSpPr>
          <p:sp>
            <p:nvSpPr>
              <p:cNvPr id="362" name=""/>
              <p:cNvSpPr/>
              <p:nvPr/>
            </p:nvSpPr>
            <p:spPr>
              <a:xfrm>
                <a:off x="449280" y="4838760"/>
                <a:ext cx="297144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9280" y="5315040"/>
                <a:ext cx="2971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4163760" y="3124440"/>
              <a:ext cx="2609640" cy="1009440"/>
              <a:chOff x="4163760" y="3124440"/>
              <a:chExt cx="2609640" cy="1009440"/>
            </a:xfrm>
          </p:grpSpPr>
          <p:sp>
            <p:nvSpPr>
              <p:cNvPr id="365" name=""/>
              <p:cNvSpPr/>
              <p:nvPr/>
            </p:nvSpPr>
            <p:spPr>
              <a:xfrm>
                <a:off x="4163760" y="3124440"/>
                <a:ext cx="260964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63760" y="3600720"/>
                <a:ext cx="2609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6964200" y="4534200"/>
              <a:ext cx="2361960" cy="1618920"/>
              <a:chOff x="6964200" y="4534200"/>
              <a:chExt cx="2361960" cy="1618920"/>
            </a:xfrm>
          </p:grpSpPr>
          <p:sp>
            <p:nvSpPr>
              <p:cNvPr id="368" name=""/>
              <p:cNvSpPr/>
              <p:nvPr/>
            </p:nvSpPr>
            <p:spPr>
              <a:xfrm>
                <a:off x="6964200" y="4534200"/>
                <a:ext cx="2361960" cy="16189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964200" y="5297760"/>
                <a:ext cx="236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6964200" y="1600200"/>
              <a:ext cx="2228760" cy="1009440"/>
              <a:chOff x="6964200" y="1600200"/>
              <a:chExt cx="2228760" cy="1009440"/>
            </a:xfrm>
          </p:grpSpPr>
          <p:sp>
            <p:nvSpPr>
              <p:cNvPr id="371" name=""/>
              <p:cNvSpPr/>
              <p:nvPr/>
            </p:nvSpPr>
            <p:spPr>
              <a:xfrm>
                <a:off x="6964200" y="1600200"/>
                <a:ext cx="2228760" cy="100944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964200" y="2076480"/>
                <a:ext cx="222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873360" y="1533600"/>
              <a:ext cx="110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6120" y="3133800"/>
              <a:ext cx="136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Factor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30240" y="4867560"/>
              <a:ext cx="118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Serv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84360" y="3133800"/>
              <a:ext cx="195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ompon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122600" y="1590840"/>
              <a:ext cx="180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IUnknow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178040" y="4448160"/>
              <a:ext cx="16833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Exten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Interface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 CE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5000" y="2041560"/>
              <a:ext cx="177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all_servi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560" y="364176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reate_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000" y="5356440"/>
              <a:ext cx="293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Initialize/Uninitial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11560" y="364176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reate_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23960" y="2136960"/>
              <a:ext cx="219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Query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985800" y="5337360"/>
              <a:ext cx="219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Query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ervice_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658960" y="1752840"/>
              <a:ext cx="4305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39880" y="2229120"/>
              <a:ext cx="3638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278400" y="2229120"/>
              <a:ext cx="1467000" cy="23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7897320" y="2628720"/>
              <a:ext cx="19080" cy="192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39840" y="354348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611000" y="2552760"/>
              <a:ext cx="19080" cy="62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48440" y="4152960"/>
              <a:ext cx="19080" cy="552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611160" y="4114800"/>
              <a:ext cx="1847880" cy="12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125760" y="4305600"/>
              <a:ext cx="857160" cy="10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40520" y="3316320"/>
              <a:ext cx="196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&lt;&lt;extends&gt;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76240" y="1220760"/>
              <a:ext cx="477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sk for a reference to an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1480" y="2192400"/>
              <a:ext cx="410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all a service on an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435720" y="5077080"/>
              <a:ext cx="56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1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06360" y="3076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01680" y="313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15720" y="27338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96640" y="2448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31160" y="2611440"/>
              <a:ext cx="224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reateIn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84360" y="358308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46760" y="4687920"/>
              <a:ext cx="17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mpl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D41-155C-4883-9898-FC09AD7F8A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Local/Remote Transparency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Three kind of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in-process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process space of the server and client is the same (DLL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local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server is in a separate process on the same machine (EX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300" spc="-1" strike="noStrike">
                <a:solidFill>
                  <a:srgbClr val="0099cc"/>
                </a:solidFill>
                <a:latin typeface="Times New Roman"/>
              </a:rPr>
              <a:t>remote server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separate process on a remote machnin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725-91DA-4224-8855-8BEDAC5AAC0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Client/Server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39840" y="1123920"/>
            <a:ext cx="9563040" cy="5073120"/>
            <a:chOff x="339840" y="1123920"/>
            <a:chExt cx="9563040" cy="5073120"/>
          </a:xfrm>
        </p:grpSpPr>
        <p:sp>
          <p:nvSpPr>
            <p:cNvPr id="409" name=""/>
            <p:cNvSpPr/>
            <p:nvPr/>
          </p:nvSpPr>
          <p:spPr>
            <a:xfrm>
              <a:off x="5394600" y="3989520"/>
              <a:ext cx="4309920" cy="193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6760" y="3448080"/>
              <a:ext cx="4533840" cy="262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92600" y="2533680"/>
              <a:ext cx="1981080" cy="36003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3520" y="1123920"/>
              <a:ext cx="1962000" cy="1295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2120" y="2838600"/>
              <a:ext cx="1581120" cy="12571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4840" y="3000600"/>
              <a:ext cx="1108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Appl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3044880" y="2543400"/>
              <a:ext cx="1695600" cy="1373760"/>
              <a:chOff x="3044880" y="2543400"/>
              <a:chExt cx="1695600" cy="1373760"/>
            </a:xfrm>
          </p:grpSpPr>
          <p:sp>
            <p:nvSpPr>
              <p:cNvPr id="416" name=""/>
              <p:cNvSpPr/>
              <p:nvPr/>
            </p:nvSpPr>
            <p:spPr>
              <a:xfrm>
                <a:off x="3044880" y="2629080"/>
                <a:ext cx="1695600" cy="125676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314880" y="2543400"/>
                <a:ext cx="12301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Loc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Prox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3102120" y="4448160"/>
              <a:ext cx="1676520" cy="1373760"/>
              <a:chOff x="3102120" y="4448160"/>
              <a:chExt cx="1676520" cy="1373760"/>
            </a:xfrm>
          </p:grpSpPr>
          <p:sp>
            <p:nvSpPr>
              <p:cNvPr id="419" name=""/>
              <p:cNvSpPr/>
              <p:nvPr/>
            </p:nvSpPr>
            <p:spPr>
              <a:xfrm>
                <a:off x="3102120" y="4515120"/>
                <a:ext cx="1676520" cy="127620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298680" y="4448160"/>
                <a:ext cx="13435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Remo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Times New Roman CE"/>
                  </a:rPr>
                  <a:t>Proxy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3373200" y="387036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16680" y="573732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9840" y="1143000"/>
              <a:ext cx="4724280" cy="504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20840" y="1362240"/>
              <a:ext cx="132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Clie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Times New Roman CE"/>
                </a:rPr>
                <a:t>Proc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2396880" y="1162080"/>
              <a:ext cx="2324520" cy="847440"/>
              <a:chOff x="2396880" y="1162080"/>
              <a:chExt cx="2324520" cy="84744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2952720" y="1162080"/>
                <a:ext cx="1768680" cy="847440"/>
                <a:chOff x="2952720" y="1162080"/>
                <a:chExt cx="1768680" cy="8474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968560" y="1162080"/>
                  <a:ext cx="1638360" cy="799920"/>
                </a:xfrm>
                <a:prstGeom prst="rect">
                  <a:avLst/>
                </a:prstGeom>
                <a:solidFill>
                  <a:srgbClr val="ff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952720" y="1184040"/>
                  <a:ext cx="176868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 CE"/>
                    </a:rPr>
                    <a:t>In-proces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 CE"/>
                    </a:rPr>
                    <a:t>Objec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 flipH="1">
                <a:off x="2396880" y="13716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2396880" y="17337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 flipH="1">
              <a:off x="2454120" y="30290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2435040" y="36766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492280" y="493416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473200" y="5505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2054520" y="1581120"/>
              <a:ext cx="1904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73240" y="3448080"/>
              <a:ext cx="362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92320" y="3714840"/>
              <a:ext cx="304920" cy="14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755680" y="17366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7701120" y="4340160"/>
              <a:ext cx="1724040" cy="847800"/>
              <a:chOff x="7701120" y="4340160"/>
              <a:chExt cx="1724040" cy="847800"/>
            </a:xfrm>
          </p:grpSpPr>
          <p:sp>
            <p:nvSpPr>
              <p:cNvPr id="440" name=""/>
              <p:cNvSpPr/>
              <p:nvPr/>
            </p:nvSpPr>
            <p:spPr>
              <a:xfrm>
                <a:off x="7716240" y="4340160"/>
                <a:ext cx="1596960" cy="8182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701120" y="4362480"/>
                <a:ext cx="1724040" cy="82548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Remo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Ob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 flipH="1">
              <a:off x="7159320" y="45547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159320" y="49244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729400" y="4357800"/>
              <a:ext cx="90972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02400" y="4457880"/>
              <a:ext cx="46368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34440" y="514656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D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38960" y="5203800"/>
              <a:ext cx="212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Remote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73120" y="3851280"/>
              <a:ext cx="317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Remote Server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483520" y="1241640"/>
              <a:ext cx="4419360" cy="2092320"/>
              <a:chOff x="5483520" y="1241640"/>
              <a:chExt cx="4419360" cy="209232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7292880" y="1714680"/>
                <a:ext cx="2323440" cy="847440"/>
                <a:chOff x="7292880" y="1714680"/>
                <a:chExt cx="2323440" cy="847440"/>
              </a:xfrm>
            </p:grpSpPr>
            <p:grpSp>
              <p:nvGrpSpPr>
                <p:cNvPr id="451" name=""/>
                <p:cNvGrpSpPr/>
                <p:nvPr/>
              </p:nvGrpSpPr>
              <p:grpSpPr>
                <a:xfrm>
                  <a:off x="7848000" y="1714680"/>
                  <a:ext cx="1768320" cy="847440"/>
                  <a:chOff x="7848000" y="1714680"/>
                  <a:chExt cx="1768320" cy="8474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>
                    <a:off x="7863480" y="1714680"/>
                    <a:ext cx="1638000" cy="799920"/>
                  </a:xfrm>
                  <a:prstGeom prst="rect">
                    <a:avLst/>
                  </a:prstGeom>
                  <a:solidFill>
                    <a:srgbClr val="ffff6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848000" y="1736640"/>
                    <a:ext cx="1768320" cy="82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Loca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 CE"/>
                      </a:rPr>
                      <a:t>Objec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" name=""/>
                <p:cNvSpPr/>
                <p:nvPr/>
              </p:nvSpPr>
              <p:spPr>
                <a:xfrm flipH="1">
                  <a:off x="7292880" y="192420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7292880" y="2286360"/>
                  <a:ext cx="609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5826240" y="1733760"/>
                <a:ext cx="933120" cy="8002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21560" y="1867320"/>
                <a:ext cx="475920" cy="1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30200" y="2537280"/>
                <a:ext cx="92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C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829280" y="25750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Local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83520" y="1314720"/>
                <a:ext cx="4419360" cy="2019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075720" y="1241640"/>
                <a:ext cx="290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 CE"/>
                  </a:rPr>
                  <a:t>Local Server Proc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5870160" y="19083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55680" y="46515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 CE"/>
                </a:rPr>
                <a:t>Stu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39000" y="348948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Remote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740480" y="2095200"/>
              <a:ext cx="1085760" cy="11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778640" y="4705200"/>
              <a:ext cx="952200" cy="36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898520" y="49179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10120" y="2724120"/>
              <a:ext cx="101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 CE"/>
                </a:rPr>
                <a:t>L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41C-E351-4A5F-8ACE-0339EF99765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 Scenario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9960" y="1257480"/>
            <a:ext cx="190512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22960" y="137484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67200" y="125748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1257480"/>
            <a:ext cx="2228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58280" y="3695760"/>
            <a:ext cx="1904760" cy="685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81160" y="1962000"/>
            <a:ext cx="11412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62520" y="1962000"/>
            <a:ext cx="11412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24480" y="1981080"/>
            <a:ext cx="114480" cy="400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535960" y="4400640"/>
            <a:ext cx="74520" cy="158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95280" y="2438280"/>
            <a:ext cx="2667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31640" y="2052720"/>
            <a:ext cx="248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1: CoGet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31400" y="2471760"/>
            <a:ext cx="29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2: CoRegister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076280" y="2933640"/>
            <a:ext cx="222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76200" y="3467160"/>
            <a:ext cx="504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886400" y="302436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3: CreateInstance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58040" y="39816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441120" y="3519360"/>
            <a:ext cx="11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4: Cre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1295280" y="4590720"/>
            <a:ext cx="7239240" cy="1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80960" y="4129200"/>
            <a:ext cx="217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5: Obtai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5257800"/>
            <a:ext cx="504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095360" y="5848200"/>
            <a:ext cx="2228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27160" y="5367240"/>
            <a:ext cx="28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8: CoRevokeClass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59880" y="479592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7: Rel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908000" y="247176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 CE"/>
              </a:rPr>
              <a:t>(CLS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42080" y="38131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IMy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4040" y="1432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IClassFactory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25240" y="137484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 CE"/>
              </a:rPr>
              <a:t>DCOM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6FD-22ED-4A29-BA3A-CCD5D6356FCA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What a Component i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A component has no persistent sta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cannot be distinguished from copies of its ow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ossible exceptions: non-functional attributes (for example license number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 component can be loaded into and activated in a particular system several times. The number of available copies is not meaningfu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515-0098-48CB-AAB8-FC2D9F7D7D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1. The client requests a pointer to the class factory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gives the CLSID of the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MyClass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2. The server instantiates a class factory and register i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3. The client requests an instance of this objec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ClassFactory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creates and instantiates the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MyCla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the IID to </a:t>
            </a:r>
            <a:r>
              <a:rPr b="1" lang="en-GB" sz="2900" spc="-1" strike="noStrike">
                <a:solidFill>
                  <a:srgbClr val="000000"/>
                </a:solidFill>
                <a:latin typeface="Courier New"/>
              </a:rPr>
              <a:t>IMyInterface</a:t>
            </a: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3DE-A70A-4B1F-B91E-1ED3E35B3E9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DCOM Object Creation (co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'd</a:t>
            </a:r>
            <a:r>
              <a:rPr b="1" lang="en-GB" sz="3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4. The factory creates an instance of the clas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imes New Roman"/>
              </a:rPr>
              <a:t>it returns to the client a pointer for the requested interfac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5. The client interacts with the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6. The client releases </a:t>
            </a:r>
            <a:r>
              <a:rPr b="1" lang="en-GB" sz="3300" spc="-1" strike="noStrike">
                <a:solidFill>
                  <a:srgbClr val="000000"/>
                </a:solidFill>
                <a:latin typeface="Courier New"/>
              </a:rPr>
              <a:t>IMy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7. The client releases </a:t>
            </a:r>
            <a:r>
              <a:rPr b="1" lang="en-GB" sz="3300" spc="-1" strike="noStrike">
                <a:solidFill>
                  <a:srgbClr val="000000"/>
                </a:solidFill>
                <a:latin typeface="Courier New"/>
              </a:rPr>
              <a:t>IClassfaxtory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imes New Roman"/>
              </a:rPr>
              <a:t>8. The server is shut dow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A55C-AED8-4623-8AB6-D01F89405C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ctiveX Contr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are components based on Microsoft 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are COM objects that implement a predefined set of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y may be implemented and used in any programming languag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re is a bridge tool between JavaBeans and ActiveX Control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2D24-9EF4-4515-9DCC-59DE06233C6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ActiveX Control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6094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ctiveX Controls with the predefined interface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9067680" cy="448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819-FC38-4E25-B9B4-01B06146669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33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 fontScale="87000"/>
          </a:bodyPr>
          <a:p>
            <a:pPr indent="0">
              <a:spcBef>
                <a:spcPts val="825"/>
              </a:spcBef>
              <a:buNone/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9220320" cy="453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80E-E2D0-43B8-AC0A-376A8A39284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omponent-based programming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emens Szyperski: Component Software. Beyond the Object-Oriented Program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ddison-Wesley, 1999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E94-B538-45D0-801B-AED0F667BD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JavaBean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obert Orfali, Dan Harkey: Client/Server Programming with JAVA and CORBA (2nd Ed.)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John Wiley &amp; Sons, Inc, 1998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372C-46FF-4DF1-AD2F-71230C2420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References (cont'd)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CO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ichard Grimes: Professional DCOM programming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Wrox Press Ltd. 1997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C2D-66AA-49B4-8DCE-C864210630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Component versus Objec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4578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nit of deploym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nit of composi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no persistent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capsulates its features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0680" y="990360"/>
            <a:ext cx="445788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726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900" spc="-1" strike="noStrike">
                <a:solidFill>
                  <a:srgbClr val="3333cc"/>
                </a:solidFill>
                <a:latin typeface="Times New Roman"/>
              </a:rPr>
              <a:t>Ob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5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Unit of instanti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6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a "plan" (class)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7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e class: unit of reuse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8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as (persistent) stat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726"/>
              </a:spcBef>
              <a:buSzPct val="117023"/>
              <a:buBlip>
                <a:blip r:embed="rId9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ncapsulates its state and behavi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217-1554-4374-9889-59B24E455BB9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Definition of the Compon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e literature offers several different definition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We use the following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300" spc="-1" strike="noStrike">
                <a:solidFill>
                  <a:srgbClr val="3333cc"/>
                </a:solidFill>
                <a:latin typeface="Times New Roman"/>
              </a:rPr>
              <a:t>Clemens Szyperski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 (Component Software, p.34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"A software component is a unit of composition with contractually specified interfaces and explicit context dependencies only. A software component can be deployed independently and is subject to composition by third parties.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788F-75C4-457E-A27A-9EE090CD0A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Interfaces of a Component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9068040" cy="51051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rmAutofit/>
          </a:bodyPr>
          <a:p>
            <a:pPr marL="347760" indent="0">
              <a:spcBef>
                <a:spcPts val="825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Part of the definition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0">
              <a:spcBef>
                <a:spcPts val="700"/>
              </a:spcBef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a unit of composition with contractually specified interfaces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1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n interface is an access point for the client to the services of the component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2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A component can provide multiple interfaces for different client need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spcBef>
                <a:spcPts val="825"/>
              </a:spcBef>
              <a:buSzPct val="102847"/>
              <a:buBlip>
                <a:blip r:embed="rId3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Direct (procedural) interfac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5640" indent="-290520">
              <a:spcBef>
                <a:spcPts val="726"/>
              </a:spcBef>
              <a:buSzPct val="102919"/>
              <a:buBlip>
                <a:blip r:embed="rId4"/>
              </a:buBlip>
              <a:tabLst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provided directly by the componen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C++ programozási nyelv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264E-918F-4DB6-BB93-9E80880EFB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iskolci Egyete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Ficsor Lajos</dc:creator>
  <dc:description/>
  <dc:language>en-US</dc:language>
  <cp:lastModifiedBy>Ficsor Lajos</cp:lastModifiedBy>
  <cp:lastPrinted>2000-09-06T14:26:37Z</cp:lastPrinted>
  <dcterms:modified xsi:type="dcterms:W3CDTF">2001-09-26T16:03:32Z</dcterms:modified>
  <cp:revision>1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W:\Oktatas\Infrendsz\Infrendsz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