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8685360" y="6583320"/>
            <a:ext cx="45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7183-2821-4C1B-A35D-35AF257DC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048120"/>
            <a:chOff x="0" y="0"/>
            <a:chExt cx="9144000" cy="304812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9144000" cy="205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14600" y="990720"/>
              <a:ext cx="66294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990720"/>
              <a:ext cx="4876920" cy="2057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003320" cy="9334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33720" y="320760"/>
            <a:ext cx="472428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Computer and Automation Research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Hungarian Academy of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4360"/>
            <a:ext cx="777240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fe5c02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34601"/>
                </a:solidFill>
                <a:latin typeface="Arial"/>
              </a:rPr>
              <a:t>Web Forms </a:t>
            </a:r>
            <a:br>
              <a:rPr sz="3200"/>
            </a:b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0760" y="3344400"/>
            <a:ext cx="7738920" cy="23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. Kacs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boratory of Parallel and Distribut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TA SZTAKI Research Instit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csuk@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ww.lpds.sztaki.h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96200" y="35956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19320" y="2666880"/>
            <a:ext cx="6572160" cy="3308760"/>
            <a:chOff x="1219320" y="2666880"/>
            <a:chExt cx="6572160" cy="3308760"/>
          </a:xfrm>
        </p:grpSpPr>
        <p:sp>
          <p:nvSpPr>
            <p:cNvPr id="142" name=""/>
            <p:cNvSpPr/>
            <p:nvPr/>
          </p:nvSpPr>
          <p:spPr>
            <a:xfrm>
              <a:off x="5389560" y="281124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65320" y="335916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91280" y="336708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5124600" y="4586040"/>
              <a:ext cx="761760" cy="914400"/>
              <a:chOff x="5124600" y="4586040"/>
              <a:chExt cx="761760" cy="914400"/>
            </a:xfrm>
          </p:grpSpPr>
          <p:sp>
            <p:nvSpPr>
              <p:cNvPr id="146" name=""/>
              <p:cNvSpPr/>
              <p:nvPr/>
            </p:nvSpPr>
            <p:spPr>
              <a:xfrm>
                <a:off x="512460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27688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2916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6191280" y="4586040"/>
              <a:ext cx="761760" cy="914400"/>
              <a:chOff x="6191280" y="4586040"/>
              <a:chExt cx="761760" cy="914400"/>
            </a:xfrm>
          </p:grpSpPr>
          <p:sp>
            <p:nvSpPr>
              <p:cNvPr id="150" name=""/>
              <p:cNvSpPr/>
              <p:nvPr/>
            </p:nvSpPr>
            <p:spPr>
              <a:xfrm>
                <a:off x="6191280" y="458604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343560" y="4738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95840" y="489096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5810400" y="397656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5320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53200" y="443376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19880" y="44337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92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8656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3428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82000" y="336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29160" y="55767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77080" y="290988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1219320" y="2666880"/>
              <a:ext cx="1976400" cy="1976400"/>
              <a:chOff x="1219320" y="2666880"/>
              <a:chExt cx="1976400" cy="19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1444680" y="266688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219320" y="418464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596960" y="282708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71560" y="420516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2286000" y="51055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00200" y="335268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1430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. Find script, determine that it is OK to execute; discover that it is a Perl 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48320" y="10666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b. Set up the execution environment: standard input/output and environmental variables; start the Perl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828800" y="2819520"/>
            <a:ext cx="922320" cy="914400"/>
            <a:chOff x="1828800" y="2819520"/>
            <a:chExt cx="922320" cy="914400"/>
          </a:xfrm>
        </p:grpSpPr>
        <p:sp>
          <p:nvSpPr>
            <p:cNvPr id="173" name=""/>
            <p:cNvSpPr/>
            <p:nvPr/>
          </p:nvSpPr>
          <p:spPr>
            <a:xfrm>
              <a:off x="2057400" y="281952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828800" y="312372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285640" y="342900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209680" y="4648320"/>
            <a:ext cx="129564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182880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. The Perl program starts /usr/ucb/up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19320" y="2590920"/>
            <a:ext cx="990360" cy="664920"/>
            <a:chOff x="1219320" y="2590920"/>
            <a:chExt cx="990360" cy="664920"/>
          </a:xfrm>
        </p:grpSpPr>
        <p:sp>
          <p:nvSpPr>
            <p:cNvPr id="179" name=""/>
            <p:cNvSpPr/>
            <p:nvPr/>
          </p:nvSpPr>
          <p:spPr>
            <a:xfrm>
              <a:off x="1219320" y="259092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28800" y="274320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676520" y="304812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533520" y="621648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The input and output of the programs are connected, so data flows between th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225440" y="3422520"/>
            <a:ext cx="1976400" cy="1976400"/>
            <a:chOff x="1225440" y="3422520"/>
            <a:chExt cx="1976400" cy="1976400"/>
          </a:xfrm>
        </p:grpSpPr>
        <p:sp>
          <p:nvSpPr>
            <p:cNvPr id="185" name=""/>
            <p:cNvSpPr/>
            <p:nvPr/>
          </p:nvSpPr>
          <p:spPr>
            <a:xfrm>
              <a:off x="1450800" y="3422520"/>
              <a:ext cx="1525680" cy="151776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25440" y="4940280"/>
              <a:ext cx="1976400" cy="45864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3080" y="3582720"/>
              <a:ext cx="1184400" cy="11764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77680" y="496080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340240" y="3651120"/>
            <a:ext cx="2454480" cy="102420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6680" y="410832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835280" y="3575160"/>
            <a:ext cx="922320" cy="914400"/>
            <a:chOff x="1835280" y="3575160"/>
            <a:chExt cx="922320" cy="914400"/>
          </a:xfrm>
        </p:grpSpPr>
        <p:sp>
          <p:nvSpPr>
            <p:cNvPr id="192" name=""/>
            <p:cNvSpPr/>
            <p:nvPr/>
          </p:nvSpPr>
          <p:spPr>
            <a:xfrm>
              <a:off x="2063880" y="3575160"/>
              <a:ext cx="693720" cy="664920"/>
            </a:xfrm>
            <a:prstGeom prst="ellipse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Per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835280" y="3879360"/>
              <a:ext cx="30492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2292120" y="4184640"/>
              <a:ext cx="228600" cy="304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225440" y="3346560"/>
            <a:ext cx="990360" cy="664920"/>
            <a:chOff x="1225440" y="3346560"/>
            <a:chExt cx="990360" cy="664920"/>
          </a:xfrm>
        </p:grpSpPr>
        <p:sp>
          <p:nvSpPr>
            <p:cNvPr id="196" name=""/>
            <p:cNvSpPr/>
            <p:nvPr/>
          </p:nvSpPr>
          <p:spPr>
            <a:xfrm>
              <a:off x="1225440" y="3346560"/>
              <a:ext cx="693720" cy="6649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up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34920" y="3498840"/>
              <a:ext cx="38088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1682640" y="3803760"/>
              <a:ext cx="457200" cy="152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0880" y="1143000"/>
            <a:ext cx="3657600" cy="2437920"/>
            <a:chOff x="380880" y="1143000"/>
            <a:chExt cx="3657600" cy="2437920"/>
          </a:xfrm>
        </p:grpSpPr>
        <p:sp>
          <p:nvSpPr>
            <p:cNvPr id="200" name=""/>
            <p:cNvSpPr/>
            <p:nvPr/>
          </p:nvSpPr>
          <p:spPr>
            <a:xfrm>
              <a:off x="380880" y="1143000"/>
              <a:ext cx="3657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d. uptime prints out the result to the Perl script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685440" y="2057040"/>
              <a:ext cx="609480" cy="15238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438280" y="1981080"/>
            <a:ext cx="5029200" cy="1676520"/>
            <a:chOff x="2438280" y="1981080"/>
            <a:chExt cx="5029200" cy="1676520"/>
          </a:xfrm>
        </p:grpSpPr>
        <p:sp>
          <p:nvSpPr>
            <p:cNvPr id="203" name=""/>
            <p:cNvSpPr/>
            <p:nvPr/>
          </p:nvSpPr>
          <p:spPr>
            <a:xfrm>
              <a:off x="2971800" y="198108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Times New Roman"/>
                </a:rPr>
                <a:t>e. The Perl program prints out the Content-type  and relays the result to http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Content-type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11:35am up 7 days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438280" y="2286000"/>
              <a:ext cx="533520" cy="1371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971800" y="4114800"/>
            <a:ext cx="24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286000" y="4114800"/>
            <a:ext cx="6248520" cy="2471400"/>
            <a:chOff x="2286000" y="4114800"/>
            <a:chExt cx="6248520" cy="2471400"/>
          </a:xfrm>
        </p:grpSpPr>
        <p:grpSp>
          <p:nvGrpSpPr>
            <p:cNvPr id="207" name=""/>
            <p:cNvGrpSpPr/>
            <p:nvPr/>
          </p:nvGrpSpPr>
          <p:grpSpPr>
            <a:xfrm>
              <a:off x="2971800" y="4114800"/>
              <a:ext cx="5562720" cy="2471400"/>
              <a:chOff x="2971800" y="4114800"/>
              <a:chExt cx="5562720" cy="2471400"/>
            </a:xfrm>
          </p:grpSpPr>
          <p:sp>
            <p:nvSpPr>
              <p:cNvPr id="208" name=""/>
              <p:cNvSpPr/>
              <p:nvPr/>
            </p:nvSpPr>
            <p:spPr>
              <a:xfrm>
                <a:off x="3429000" y="4572000"/>
                <a:ext cx="510552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f. The httpd program sends the status and other headers and relays the result from the Perl script: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tatus: 200 Document follow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Server:NCSA/1.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Date: Thu, July 20 1999 17:35:18 GM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Content-type: text/plai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3300"/>
                    </a:solidFill>
                    <a:latin typeface="Times New Roman"/>
                  </a:rPr>
                  <a:t>11:35am up 7 days, 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971800" y="4114800"/>
                <a:ext cx="242424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2286000" y="4114800"/>
              <a:ext cx="68580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6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Close file, close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98984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n the output of the script is completely sent, the script terminates and closes all the connections to the http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program closes the network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7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httpd server is now ready for another requ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case of error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ested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fou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uld not be execu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request cannot be satisfi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tus 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something other than 2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name of the script was misspelled, the status code: 4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possible th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script executes but encounters an err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uch case the uptime program sends a textual erro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program is returning information the status code: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547960" y="1251000"/>
            <a:ext cx="51984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413080" y="2954160"/>
            <a:ext cx="432756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fc8e20"/>
                  </a:solidFill>
                  <a:miter/>
                </a:ln>
                <a:solidFill>
                  <a:srgbClr val="fc8e20"/>
                </a:solidFill>
                <a:latin typeface="Arial Black"/>
              </a:rPr>
              <a:t>Thank you</a:t>
            </a:r>
            <a:endParaRPr b="0" lang="en-US" sz="6000" spc="1" strike="noStrike">
              <a:ln w="9360">
                <a:solidFill>
                  <a:srgbClr val="fc8e20"/>
                </a:solidFill>
                <a:miter/>
              </a:ln>
              <a:solidFill>
                <a:srgbClr val="fc8e2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Scripts and form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3280" y="1897200"/>
            <a:ext cx="7772400" cy="31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may use special HTML documents call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ather information from the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far as the httpd server is concerned, scripts that use forms work just the same as any scrip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a script that uses a form must be carefully constructed to correctly collect input from the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ep-by-step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ws how scripts and forms work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hases of the co-operation of 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scripts and forms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73280" y="1897200"/>
            <a:ext cx="7772400" cy="168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ase 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t the form from th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ase 2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user fills in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ase 3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filled-in form is sent to the web server, and the search is per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Phase 1: Get the form from the server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58880" y="1447920"/>
            <a:ext cx="798984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EP 1-4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Essentially the same as any requ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program waits for a request to arrive from a client somewhere on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A request arrives from a clien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1640" y="1836720"/>
            <a:ext cx="798984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tion begins, as usual, when someone requests a documents selecting a UR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ttp://www.server.org/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ent locates the server and initiate a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connection is established, the client sends the request according to the HTTP protoco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Step 1 and 2 are exactly the same as in case of a normal document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2 - 4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48480" y="2300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ow_busy_are_yo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71600" y="1371600"/>
            <a:ext cx="6572160" cy="3308760"/>
            <a:chOff x="1371600" y="1371600"/>
            <a:chExt cx="6572160" cy="3308760"/>
          </a:xfrm>
        </p:grpSpPr>
        <p:sp>
          <p:nvSpPr>
            <p:cNvPr id="101" name=""/>
            <p:cNvSpPr/>
            <p:nvPr/>
          </p:nvSpPr>
          <p:spPr>
            <a:xfrm>
              <a:off x="5541840" y="1515960"/>
              <a:ext cx="822240" cy="1182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17600" y="2063880"/>
              <a:ext cx="2424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43560" y="2071800"/>
              <a:ext cx="144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276880" y="3290760"/>
              <a:ext cx="761760" cy="914400"/>
              <a:chOff x="5276880" y="3290760"/>
              <a:chExt cx="761760" cy="914400"/>
            </a:xfrm>
          </p:grpSpPr>
          <p:sp>
            <p:nvSpPr>
              <p:cNvPr id="105" name=""/>
              <p:cNvSpPr/>
              <p:nvPr/>
            </p:nvSpPr>
            <p:spPr>
              <a:xfrm>
                <a:off x="527688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42916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8144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343560" y="3290760"/>
              <a:ext cx="761760" cy="914400"/>
              <a:chOff x="6343560" y="3290760"/>
              <a:chExt cx="761760" cy="914400"/>
            </a:xfrm>
          </p:grpSpPr>
          <p:sp>
            <p:nvSpPr>
              <p:cNvPr id="109" name=""/>
              <p:cNvSpPr/>
              <p:nvPr/>
            </p:nvSpPr>
            <p:spPr>
              <a:xfrm>
                <a:off x="6343560" y="3290760"/>
                <a:ext cx="457200" cy="60984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495840" y="344340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648120" y="3595680"/>
                <a:ext cx="457200" cy="609480"/>
              </a:xfrm>
              <a:prstGeom prst="foldedCorner">
                <a:avLst>
                  <a:gd name="adj" fmla="val 12500"/>
                </a:avLst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962680" y="26812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50548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05480" y="3138480"/>
              <a:ext cx="106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72160" y="313848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914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3884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48656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34280" y="20718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81440" y="428148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29360" y="16146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imes New Roman"/>
                </a:rPr>
                <a:t>scrip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1371600" y="1371600"/>
              <a:ext cx="1976400" cy="1976400"/>
              <a:chOff x="1371600" y="1371600"/>
              <a:chExt cx="1976400" cy="1976400"/>
            </a:xfrm>
          </p:grpSpPr>
          <p:sp>
            <p:nvSpPr>
              <p:cNvPr id="123" name=""/>
              <p:cNvSpPr/>
              <p:nvPr/>
            </p:nvSpPr>
            <p:spPr>
              <a:xfrm>
                <a:off x="1596960" y="1371600"/>
                <a:ext cx="1525680" cy="151776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71600" y="2889360"/>
                <a:ext cx="1976400" cy="45864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49240" y="1531800"/>
                <a:ext cx="1184400" cy="117648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923840" y="2909880"/>
                <a:ext cx="99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imes New Roman"/>
                  </a:rPr>
                  <a:t>Serv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048120" y="5334120"/>
            <a:ext cx="2454120" cy="10238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285640" y="3352680"/>
            <a:ext cx="1981080" cy="1981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533520" y="3352680"/>
            <a:ext cx="4572000" cy="2151360"/>
            <a:chOff x="533520" y="3352680"/>
            <a:chExt cx="4572000" cy="2151360"/>
          </a:xfrm>
        </p:grpSpPr>
        <p:sp>
          <p:nvSpPr>
            <p:cNvPr id="130" name=""/>
            <p:cNvSpPr/>
            <p:nvPr/>
          </p:nvSpPr>
          <p:spPr>
            <a:xfrm>
              <a:off x="533520" y="4038480"/>
              <a:ext cx="45720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GET /scripts/ how_busy_are_you HTTP/1.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User-agent: Mosaic for X Windows/2.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pla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text/htm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3300"/>
                  </a:solidFill>
                  <a:latin typeface="Times New Roman"/>
                </a:rPr>
                <a:t>Accept: */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2285640" y="3352680"/>
              <a:ext cx="1981080" cy="198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981080" y="1828800"/>
            <a:ext cx="693720" cy="6652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htt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9040" y="279360"/>
            <a:ext cx="778356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3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The server parses request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01280" y="1836720"/>
            <a:ext cx="7985160" cy="403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decodes the request and discovers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upposed to be a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turn the result it should use version 1.0 of the HTTP according to the GET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T /scripts/how_busy_are_you HTTP/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need for the server to find the client on the Internet since it will use the same connection on which the request arri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4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Read other information from network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01280" y="1836360"/>
            <a:ext cx="7985160" cy="25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reads the rest of the request as in the case of normal docum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User-agent: Mosaic for X Windows/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pl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text/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Accept: */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835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STEP 5:</a:t>
            </a: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 Do the method requested</a:t>
            </a:r>
            <a:br>
              <a:rPr sz="2800"/>
            </a:br>
            <a:r>
              <a:rPr b="1" i="1" lang="en-US" sz="2800" spc="-1" strike="noStrike">
                <a:solidFill>
                  <a:srgbClr val="3333cc"/>
                </a:solidFill>
                <a:latin typeface="Arial"/>
              </a:rPr>
              <a:t>(in UNIX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server mu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the scri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cripts/how_busy_are_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that it is an executable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over that it is a Perl 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ttpd daemon must create the correct execution environ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pproriate UNIX shell environment variabl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tandard input and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ing the Per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l program executes each line of the script as if it were typed from a key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the ‘uptime’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s of the uptime program is relayed to htt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0T12:08:27Z</dcterms:created>
  <dc:creator>kati</dc:creator>
  <dc:description/>
  <dc:language>en-US</dc:language>
  <cp:lastModifiedBy>kacsuk</cp:lastModifiedBy>
  <dcterms:modified xsi:type="dcterms:W3CDTF">2001-09-20T00:28:36Z</dcterms:modified>
  <cp:revision>179</cp:revision>
  <dc:subject/>
  <dc:title>Title</dc:title>
</cp:coreProperties>
</file>