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3048120"/>
            <a:chOff x="0" y="0"/>
            <a:chExt cx="9144000" cy="3048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205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514600" y="990720"/>
              <a:ext cx="6629400" cy="137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990720"/>
              <a:ext cx="4876920" cy="205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003320" cy="933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685360" y="6583320"/>
            <a:ext cx="45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729F-AD5D-4813-B7F1-290F0EF4C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048120"/>
            <a:chOff x="0" y="0"/>
            <a:chExt cx="9144000" cy="304812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9144000" cy="205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514600" y="990720"/>
              <a:ext cx="6629400" cy="137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990720"/>
              <a:ext cx="4876920" cy="205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003320" cy="933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33720" y="320760"/>
            <a:ext cx="472428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Computer and Automation Research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Hungarian Academy of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e5c02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34601"/>
                </a:solidFill>
                <a:latin typeface="Arial"/>
              </a:rPr>
              <a:t>Web Scripts, Gateways and Forms </a:t>
            </a:r>
            <a:br>
              <a:rPr sz="3200"/>
            </a:b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0760" y="3344400"/>
            <a:ext cx="7738920" cy="23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. Kacs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boratory of Parallel and Distributed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TA SZTAKI Research Instit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csuk@sztaki.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.lpds.sztaki.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2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A request arrives from a clien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01640" y="1836720"/>
            <a:ext cx="798984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tion begins, as usual, when someone requests a documents selecting a UR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ttp://www.server.org/scripts/how_busy_are_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ient locates the server and initiate a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the connection is established, the client sends the request according to the HTTP protoc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GET /scripts/how_busy_are_you HTTP/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that Step 1 and 2 are exactly the same as in case of a normal document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2 - 4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48480" y="23004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ow_busy_are_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371600" y="1371600"/>
            <a:ext cx="6572160" cy="3308760"/>
            <a:chOff x="1371600" y="1371600"/>
            <a:chExt cx="6572160" cy="3308760"/>
          </a:xfrm>
        </p:grpSpPr>
        <p:sp>
          <p:nvSpPr>
            <p:cNvPr id="111" name=""/>
            <p:cNvSpPr/>
            <p:nvPr/>
          </p:nvSpPr>
          <p:spPr>
            <a:xfrm>
              <a:off x="5541840" y="1515960"/>
              <a:ext cx="822240" cy="11829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17600" y="2063880"/>
              <a:ext cx="242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43560" y="2071800"/>
              <a:ext cx="144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5276880" y="3290760"/>
              <a:ext cx="761760" cy="914400"/>
              <a:chOff x="5276880" y="3290760"/>
              <a:chExt cx="761760" cy="914400"/>
            </a:xfrm>
          </p:grpSpPr>
          <p:sp>
            <p:nvSpPr>
              <p:cNvPr id="115" name=""/>
              <p:cNvSpPr/>
              <p:nvPr/>
            </p:nvSpPr>
            <p:spPr>
              <a:xfrm>
                <a:off x="5276880" y="3290760"/>
                <a:ext cx="457200" cy="60984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429160" y="344340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581440" y="359568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6343560" y="3290760"/>
              <a:ext cx="761760" cy="914400"/>
              <a:chOff x="6343560" y="3290760"/>
              <a:chExt cx="761760" cy="914400"/>
            </a:xfrm>
          </p:grpSpPr>
          <p:sp>
            <p:nvSpPr>
              <p:cNvPr id="119" name=""/>
              <p:cNvSpPr/>
              <p:nvPr/>
            </p:nvSpPr>
            <p:spPr>
              <a:xfrm>
                <a:off x="6343560" y="3290760"/>
                <a:ext cx="457200" cy="60984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495840" y="344340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648120" y="359568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5962680" y="2681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05480" y="31384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5480" y="313848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72160" y="31384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91480" y="20718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38840" y="20718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486560" y="20718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34280" y="20718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81440" y="428148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29360" y="16146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scrip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1371600" y="1371600"/>
              <a:ext cx="1976400" cy="1976400"/>
              <a:chOff x="1371600" y="1371600"/>
              <a:chExt cx="1976400" cy="1976400"/>
            </a:xfrm>
          </p:grpSpPr>
          <p:sp>
            <p:nvSpPr>
              <p:cNvPr id="133" name=""/>
              <p:cNvSpPr/>
              <p:nvPr/>
            </p:nvSpPr>
            <p:spPr>
              <a:xfrm>
                <a:off x="1596960" y="1371600"/>
                <a:ext cx="1525680" cy="151776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371600" y="2889360"/>
                <a:ext cx="1976400" cy="4586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749240" y="1531800"/>
                <a:ext cx="1184400" cy="11764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923840" y="290988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7" name=""/>
          <p:cNvSpPr/>
          <p:nvPr/>
        </p:nvSpPr>
        <p:spPr>
          <a:xfrm>
            <a:off x="3048120" y="5334120"/>
            <a:ext cx="2454120" cy="10238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2285640" y="3352680"/>
            <a:ext cx="1981080" cy="198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33520" y="3352680"/>
            <a:ext cx="4572000" cy="2151360"/>
            <a:chOff x="533520" y="3352680"/>
            <a:chExt cx="4572000" cy="2151360"/>
          </a:xfrm>
        </p:grpSpPr>
        <p:sp>
          <p:nvSpPr>
            <p:cNvPr id="140" name=""/>
            <p:cNvSpPr/>
            <p:nvPr/>
          </p:nvSpPr>
          <p:spPr>
            <a:xfrm>
              <a:off x="533520" y="4038480"/>
              <a:ext cx="45720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GET /scripts/ how_busy_are_you HTTP/1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User-agent: Mosaic for X Windows/2.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Accept: text/pl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Accept: text/htm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Accept: */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2285640" y="3352680"/>
              <a:ext cx="1981080" cy="198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1981080" y="1828800"/>
            <a:ext cx="693720" cy="665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ttp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3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The server parses reques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01280" y="1836720"/>
            <a:ext cx="7985160" cy="403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ttpd server decodes the request and discovers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cripts/how_busy_are_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upposed to be a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turn the result it should use version 1.0 of the HTTP according to the GET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GET /scripts/how_busy_are_you HTTP/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need for the server to find the client on the Internet since it will use the same connection on which the request arri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7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4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Read other information from network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01280" y="1836360"/>
            <a:ext cx="7985160" cy="25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ttpd daemon reads the rest of the request as in the case of normal documen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User-agent: Mosaic for X Windows/2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Accept: text/pl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Accept: text/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Accept: */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7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5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Do the method requested</a:t>
            </a:r>
            <a:br>
              <a:rPr sz="2800"/>
            </a:b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(in UNIX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800100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ttpd server mu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the scri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cripts/how_busy_are_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rm that it is an executable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 that it is a Perl 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ttpd daemon must create the correct execution environ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approriate UNIX shell environment variable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standard input and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 the Perl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l program executes each line of the script as if it were typed from a keybo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s the ‘uptime’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of the uptime program is relayed to http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5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Do the method requested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6200" y="35956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ow_busy_are_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219320" y="2666880"/>
            <a:ext cx="6572160" cy="3308760"/>
            <a:chOff x="1219320" y="2666880"/>
            <a:chExt cx="6572160" cy="3308760"/>
          </a:xfrm>
        </p:grpSpPr>
        <p:sp>
          <p:nvSpPr>
            <p:cNvPr id="152" name=""/>
            <p:cNvSpPr/>
            <p:nvPr/>
          </p:nvSpPr>
          <p:spPr>
            <a:xfrm>
              <a:off x="5389560" y="2811240"/>
              <a:ext cx="822240" cy="11829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965320" y="3359160"/>
              <a:ext cx="242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91280" y="3367080"/>
              <a:ext cx="144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5124600" y="4586040"/>
              <a:ext cx="761760" cy="914400"/>
              <a:chOff x="5124600" y="4586040"/>
              <a:chExt cx="761760" cy="914400"/>
            </a:xfrm>
          </p:grpSpPr>
          <p:sp>
            <p:nvSpPr>
              <p:cNvPr id="156" name=""/>
              <p:cNvSpPr/>
              <p:nvPr/>
            </p:nvSpPr>
            <p:spPr>
              <a:xfrm>
                <a:off x="5124600" y="4586040"/>
                <a:ext cx="457200" cy="60984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276880" y="473868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29160" y="489096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6191280" y="4586040"/>
              <a:ext cx="761760" cy="914400"/>
              <a:chOff x="6191280" y="4586040"/>
              <a:chExt cx="761760" cy="914400"/>
            </a:xfrm>
          </p:grpSpPr>
          <p:sp>
            <p:nvSpPr>
              <p:cNvPr id="160" name=""/>
              <p:cNvSpPr/>
              <p:nvPr/>
            </p:nvSpPr>
            <p:spPr>
              <a:xfrm>
                <a:off x="6191280" y="4586040"/>
                <a:ext cx="457200" cy="60984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343560" y="473868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495840" y="489096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5810400" y="397656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353200" y="44337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53200" y="443376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19880" y="44337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39200" y="3367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486560" y="3367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34280" y="3367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82000" y="3367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29160" y="557676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77080" y="29098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scrip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1219320" y="2666880"/>
              <a:ext cx="1976400" cy="1976400"/>
              <a:chOff x="1219320" y="2666880"/>
              <a:chExt cx="1976400" cy="1976400"/>
            </a:xfrm>
          </p:grpSpPr>
          <p:sp>
            <p:nvSpPr>
              <p:cNvPr id="174" name=""/>
              <p:cNvSpPr/>
              <p:nvPr/>
            </p:nvSpPr>
            <p:spPr>
              <a:xfrm>
                <a:off x="1444680" y="2666880"/>
                <a:ext cx="1525680" cy="151776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219320" y="4184640"/>
                <a:ext cx="1976400" cy="4586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596960" y="2827080"/>
                <a:ext cx="1184400" cy="11764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771560" y="420516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8" name=""/>
          <p:cNvSpPr/>
          <p:nvPr/>
        </p:nvSpPr>
        <p:spPr>
          <a:xfrm>
            <a:off x="2286000" y="5105520"/>
            <a:ext cx="2454120" cy="10238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3352680"/>
            <a:ext cx="693720" cy="665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ttp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1430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. Find script, determine that it is OK to execute; discover that it is a Perl scr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48320" y="10666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. Set up the execution environment: standard input/output and environmental variables; start the Perl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828800" y="2819520"/>
            <a:ext cx="922320" cy="914400"/>
            <a:chOff x="1828800" y="2819520"/>
            <a:chExt cx="922320" cy="914400"/>
          </a:xfrm>
        </p:grpSpPr>
        <p:sp>
          <p:nvSpPr>
            <p:cNvPr id="183" name=""/>
            <p:cNvSpPr/>
            <p:nvPr/>
          </p:nvSpPr>
          <p:spPr>
            <a:xfrm>
              <a:off x="2057400" y="2819520"/>
              <a:ext cx="693720" cy="6649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Per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1828800" y="3123720"/>
              <a:ext cx="30492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2285640" y="3429000"/>
              <a:ext cx="22860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09680" y="4648320"/>
            <a:ext cx="129564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8288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. The Perl program starts /usr/ucb/up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219320" y="2590920"/>
            <a:ext cx="990360" cy="664920"/>
            <a:chOff x="1219320" y="2590920"/>
            <a:chExt cx="990360" cy="664920"/>
          </a:xfrm>
        </p:grpSpPr>
        <p:sp>
          <p:nvSpPr>
            <p:cNvPr id="189" name=""/>
            <p:cNvSpPr/>
            <p:nvPr/>
          </p:nvSpPr>
          <p:spPr>
            <a:xfrm>
              <a:off x="1219320" y="2590920"/>
              <a:ext cx="693720" cy="664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up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28800" y="2743200"/>
              <a:ext cx="38088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1676520" y="3048120"/>
              <a:ext cx="45720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33520" y="62164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he input and output of the programs are connected, so data flows between th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5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Do the method requested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225440" y="3422520"/>
            <a:ext cx="1976400" cy="1976400"/>
            <a:chOff x="1225440" y="3422520"/>
            <a:chExt cx="1976400" cy="1976400"/>
          </a:xfrm>
        </p:grpSpPr>
        <p:sp>
          <p:nvSpPr>
            <p:cNvPr id="195" name=""/>
            <p:cNvSpPr/>
            <p:nvPr/>
          </p:nvSpPr>
          <p:spPr>
            <a:xfrm>
              <a:off x="1450800" y="3422520"/>
              <a:ext cx="1525680" cy="1517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25440" y="4940280"/>
              <a:ext cx="1976400" cy="4586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03080" y="3582720"/>
              <a:ext cx="1184400" cy="1176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77680" y="496080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5340240" y="3651120"/>
            <a:ext cx="2454480" cy="102420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06680" y="4108320"/>
            <a:ext cx="693720" cy="665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ttp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835280" y="3575160"/>
            <a:ext cx="922320" cy="914400"/>
            <a:chOff x="1835280" y="3575160"/>
            <a:chExt cx="922320" cy="914400"/>
          </a:xfrm>
        </p:grpSpPr>
        <p:sp>
          <p:nvSpPr>
            <p:cNvPr id="202" name=""/>
            <p:cNvSpPr/>
            <p:nvPr/>
          </p:nvSpPr>
          <p:spPr>
            <a:xfrm>
              <a:off x="2063880" y="3575160"/>
              <a:ext cx="693720" cy="6649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Per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835280" y="3879360"/>
              <a:ext cx="30492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2292120" y="4184640"/>
              <a:ext cx="22860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225440" y="3346560"/>
            <a:ext cx="990360" cy="664920"/>
            <a:chOff x="1225440" y="3346560"/>
            <a:chExt cx="990360" cy="664920"/>
          </a:xfrm>
        </p:grpSpPr>
        <p:sp>
          <p:nvSpPr>
            <p:cNvPr id="206" name=""/>
            <p:cNvSpPr/>
            <p:nvPr/>
          </p:nvSpPr>
          <p:spPr>
            <a:xfrm>
              <a:off x="1225440" y="3346560"/>
              <a:ext cx="693720" cy="664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up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834920" y="3498840"/>
              <a:ext cx="38088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1682640" y="3803760"/>
              <a:ext cx="45720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380880" y="1143000"/>
            <a:ext cx="3657600" cy="2437920"/>
            <a:chOff x="380880" y="1143000"/>
            <a:chExt cx="3657600" cy="2437920"/>
          </a:xfrm>
        </p:grpSpPr>
        <p:sp>
          <p:nvSpPr>
            <p:cNvPr id="210" name=""/>
            <p:cNvSpPr/>
            <p:nvPr/>
          </p:nvSpPr>
          <p:spPr>
            <a:xfrm>
              <a:off x="380880" y="1143000"/>
              <a:ext cx="3657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d. uptime prints out the result to the Perl script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11:35am up 7 days,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flipV="1">
              <a:off x="685440" y="2057040"/>
              <a:ext cx="609480" cy="1523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438280" y="1981080"/>
            <a:ext cx="5029200" cy="1676520"/>
            <a:chOff x="2438280" y="1981080"/>
            <a:chExt cx="5029200" cy="1676520"/>
          </a:xfrm>
        </p:grpSpPr>
        <p:sp>
          <p:nvSpPr>
            <p:cNvPr id="213" name=""/>
            <p:cNvSpPr/>
            <p:nvPr/>
          </p:nvSpPr>
          <p:spPr>
            <a:xfrm>
              <a:off x="2971800" y="198108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e. The Perl program prints out the Content-type  and relays the result to httpd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Content-type: text/pl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11:35am up 7 days,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2438280" y="2286000"/>
              <a:ext cx="533520" cy="1371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971800" y="4114800"/>
            <a:ext cx="24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2286000" y="4114800"/>
            <a:ext cx="6248520" cy="2471400"/>
            <a:chOff x="2286000" y="4114800"/>
            <a:chExt cx="6248520" cy="2471400"/>
          </a:xfrm>
        </p:grpSpPr>
        <p:grpSp>
          <p:nvGrpSpPr>
            <p:cNvPr id="217" name=""/>
            <p:cNvGrpSpPr/>
            <p:nvPr/>
          </p:nvGrpSpPr>
          <p:grpSpPr>
            <a:xfrm>
              <a:off x="2971800" y="4114800"/>
              <a:ext cx="5562720" cy="2471400"/>
              <a:chOff x="2971800" y="4114800"/>
              <a:chExt cx="5562720" cy="2471400"/>
            </a:xfrm>
          </p:grpSpPr>
          <p:sp>
            <p:nvSpPr>
              <p:cNvPr id="218" name=""/>
              <p:cNvSpPr/>
              <p:nvPr/>
            </p:nvSpPr>
            <p:spPr>
              <a:xfrm>
                <a:off x="3429000" y="4572000"/>
                <a:ext cx="5105520" cy="20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f. The httpd program sends the status and other headers and relays the result from the Perl script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status: 200 Document follow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Server:NCSA/1.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Date: Thu, July 20 1999 17:35:18 GM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Content-type: text/plai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11:35am up 7 days, 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971800" y="4114800"/>
                <a:ext cx="242424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 flipV="1">
              <a:off x="2286000" y="4114800"/>
              <a:ext cx="68580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6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Close file, close network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98984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n the output of the script is completely sent, the script terminates and closes all the connections to the httpd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httpd program closes the network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EP 7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httpd server is now ready for another requ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7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5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Do the method requested</a:t>
            </a:r>
            <a:br>
              <a:rPr sz="2800"/>
            </a:b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(in case of error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00100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ested i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ot fou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uld not be execu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request cannot be satisfi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tatus c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be something other than 2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name of the script was misspelled, the status code: 4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possible that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e script executes but encounters an err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uch case the uptime program sends a textual error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 program is returning information the status code: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5547960" y="1251000"/>
            <a:ext cx="5198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413080" y="2954160"/>
            <a:ext cx="4327560" cy="107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fc8e20"/>
                  </a:solidFill>
                  <a:miter/>
                </a:ln>
                <a:solidFill>
                  <a:srgbClr val="fc8e20"/>
                </a:solidFill>
                <a:latin typeface="Arial Black"/>
              </a:rPr>
              <a:t>Thank you</a:t>
            </a:r>
            <a:endParaRPr b="0" lang="en-US" sz="6000" spc="1" strike="noStrike">
              <a:ln w="9360">
                <a:solidFill>
                  <a:srgbClr val="fc8e20"/>
                </a:solidFill>
                <a:miter/>
              </a:ln>
              <a:solidFill>
                <a:srgbClr val="fc8e20"/>
              </a:solid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What is a script?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73280" y="1896840"/>
            <a:ext cx="7772400" cy="28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eb script is a program that can be executed by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eb ser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response to a web requ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program can be a web 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an call other programs or contact other serv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of a web scri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ct on the web server on behalf of the web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xtend the capabilities of the </a:t>
            </a:r>
            <a:r>
              <a:rPr b="1" i="1" lang="en-US" sz="2000" spc="-1" strike="noStrike">
                <a:solidFill>
                  <a:srgbClr val="ff3300"/>
                </a:solidFill>
                <a:latin typeface="Courier New"/>
              </a:rPr>
              <a:t>httpd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dae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How does a script work?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6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3300"/>
                </a:solidFill>
                <a:latin typeface="Courier New"/>
              </a:rPr>
              <a:t>httpd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daem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rts the script, passes the data from the browser to the script and vice ve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3300"/>
                </a:solidFill>
                <a:latin typeface="Courier New"/>
              </a:rPr>
              <a:t>httpd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daem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ould do the following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determine that the request is really a progra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not 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locate the program and determine if it is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ermissible to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   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start the script program and ensure that the input from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client will be passed to the 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read the output from the script and pass it back to the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send an error message back to the client if something go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wrong with the script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close the network connection when the scipt compl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What files are executable scripts?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87320" y="1982520"/>
            <a:ext cx="777240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rver software will execute scripts only according to specific rules, as configured by the system administrator. These can 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ipts must be located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n a particular direct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must have UNIX execute per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rver can be configured to allow any file with a particular name, such as files ending in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.c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20240" y="-360"/>
            <a:ext cx="77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Making the script run: </a:t>
            </a:r>
            <a:br>
              <a:rPr sz="2800"/>
            </a:b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The Common Gateway Interfac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8520" y="1563480"/>
            <a:ext cx="8032680" cy="477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GI is standard protoc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how scripts are to be called and how data is passe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etwe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httpd daem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scri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GI standard is actually a suite of standards, on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or each operating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E.g. for UNI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cript executes as a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data from the browser are passed thorugh standard input and UNIX environment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passed back through standard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I i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many possible standa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scape servers use NSAPI (Netscape Server Application Interf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Windows platforms use OLE or D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A User’s view of a scrip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30080" y="1317600"/>
            <a:ext cx="8033040" cy="50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the client user would like to know how many users currently logged on in a web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wo wa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do 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he has an account on the web server, she can login and call the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up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IX ut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he has no account on the web server, she can run a script on the server using her web browser and this script will call the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up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IX utility on her beha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the name of the script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ow_busy_are_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ient should reques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 /scripts/how_busy_are_you HTTP/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httpd server would execute the script and return the resul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.29pm up 21days, 4:35, 5 users, load average:0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how_busy_are_you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Perl scrip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01640" y="1336680"/>
            <a:ext cx="8104320" cy="53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!/usr/local/bin/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Perl script to execute UNIX ‘uptime’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$UPTIME = ‘usr/ucb/uptime’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elect(STDOUT); $| =1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# make the output unbuffered so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is written immediately to htt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print the MIME type of the data tp fo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int “Content-type: text/plain\n\n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run the real “uptime” and send the output to htt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f (-x $UPTIME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xec($UPTIM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int “Cannot find uptime command.\n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34640" y="18720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A web server’s view of script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1880" y="1863360"/>
            <a:ext cx="6632280" cy="30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EP 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it for a new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EP 2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request arrives from a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EP 3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server parses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EP 4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ad other information from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EP 5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 the method requ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EP 6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ose file, clos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EP 7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o to ste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1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Wait for a new reques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8880" y="2298240"/>
            <a:ext cx="798984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ttpd program waits for a request to arrive from a client somewhere on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0T12:08:27Z</dcterms:created>
  <dc:creator>kati</dc:creator>
  <dc:description/>
  <dc:language>en-US</dc:language>
  <cp:lastModifiedBy>kacsuk</cp:lastModifiedBy>
  <dcterms:modified xsi:type="dcterms:W3CDTF">2001-09-20T00:27:33Z</dcterms:modified>
  <cp:revision>178</cp:revision>
  <dc:subject/>
  <dc:title>Title</dc:title>
</cp:coreProperties>
</file>