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2895480"/>
            <a:ext cx="49528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y Cornel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y S. Horstman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e Jav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nSoft Pres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rentice Hall Title, 199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920" y="17524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 to Jav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s a 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tages of Jav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lly object orien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is far easier to create correct program in Java than in C++ due to the following fa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no manual memory allocation and deallocation. Memory in Java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matically garbage collec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ue array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Java and there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pointer arithmet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inheritance is replaced with a new notion 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tform independ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is is necessary for Internet progra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size of the basic interpreter and class support is about 40Kbytes. Adding the basic standard libraries and thread support adds an additional 175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applications can open and access objects across the Net via URLs with the same ease as when accessing a local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makes common gateway interface (CGI) scripting eas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new remote method invocation mechanism that enables communication between distributed obje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Important Buzzwords of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was designed to be as close as possible to C++ but it omits many rarely used, poorly understood, confusing features of C++ lik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, un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erator overloading, virtual base class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ajor difference between Java and C++ lies in multiple inheritance, for which Java has found a better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has an extensive library of routines for coping with TCP/IP protocols like HTTP and F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applications can open and access objects across the Net via URLs with the same ease as when accessing a local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7:38:33Z</dcterms:created>
  <dc:creator>kacsuk</dc:creator>
  <dc:description/>
  <dc:language>en-US</dc:language>
  <cp:lastModifiedBy>kacsuk</cp:lastModifiedBy>
  <dcterms:modified xsi:type="dcterms:W3CDTF">1999-09-19T20:31:07Z</dcterms:modified>
  <cp:revision>42</cp:revision>
  <dc:subject/>
  <dc:title>The Vocabulary of OOP</dc:title>
</cp:coreProperties>
</file>