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2514600" y="60948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ocabulary of 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533520" y="1447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important term i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template from which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ctually made. To create a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 use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w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yword. It allocates memory and the built-in garbage collector will release memory when nobody uses the object anymo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you create a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you are said to have created a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stanc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cl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udioClip meow = new AudioClip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a new instance of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udioClip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thing you write in Java is inside a cl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is composed of many cla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 can be built on other classes. We say that a class that builts on another clas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d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Java, all classes extend the “cosmic base class” calle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you extend a base class, the new class initially has all the properties and functions of it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You can choose whether you want to modify or get rid of any function of the parent. You can also supply new functions that apply to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hild clas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ral concept of extending a base class is calle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heritanc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514600" y="60948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80880" y="190512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 Java application to print out the current date in local ordering conven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java.util.*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WhatIs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public static void main(String arg[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Da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od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new Dat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oday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oLocaleString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514600" y="60948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uppli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28600" y="1371600"/>
            <a:ext cx="8534520" cy="50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is the list of the most important methods for getting at or changing the state of 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stan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getDat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s the day of the month of this date instance, a number between 1 and 3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getMonth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s the month of this date instance, a number between 0 and 1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getYear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s the year, with 0 denoting 1900, and so 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getDay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s the weekday, a number between 0 and 6 (with 0 being Sunday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getHours(), int getMinutes(), int getSeconds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the hours, minutes, or second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tHours(int), void setMinutes(int), void setSeconds(i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s the hours, minutes, or second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tDate(int), void setMonth(int), void setYear(i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s the current day of the month, the month and the ye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ntion in Java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e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cessor method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utator method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514600" y="60948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3520" y="1447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 being in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rejava.uti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ckage inside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\CoreJavaBoo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y has the following methods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advance(int 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ce the date currently set by a specified number of day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getDay(), int getMonth(), int getYear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the day, month, or year of this day object. Days are between 1 and 31, months between 1 and 12, and years can be any year (such as 1996 or -33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weekday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s the weekday, a number between 0 and 6 (with 0 being Sunda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DaysBetween(Day 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ethod is one of the main reasons to create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. It calculates the number of days between the current instance of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 and instance b of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two ways (two constructors) to create an instance of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todaysDate = new Da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preMillenium = new Day(1999,12,3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s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Write a Java application to calculate how many days you have been al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514600" y="30492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4920" y="1066680"/>
            <a:ext cx="861048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 Java application to calculate how many days you have been al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corejava.*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DaysAl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  public static void main(String arg[]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 int yea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ont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da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= Console.readInt("Please, enter the day you were born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onth = Console.readInt("Please, enter the month you were born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year = Console.readInt("Please, enter the year you were born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today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Day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birthday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Day(year,month,day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You have been alive " +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oday.daysBetween(birthday)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 "days."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514600" y="53352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s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endar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33520" y="175248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tudy the application that prints out a calendar for the month and year specified in the command line argu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Run the application with command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 Calend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 Calendar 12 1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write such a calendar program you have to know how many days the month has. To solve the problem a Day object is created that starts with the first of the mont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d = new Day(y, m, 1); // start date of the 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printing each day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dvanced by one 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.advance(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month is advanced the program is stopp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se: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y the program to create a calendar for a whole ye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514600" y="609480"/>
            <a:ext cx="4191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ing to Build Your Own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35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far we have written classes to run as stand-alone programs. In these classes the Java interpreter looked for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and ran it.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called other methods of the class as nee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 we want to write classes that do not stand alone, rather they are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ing blocks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nd-alone progra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mplest syntax for a class in Jav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NameOf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  // definitions of the class’s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includes methods and instance 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utermost pair of braces (block) defines the code that will make up the cl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convention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o use initial caps for class na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a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might be used by a business in writing a payroll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3049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Employ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Employee(String n, double s, Day 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  name = 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alary = 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ireDay = 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print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  System.out.println(name + " " + salary + " " + hireYear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raiseSalary(double byPerc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  salary *= 1 + byPercent / 10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hireYear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  return hireDay.getYear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ring na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double salar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Day hireDa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438280" y="45720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zing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14300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has four method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Employee(String n, double s, Day 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print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raiseSalary(double byPerc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hireYear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keywor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usually called a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cess modifi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n Java, thes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cess modifie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scribe who can use the method or who can use the class if a modifier is used in the name of the cl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keywor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method in any cla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has access to an instance of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can call the meth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 possible access leve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ained later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thre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 field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hold the data to be manipulated inside an instance of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ring na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double salar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Day hireDay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instance of the Day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keywor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re that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outside agency can acce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instance fields except the methods of our cl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514600" y="60948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Step with Constru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0880" y="14479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’s look at the first method listed in ou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Employee(String n, double s, Day 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 name = 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alary = 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ireDay = 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n example of a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 metho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t is used to construct an object from the class by initializing the instance variabl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you create an instance of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with code like thi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ireDate = new Day(1950,1,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 number007 = new Employee(”James Bond”,100000,hireDat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 metho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alled when the class is created b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w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he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 metho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ts the instance fields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= ”James Bond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alary = 10000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ireDay = January 1, 195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514600" y="609480"/>
            <a:ext cx="4114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Step with Constructor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is always used together with a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reate the class. This forces you to set the initial state of your objects. In Java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not create an instance without initializ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les of using constructo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structor has the same name as the cl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structor may take one or more (or even no) parame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structor is always called with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w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y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’t apply a constructor to an existing object to reset the instance fiel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course, if resetting all fields of a class is important,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desig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provide a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tator metho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ch a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mpt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s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that purpo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possible to have more than one constructor in a class. You have already seen it in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todaysDate = new Da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preMillenium = new Day(1999,12,3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2514600" y="60948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ocabulary of OOP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066680" y="1295280"/>
            <a:ext cx="70102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capsulatio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other key concept of OOP. It mea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haviou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one pack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d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implementation of the data from the user of the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ata in an object are calle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stance variable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and procedures in a Java class are called it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thod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33920" y="3352680"/>
            <a:ext cx="1143000" cy="990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97280" y="388620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76760" y="3409920"/>
            <a:ext cx="9986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v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700440" y="3867120"/>
            <a:ext cx="12128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t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52680" y="2971800"/>
            <a:ext cx="1905120" cy="1752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6400" y="3035160"/>
            <a:ext cx="266760" cy="266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933800" y="2927520"/>
            <a:ext cx="266760" cy="469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3409920" y="4299120"/>
            <a:ext cx="266760" cy="469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40280" y="4406760"/>
            <a:ext cx="266760" cy="266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005360" y="2952720"/>
            <a:ext cx="5540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005360" y="4324320"/>
            <a:ext cx="54288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3520" y="4876920"/>
            <a:ext cx="7848720" cy="13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: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apsulation of data in an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 variables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ve data, current track (hidden from outsi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lay, stop (visible from outsi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apsulation is the way to give the object it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black box”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havi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5943600"/>
            <a:ext cx="60199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514600" y="609480"/>
            <a:ext cx="4343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thods of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4920" y="152388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can access the private instance fields by name and can modify their values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are th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tator method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xample of that is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aiseSala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raiseSalary(double byPerc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  salary *= 1 + byPercent/10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interesting method i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ireYea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hireYear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  return hireDay.getYear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ethod returns an integer value, and it does this by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a method to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ireDa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stance varia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ndeed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ireDa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 instance of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, which has 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etYea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is an example of a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or metho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imply prints out the current state of the instance variables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print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System.out.println(name + " " + salary + " " + hireYear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590920" y="38088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400" y="114300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se: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 and run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Tes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corejava.*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Employee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  public static void main(String[] ar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  Employee[] staff = new Employee[3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ff[0] = new Employee("Harry Hacker", 35000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Day(1989,10,1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ff[1] = new Employee("Carl Cracker", 75000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Day(1987,12,15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ff[2] = new Employee("Tony Tester", 38000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Day(1990,3,15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 = 0; i &lt; 3; i++) staff[i].raiseSalary(5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 = 0; i &lt; 3; i++) staff[i].pr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514600" y="609480"/>
            <a:ext cx="4114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method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4479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user of a class has a legitimate interest in both reading and writing an instance field,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implementor should supply three item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ivate data fie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ublic field accessor meth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ublic field mutator meth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approach has the benefi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rnal implementation can be changed without affecting any code outside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tator methods can perform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-checking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ereas code that simply assigns to a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 cannot. For example,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tDate(1999,3,31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with internal error-che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ead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.setDay(31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problem in case of Febru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.setMonth(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514600" y="60948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Access to Privat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520" y="129528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two rules of method accesses to private dat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thod can access the private data of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bject on which it is invok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thod can access the private data of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objects of its cl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consider a metho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qual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compares two da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equals(Day 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year == b.year &amp;&amp; month == b.month &amp;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== b.da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ypical call i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hireday.equals(d)) 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ethod accesses the private fields o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ireda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ule 1). It also accesses the private fields o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is is legal becaus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 object of typ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a method of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 is permitted to access the private fields o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of typ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514600" y="609480"/>
            <a:ext cx="4114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vate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520" y="16765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implementing a class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make all data fields priv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ut what about the methods?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 method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quite frequent, and they can be called only from other operations of the cl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mplement a private method in Java, simply change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yword 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um, choose private method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ose functions that are of no concern to the class user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ose functions that could not easily be supported if the clas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were to chan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RNING: A subclass cannot access the private data members of its superclas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514600" y="60948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c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520" y="16765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 can have both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c variable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tic metho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c fields (variables) do not change from one instance of a class to anot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o you should think of them as belonging to a class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ly, static methods belong to a class and do not operate on any instance of a class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 means you can use them without creating an instance of a cl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all of the methods in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o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 are static methods. This is why a syntax li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Console.readDoubl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perfect sens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ral syntax for using a static method from a class i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Name.staticMethod(parameters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RNING: Because static methods do not work with an instance of the class they can only access static fiel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514600" y="60948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c Methods as H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62120" y="167652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the header for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you don’t need to create an instance of the class in order to call it - and the Java interpreter doesn’t eit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ction is contained in the clas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ortgag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you start the Java interpreter wit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 Mortgag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the interpreter simply starts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ction without creating an object of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ortgag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514600" y="762120"/>
            <a:ext cx="4419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andomIntGenerator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880" y="19051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provides a random number generator. The random number is supplied by a call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lang.Math.random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reate a better random number generator with the following advantag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Adds the convenience of generating random integers in a specific ran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It is more “random” than the one supplied with Ja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de is shown below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RandomInt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  /*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param l the lowest integer in the 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param h the highest integer in the ran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sed to return a random integer in the rang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RandomIntGenerator(int l, int h)  // a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  low = 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igh = 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514600" y="304920"/>
            <a:ext cx="4495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c initialization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920" y="9907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tructures of the clas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andomIntGenerator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atic final int BUFFER_SIZE = 10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atic double[] buffer = new double[BUFFER_SIZE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 /*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ization block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  int 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 = 0; i &lt; BUFFER_SIZE; i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uffer[i] = java.lang.Math.random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 instance fields: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l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hig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uses a small array which is filled up with a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c initialization block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se blocks whenever simple initialization statements for static members are either not possible or too clumsy. In the example we need a loop to initialize the buffer array, and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oop cannot be coded with a simple initializ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ntax for a static initialization block is simply the keywor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ed by braces that mark any Java code bloc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then executes the block before any method of the class is call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only refer to static data in the block. You can have many such blocks in a cl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514600" y="53352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IntGenerator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has a public method, calle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or drawing a random integer in the specified ran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draw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  int r = lo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 (int)((high - low + 1) * nextRandom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r &gt; high) r = hig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uses a static method calle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Random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actually implements the algorithm. It uses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uffer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ray and calls the built-in random number generator twi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atic double nextRandom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  int pos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)(java.lang.Math.random() * BUFFER_SIZ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os == BUFFER_SIZE) pos = BUFFER_SIZE -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r = buffer[pos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uffer[pos] = java.lang.Math.random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514600" y="91440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work with OOP, you should identify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key characteristic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objec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What is the object’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ehaviou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What is the object’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What is the object’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t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All objects that are instances of the same class share a family resemblance by supporting simila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ehaviou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 behaviour of an object is defined by the messages it accep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Each object stores information, call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bout what it currently looks like. A change in the state of an object must be the consequence of messages sent to the obje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Each object has a distin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t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 individual objects that are instances of a clas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ffer in their identity and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ffer in their st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14600" y="60948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lo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14400" y="16765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possible to have more than one constructor in a class. You have already seen it in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todaysDate = new Da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preMillenium = new Day(1999,12,3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apability is called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load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loadin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if several methods have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nam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fferent argu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Java interpreter has to sort out which method to call. A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-time erro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if the compiler cannot match the arguments or if more than one match is possi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RNING: method overloadin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ometimes called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-hoc polymorphis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must be distinguished from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e polymorphis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Java also does suppor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14600" y="15228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 Field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68580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r class has no constructors, Java provides a default constructor for you. It sets all the instance variables to a default value (numbers to zero, objects to null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only applies when your class has no constructors. Otherwise, Java insists that you provide a default constructor if you want the users of your class to have the ability to create an instance via a call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ClassNam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rning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 variables differ from local variables in a method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variables must be always initilized explicit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ll constructors of a class need to set a particular instance variable to the same value, there is a convenient syntax for doing the initialization. For example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Order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public Customer(String 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= 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Number = Account.getNewNumber(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ustomer(String n, int 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= 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Number = a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ring nam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accountNumb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nextOrder = 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514600" y="53352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2193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method, the keywor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fers to the object (in its entirety) on which the method opera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Java classes (for example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have a method calle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oString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prints out the object. You can print out the current date by say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.toString(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generally, provided your class implements 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oString(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, you can print it out symply by call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“Customer: “ + thi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 useful strategy for debugg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first line of a constructor has the form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(...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the constructor calls another constructor of the same clas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public Customer(String 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(n, Account.getNewNumber()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ustomer(String n, int 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= 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Number = a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14600" y="762120"/>
            <a:ext cx="46483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se: CardDeck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82880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imple card game: the program chooses two cards at random, one for you and one for the computer. The highest card win. It repeats 10 times and then prints the res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s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tudy the code of CardDeck.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Study the code of Card.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Run the code of CardDeck.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Is there any method in Card.java which is not used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yes getValue, getSu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Remove the superfluous method(s) of Card.java , compile it and ru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of CardDeck.java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514600" y="53352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hip between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3520" y="129528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common relationships between classes 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ontainment (“has-a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inheritance (“is-a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A clas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s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other class if it manipulates objects of that class. In general, a clas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ses a clas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/ a method o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nds a message to an object of clas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/ a method o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eates, receives, or returns objects of clas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ans that objects of clas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ain objects of clas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Containment is a special case of use; if a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contains 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, then at least one method of clas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make use of that object of clas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heritanc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lationship denotes specialization. If clas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tends clas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as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herits methods from clas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ut has more capabil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diagram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the classes and their relationshi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514600" y="914400"/>
            <a:ext cx="3962520" cy="5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itional versus OO pro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880" y="190512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raditional structured programm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hm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e fir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tructure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e seco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, you decide how to manipulate data; then you decide what structure to impose on the dat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bject-oriented programm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tructure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e fir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hm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e seco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, you creat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 data structur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then you look at the algorithms that operate on the abstract data structu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traditional procedure-oriented program, you start the process at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ith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progra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bject-oriented programming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“top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You first find classes and then you add methods to each class. (A simpl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le of thumb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identifying classes is to look for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u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problem analysis. Methods, on the other hand, corresponds to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b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14600" y="60948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3520" y="16765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most classes in Java, you create objects, specify their initial state and then work with the ob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ccess objects, you define object variables. The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udioClip meow;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meow does not refer to any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s an object variable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ow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that can refer to objects of typ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udioCli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ariabl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o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n object and dose not yet even refer to an object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not use any methods on the variable at this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ow.play();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not y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or to create an objec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ow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AudioClip(); // does create an instanc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 you can start to applying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udioClip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s 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ow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might need to create multiple instances of a single clas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udioClip chirp = new AudioClip();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 there are two objects of typ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udioClip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ne attached to the object variabl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o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one to the object variabl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hirp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514600" y="60948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Variable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3520" y="137160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assign one variable to another one using the equal sig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udioClip wakeup = me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both variables refer to th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stance. This can lead to surprising behaviour in your programs if you are not careful. For example, if you c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ow.play();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akeup.stop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udio clip object will play and then stop, since th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dio clip object is referred to b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akeu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n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ow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iab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classes have a method calle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on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makes a true copy. When you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on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isting object, you get a copy that reflects the current state of the object. Now the two objects exist independently, so they can diverge over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explicitly set an object variable 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dicate that it currently refers to no objec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akeup = n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wakeup != null) wakeup.pla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call a method through 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iable, a run time error occu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object variables must be initialized either by calling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w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by setting them 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514600" y="60948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uppli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3520" y="16765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 comes with Java. An instance of it has a state specifying the date and ti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 todaysDate = new Dat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an instance of clas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initializes its state to the current date (maintained by the operating syste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also create an instance with a specific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 preMillenium = new Date(99,12,31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also set the ti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 preMillenium = new Date(99,12,31,23,59,59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class in Java rather than a built-in type, lik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making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o a class, the design task is off-loaded to a library designer. If the class is not perfect, other programmers can easily write their ow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ice that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 has encapsulated data to maintain the date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impossible to know the internal representation of data inside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514600" y="60948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uppli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3520" y="1447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 being in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brary ha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metho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Some of them are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arse(String 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a string representing a date and time, this method parses it and converts it to a time valu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before(Date w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ethod returns true if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es before the dat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he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after(Date w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ethod returns true if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es after the dat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he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toString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ethod converts the date held in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to a string representing the date using Unix date/time conven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toLocaleString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ethod converts the date held in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to a string representing the date using the local ordering conven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s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Write a Java application to print out the current date in local ordering conven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