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C3E53-E8E2-4A80-A725-8B4BA0052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406A2-DD7A-4106-84FF-4580CC912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DD07A-ED53-4372-95D8-D1F73D2C0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AC63D-90EA-4682-8EFF-0E91C74C0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40383-80DC-464A-8B09-74CC4BDBB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880DD-840C-4E79-916D-D39835512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EF2F6-BC5F-4504-8BF6-5E6AC8119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A6096-007A-47F6-82CB-F7D4304D6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19D40-929E-45B1-8609-27B1E9D87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9DEEF-7D43-41C9-9D4B-60EB76152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5FE79-4EC8-4665-84C2-2013DE539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08228-B1B4-4D82-A9C5-383F93EAB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9DD7A-BCF9-42B9-8306-D07B7E3C8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49A73-80E4-4BF5-8C56-63ADCFA17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3FF92-B6C7-4569-955D-39EFB250D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964AE-3F0E-4684-BF49-D6B4F0ECE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5F4FD-CD76-41C8-82F9-A04AA1F7D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FD9BC-8E31-4713-9C0E-DB44B21FA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6C3CE-7D9B-4220-8C01-374B88BA7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4D865-322B-420B-BBE7-998E27E7B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D593B-6B64-4B4B-AD9D-123716B11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5BB5F-B509-4FF1-8C38-5A32FC691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E53B0-BF7A-4FD6-8F55-8A1F3B45A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8F686-AB95-400A-809D-FEC646FF8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45CA-7AA3-4123-B29D-8388AE289EB2}" type="datetime">
              <a:rPr b="0" lang="en-US" sz="1400" spc="-1" strike="noStrike">
                <a:solidFill>
                  <a:srgbClr val="5e574e"/>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5A22-B7F6-495E-BE03-64F84867F74D}" type="slidenum">
              <a:rPr b="0" lang="en-US" sz="1400" spc="-1" strike="noStrike">
                <a:solidFill>
                  <a:srgbClr val="5e574e"/>
                </a:solidFill>
                <a:latin typeface="Arial"/>
              </a:rPr>
              <a:t>&lt;number&gt;</a:t>
            </a:fld>
            <a:r>
              <a:rPr b="0" lang="en-US" sz="1400" spc="-1" strike="noStrike">
                <a:solidFill>
                  <a:srgbClr val="5e574e"/>
                </a:solidFill>
                <a:latin typeface="Arial"/>
              </a:rPr>
              <a:t>  </a:t>
            </a:r>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A1CB-2CD7-4DB0-B52D-A3430C49B37D}" type="datetime">
              <a:rPr b="0" lang="en-US" sz="1400" spc="-1" strike="noStrike">
                <a:solidFill>
                  <a:srgbClr val="5e574e"/>
                </a:solidFill>
                <a:latin typeface="Arial"/>
              </a:rPr>
              <a:t>07/30/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3E34-BC0B-4303-8ED8-E0197B76ADC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ource Management in Distributed Systems</a:t>
            </a:r>
            <a:endParaRPr b="0" lang="en-US" sz="4000" spc="-1" strike="noStrike">
              <a:solidFill>
                <a:srgbClr val="000000"/>
              </a:solidFill>
              <a:latin typeface="Arial Black"/>
            </a:endParaRPr>
          </a:p>
        </p:txBody>
      </p:sp>
      <p:sp>
        <p:nvSpPr>
          <p:cNvPr id="85" name="PlaceHolder 2"/>
          <p:cNvSpPr>
            <a:spLocks noGrp="1"/>
          </p:cNvSpPr>
          <p:nvPr>
            <p:ph type="subTitle"/>
          </p:nvPr>
        </p:nvSpPr>
        <p:spPr>
          <a:xfrm>
            <a:off x="914040" y="4502160"/>
            <a:ext cx="7620120" cy="1155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assignment,</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oad-balancing and Load-sharing</a:t>
            </a:r>
            <a:endParaRPr b="0" lang="en-US" sz="3200" spc="-1" strike="noStrike">
              <a:solidFill>
                <a:srgbClr val="000000"/>
              </a:solidFill>
              <a:latin typeface="Arial Black"/>
            </a:endParaRPr>
          </a:p>
        </p:txBody>
      </p:sp>
      <p:sp>
        <p:nvSpPr>
          <p:cNvPr id="4" name="PlaceHolder 3"/>
          <p:cNvSpPr>
            <a:spLocks noGrp="1"/>
          </p:cNvSpPr>
          <p:nvPr>
            <p:ph type="sldNum" idx="6"/>
          </p:nvPr>
        </p:nvSpPr>
        <p:spPr/>
        <p:txBody>
          <a:bodyPr/>
          <a:p>
            <a:fld id="{28EE78BF-A954-4C10-9D67-46A5616D93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load-balancing algorithms</a:t>
            </a:r>
            <a:endParaRPr b="0" lang="en-US" sz="2400" spc="-1" strike="noStrike">
              <a:solidFill>
                <a:srgbClr val="000000"/>
              </a:solidFill>
              <a:latin typeface="Arial Black"/>
            </a:endParaRPr>
          </a:p>
        </p:txBody>
      </p:sp>
      <p:sp>
        <p:nvSpPr>
          <p:cNvPr id="1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versus Dynamic</a:t>
            </a:r>
            <a:endParaRPr b="0" lang="en-US" sz="32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use only information about the average behavior of the system</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ignore the current state or load of the nodes in the system </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algorithms collect state information and react to system state if it changed</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are much more simpler</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algorithms are able to give significantly better performa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CCF19F5-5A71-4F30-BBD1-1938BF89AE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static load-balancing algorithms</a:t>
            </a:r>
            <a:endParaRPr b="0" lang="en-US" sz="2400" spc="-1" strike="noStrike">
              <a:solidFill>
                <a:srgbClr val="000000"/>
              </a:solidFill>
              <a:latin typeface="Arial Black"/>
            </a:endParaRPr>
          </a:p>
        </p:txBody>
      </p:sp>
      <p:sp>
        <p:nvSpPr>
          <p:cNvPr id="12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istic versus Probabilistic</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istic algorithms use the information about the properties of the nodes and the characteristic of processes to be scheduled</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algorithms use information of static attributes of the system (e.g. number of nodes, processing capability, topology) to formulate simple process placement rules</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istic approach is difficult to optimize</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approach has poor performa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FAA2528-FF35-4C2F-8E40-A7ABB5DC66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dynamic load-balancing algorithms</a:t>
            </a:r>
            <a:endParaRPr b="0" lang="en-US" sz="2400" spc="-1" strike="noStrike">
              <a:solidFill>
                <a:srgbClr val="000000"/>
              </a:solidFill>
              <a:latin typeface="Arial Black"/>
            </a:endParaRPr>
          </a:p>
        </p:txBody>
      </p:sp>
      <p:sp>
        <p:nvSpPr>
          <p:cNvPr id="1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ralized versus Distributed</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ized approach collects information to server node and makes assignment decision</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ed approach contains entities to make decisions on a predefined set of nodes</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ized algorithms can make efficient decisions, have lower fault-tolerance</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ed algorithms avoid the bottleneck of collecting state information and react faster</a:t>
            </a:r>
            <a:endParaRPr b="0" lang="en-US" sz="2800" spc="-1" strike="noStrike">
              <a:solidFill>
                <a:srgbClr val="000000"/>
              </a:solidFill>
              <a:latin typeface="Tahoma"/>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49D39C4-77BD-417B-A1BE-D365BA74E8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distributed load-balancing algorithms</a:t>
            </a:r>
            <a:endParaRPr b="0" lang="en-US" sz="2400" spc="-1" strike="noStrike">
              <a:solidFill>
                <a:srgbClr val="000000"/>
              </a:solidFill>
              <a:latin typeface="Arial Black"/>
            </a:endParaRPr>
          </a:p>
        </p:txBody>
      </p:sp>
      <p:sp>
        <p:nvSpPr>
          <p:cNvPr id="1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ve versus Noncooperative</a:t>
            </a:r>
            <a:endParaRPr b="0" lang="en-US" sz="32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Noncooperative algorithms entities act as autonomous ones and make scheduling decisions independently from other entities</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Cooperative algorithms distributed entities cooperatewith each other</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perative algorithms are more complex and involve larger overhead</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bility of Cooperative algorithms are bette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A08FB6F-164C-4897-88A6-D9E9423520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ssues in designing Load-balancing algorithms</a:t>
            </a:r>
            <a:endParaRPr b="0" lang="en-US" sz="4000" spc="-1" strike="noStrike">
              <a:solidFill>
                <a:srgbClr val="000000"/>
              </a:solidFill>
              <a:latin typeface="Arial Black"/>
            </a:endParaRPr>
          </a:p>
        </p:txBody>
      </p:sp>
      <p:sp>
        <p:nvSpPr>
          <p:cNvPr id="129" name="PlaceHolder 2"/>
          <p:cNvSpPr>
            <a:spLocks noGrp="1"/>
          </p:cNvSpPr>
          <p:nvPr>
            <p:ph/>
          </p:nvPr>
        </p:nvSpPr>
        <p:spPr>
          <a:xfrm>
            <a:off x="456840" y="1676160"/>
            <a:ext cx="8458200" cy="4381560"/>
          </a:xfrm>
          <a:prstGeom prst="rect">
            <a:avLst/>
          </a:prstGeom>
          <a:noFill/>
          <a:ln w="0">
            <a:noFill/>
          </a:ln>
        </p:spPr>
        <p:txBody>
          <a:bodyPr lIns="90000" rIns="90000" tIns="46800" bIns="46800" anchor="t">
            <a:normAutofit fontScale="89000"/>
          </a:bodyPr>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estimation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how to estimate the workload of a node</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transfer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whether to execute a process locally or remote</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information exchange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how to exchange load information among nodes</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o which node the transferable process should be sent</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ity assignment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he priority of execution of local and remote processes</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on limiting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he total number of times a process can migrat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BA3E236-81A4-48D0-9295-7EE5CCE4D1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balance the workload on all the nodes of the system, it is necessary to decide how to measure the workload of a particular node</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measurable parameters (with time and node dependent factor) can be the following:</a:t>
            </a:r>
            <a:endParaRPr b="0" lang="en-US" sz="28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number of processes on the node</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demands of these processes</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mixes of these processes</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and speed of the node’s processor</a:t>
            </a:r>
            <a:endParaRPr b="0" lang="en-US" sz="24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ral load-balancing algorithms use the </a:t>
            </a:r>
            <a:r>
              <a:rPr b="0" lang="en-US" sz="2800" spc="-1" strike="noStrike" u="sng">
                <a:solidFill>
                  <a:srgbClr val="000000"/>
                </a:solidFill>
                <a:uFillTx/>
                <a:latin typeface="Tahoma"/>
              </a:rPr>
              <a:t>total number of processes</a:t>
            </a:r>
            <a:r>
              <a:rPr b="0" lang="en-US" sz="2800" spc="-1" strike="noStrike">
                <a:solidFill>
                  <a:srgbClr val="000000"/>
                </a:solidFill>
                <a:latin typeface="Tahoma"/>
              </a:rPr>
              <a:t> to achieve big efficienc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5C4FC6E-6190-47F8-97A9-EED14576C4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ome cases the true load could vary widely depending on the </a:t>
            </a:r>
            <a:r>
              <a:rPr b="0" lang="en-US" sz="2800" spc="-1" strike="noStrike" u="sng">
                <a:solidFill>
                  <a:srgbClr val="000000"/>
                </a:solidFill>
                <a:uFillTx/>
                <a:latin typeface="Tahoma"/>
              </a:rPr>
              <a:t>remaining service time, </a:t>
            </a:r>
            <a:r>
              <a:rPr b="0" lang="en-US" sz="2800" spc="-1" strike="noStrike">
                <a:solidFill>
                  <a:srgbClr val="000000"/>
                </a:solidFill>
                <a:latin typeface="Tahoma"/>
              </a:rPr>
              <a:t>which can be measured in several way:</a:t>
            </a:r>
            <a:endParaRPr b="0" lang="en-US" sz="28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emoryless method</a:t>
            </a:r>
            <a:r>
              <a:rPr b="0" lang="en-US" sz="2400" spc="-1" strike="noStrike">
                <a:solidFill>
                  <a:srgbClr val="000000"/>
                </a:solidFill>
                <a:latin typeface="Tahoma"/>
              </a:rPr>
              <a:t> assumes that all processes have the same expected remaining service time, independent of the time used so far</a:t>
            </a:r>
            <a:endParaRPr b="0" lang="en-US" sz="24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astrepeats</a:t>
            </a:r>
            <a:r>
              <a:rPr b="0" lang="en-US" sz="2400" spc="-1" strike="noStrike">
                <a:solidFill>
                  <a:srgbClr val="000000"/>
                </a:solidFill>
                <a:latin typeface="Tahoma"/>
              </a:rPr>
              <a:t> assumes that the remaining service time is equal to the time used so far</a:t>
            </a:r>
            <a:endParaRPr b="0" lang="en-US" sz="24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istribution method</a:t>
            </a:r>
            <a:r>
              <a:rPr b="0" lang="en-US" sz="2400" spc="-1" strike="noStrike">
                <a:solidFill>
                  <a:srgbClr val="000000"/>
                </a:solidFill>
                <a:latin typeface="Tahoma"/>
              </a:rPr>
              <a:t> states that if the distribution service times is known, the associated process’s remaining service time is the expected remaining time conditioned by the time already us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E707A1F-F3A9-4EB2-AD53-72AB952565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e of the previous methods can be used in modern systems because of periodically running processes and daemons</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cceptable method for use as the load estimation policy in these systems would be to measure the CPU utilization of the nodes</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 Processing Unit utilization is defined as the number of CPU cycles actually executed per unit of real time</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be measured by setting up a timer to periodically check the CPU state (idle/bus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8880FF8-4EC9-46B8-AFA0-147F615EE9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of the algorithms use the </a:t>
            </a:r>
            <a:r>
              <a:rPr b="0" i="1" lang="en-US" sz="2400" spc="-1" strike="noStrike">
                <a:solidFill>
                  <a:srgbClr val="000000"/>
                </a:solidFill>
                <a:latin typeface="Tahoma"/>
              </a:rPr>
              <a:t>threshold policy</a:t>
            </a:r>
            <a:r>
              <a:rPr b="0" lang="en-US" sz="2400" spc="-1" strike="noStrike">
                <a:solidFill>
                  <a:srgbClr val="000000"/>
                </a:solidFill>
                <a:latin typeface="Tahoma"/>
              </a:rPr>
              <a:t> to decide on whether the node is lightly-loaded or heavily-loaded</a:t>
            </a:r>
            <a:endParaRPr b="0" lang="en-US" sz="2400" spc="-1" strike="noStrike">
              <a:solidFill>
                <a:srgbClr val="000000"/>
              </a:solidFill>
              <a:latin typeface="Tahoma"/>
            </a:endParaRPr>
          </a:p>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shold value is a limiting value of the workload of node which can be determined by</a:t>
            </a:r>
            <a:endParaRPr b="0" lang="en-US" sz="2400" spc="-1" strike="noStrike">
              <a:solidFill>
                <a:srgbClr val="000000"/>
              </a:solidFill>
              <a:latin typeface="Tahoma"/>
            </a:endParaRPr>
          </a:p>
          <a:p>
            <a:pPr lvl="1" marL="705600" indent="-2714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policy: predefined threshold value for each node depending on processing capability</a:t>
            </a:r>
            <a:endParaRPr b="0" lang="en-US" sz="2000" spc="-1" strike="noStrike">
              <a:solidFill>
                <a:srgbClr val="000000"/>
              </a:solidFill>
              <a:latin typeface="Tahoma"/>
            </a:endParaRPr>
          </a:p>
          <a:p>
            <a:pPr lvl="1" marL="705600" indent="-2714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policy: threshold value is calculated from average workload and a predefined constant</a:t>
            </a:r>
            <a:endParaRPr b="0" lang="en-US" sz="2000" spc="-1" strike="noStrike">
              <a:solidFill>
                <a:srgbClr val="000000"/>
              </a:solidFill>
              <a:latin typeface="Tahoma"/>
            </a:endParaRPr>
          </a:p>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low threshold value node accepts processes to execute, above threshold value node tries to transfer processes to a lightly-loaded nod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7760A1D-F609-41CF-B825-DA63952689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752480"/>
            <a:ext cx="8178840" cy="4305600"/>
          </a:xfrm>
          <a:prstGeom prst="rect">
            <a:avLst/>
          </a:prstGeom>
          <a:noFill/>
          <a:ln w="0">
            <a:noFill/>
          </a:ln>
        </p:spPr>
        <p:txBody>
          <a:bodyPr lIns="90000" rIns="90000" tIns="46800" bIns="46800" anchor="t">
            <a:normAutofit fontScale="92000"/>
          </a:bodyPr>
          <a:p>
            <a:pPr marL="315360" indent="-3153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threshold policy may lead to unstable algorithm because underloaded node could turn to be overloaded right after a process migration</a:t>
            </a: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duce instability double-threshold policy has been proposed which is also known as high-low policy</a:t>
            </a:r>
            <a:endParaRPr b="0" lang="en-US" sz="2400" spc="-1" strike="noStrike">
              <a:solidFill>
                <a:srgbClr val="000000"/>
              </a:solidFill>
              <a:latin typeface="Tahoma"/>
            </a:endParaRPr>
          </a:p>
        </p:txBody>
      </p:sp>
      <p:sp>
        <p:nvSpPr>
          <p:cNvPr id="139"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grpSp>
        <p:nvGrpSpPr>
          <p:cNvPr id="140" name=""/>
          <p:cNvGrpSpPr/>
          <p:nvPr/>
        </p:nvGrpSpPr>
        <p:grpSpPr>
          <a:xfrm>
            <a:off x="1752480" y="3048120"/>
            <a:ext cx="3048120" cy="2362680"/>
            <a:chOff x="1752480" y="3048120"/>
            <a:chExt cx="3048120" cy="2362680"/>
          </a:xfrm>
        </p:grpSpPr>
        <p:sp>
          <p:nvSpPr>
            <p:cNvPr id="141" name=""/>
            <p:cNvSpPr/>
            <p:nvPr/>
          </p:nvSpPr>
          <p:spPr>
            <a:xfrm>
              <a:off x="2057400" y="30481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4038480"/>
              <a:ext cx="16002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57400" y="33526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loaded</a:t>
              </a:r>
              <a:endParaRPr b="0" lang="en-US" sz="1600" spc="-1" strike="noStrike">
                <a:solidFill>
                  <a:srgbClr val="000000"/>
                </a:solidFill>
                <a:latin typeface="Times New Roman"/>
              </a:endParaRPr>
            </a:p>
          </p:txBody>
        </p:sp>
        <p:sp>
          <p:nvSpPr>
            <p:cNvPr id="144" name=""/>
            <p:cNvSpPr/>
            <p:nvPr/>
          </p:nvSpPr>
          <p:spPr>
            <a:xfrm>
              <a:off x="2057400" y="434340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loaded</a:t>
              </a:r>
              <a:endParaRPr b="0" lang="en-US" sz="1600" spc="-1" strike="noStrike">
                <a:solidFill>
                  <a:srgbClr val="000000"/>
                </a:solidFill>
                <a:latin typeface="Times New Roman"/>
              </a:endParaRPr>
            </a:p>
          </p:txBody>
        </p:sp>
        <p:sp>
          <p:nvSpPr>
            <p:cNvPr id="145" name=""/>
            <p:cNvSpPr/>
            <p:nvPr/>
          </p:nvSpPr>
          <p:spPr>
            <a:xfrm>
              <a:off x="3657600" y="3886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reshold</a:t>
              </a:r>
              <a:endParaRPr b="0" lang="en-US" sz="1600" spc="-1" strike="noStrike">
                <a:solidFill>
                  <a:srgbClr val="000000"/>
                </a:solidFill>
                <a:latin typeface="Times New Roman"/>
              </a:endParaRPr>
            </a:p>
          </p:txBody>
        </p:sp>
        <p:sp>
          <p:nvSpPr>
            <p:cNvPr id="146" name=""/>
            <p:cNvSpPr/>
            <p:nvPr/>
          </p:nvSpPr>
          <p:spPr>
            <a:xfrm>
              <a:off x="1752480" y="507348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threshold policy</a:t>
              </a:r>
              <a:endParaRPr b="0" lang="en-US" sz="1600" spc="-1" strike="noStrike">
                <a:solidFill>
                  <a:srgbClr val="000000"/>
                </a:solidFill>
                <a:latin typeface="Times New Roman"/>
              </a:endParaRPr>
            </a:p>
          </p:txBody>
        </p:sp>
      </p:grpSp>
      <p:grpSp>
        <p:nvGrpSpPr>
          <p:cNvPr id="147" name=""/>
          <p:cNvGrpSpPr/>
          <p:nvPr/>
        </p:nvGrpSpPr>
        <p:grpSpPr>
          <a:xfrm>
            <a:off x="4648320" y="3048120"/>
            <a:ext cx="3047760" cy="2362680"/>
            <a:chOff x="4648320" y="3048120"/>
            <a:chExt cx="3047760" cy="2362680"/>
          </a:xfrm>
        </p:grpSpPr>
        <p:sp>
          <p:nvSpPr>
            <p:cNvPr id="148" name=""/>
            <p:cNvSpPr/>
            <p:nvPr/>
          </p:nvSpPr>
          <p:spPr>
            <a:xfrm>
              <a:off x="4952880" y="30481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952880" y="373356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952880" y="32004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loaded</a:t>
              </a:r>
              <a:endParaRPr b="0" lang="en-US" sz="1600" spc="-1" strike="noStrike">
                <a:solidFill>
                  <a:srgbClr val="000000"/>
                </a:solidFill>
                <a:latin typeface="Times New Roman"/>
              </a:endParaRPr>
            </a:p>
          </p:txBody>
        </p:sp>
        <p:sp>
          <p:nvSpPr>
            <p:cNvPr id="151" name=""/>
            <p:cNvSpPr/>
            <p:nvPr/>
          </p:nvSpPr>
          <p:spPr>
            <a:xfrm>
              <a:off x="4952880" y="38862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al</a:t>
              </a:r>
              <a:endParaRPr b="0" lang="en-US" sz="1600" spc="-1" strike="noStrike">
                <a:solidFill>
                  <a:srgbClr val="000000"/>
                </a:solidFill>
                <a:latin typeface="Times New Roman"/>
              </a:endParaRPr>
            </a:p>
          </p:txBody>
        </p:sp>
        <p:sp>
          <p:nvSpPr>
            <p:cNvPr id="152" name=""/>
            <p:cNvSpPr/>
            <p:nvPr/>
          </p:nvSpPr>
          <p:spPr>
            <a:xfrm>
              <a:off x="4952880" y="449568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loaded</a:t>
              </a:r>
              <a:endParaRPr b="0" lang="en-US" sz="1600" spc="-1" strike="noStrike">
                <a:solidFill>
                  <a:srgbClr val="000000"/>
                </a:solidFill>
                <a:latin typeface="Times New Roman"/>
              </a:endParaRPr>
            </a:p>
          </p:txBody>
        </p:sp>
        <p:sp>
          <p:nvSpPr>
            <p:cNvPr id="153" name=""/>
            <p:cNvSpPr/>
            <p:nvPr/>
          </p:nvSpPr>
          <p:spPr>
            <a:xfrm>
              <a:off x="6553080" y="419076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mark</a:t>
              </a:r>
              <a:endParaRPr b="0" lang="en-US" sz="1600" spc="-1" strike="noStrike">
                <a:solidFill>
                  <a:srgbClr val="000000"/>
                </a:solidFill>
                <a:latin typeface="Times New Roman"/>
              </a:endParaRPr>
            </a:p>
          </p:txBody>
        </p:sp>
        <p:sp>
          <p:nvSpPr>
            <p:cNvPr id="154" name=""/>
            <p:cNvSpPr/>
            <p:nvPr/>
          </p:nvSpPr>
          <p:spPr>
            <a:xfrm>
              <a:off x="6553080" y="3581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mark</a:t>
              </a:r>
              <a:endParaRPr b="0" lang="en-US" sz="1600" spc="-1" strike="noStrike">
                <a:solidFill>
                  <a:srgbClr val="000000"/>
                </a:solidFill>
                <a:latin typeface="Times New Roman"/>
              </a:endParaRPr>
            </a:p>
          </p:txBody>
        </p:sp>
        <p:sp>
          <p:nvSpPr>
            <p:cNvPr id="155" name=""/>
            <p:cNvSpPr/>
            <p:nvPr/>
          </p:nvSpPr>
          <p:spPr>
            <a:xfrm>
              <a:off x="4648320" y="50734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threshold policy</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2CB8A12D-5162-4A10-927A-8A2F74B532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roduction</a:t>
            </a:r>
            <a:endParaRPr b="0" lang="en-US" sz="4000" spc="-1" strike="noStrike">
              <a:solidFill>
                <a:srgbClr val="000000"/>
              </a:solidFill>
              <a:latin typeface="Arial Black"/>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ed systems contain a set of resources interconnected by a network</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es are migrated to fulfill their resource requirements</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manager are to control the assignment of resources to processes</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can be logical (shared file) or physical (CPU)</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onsider a resource to be a processo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29AACA2-E796-4AFA-8A5C-7428743C3E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Double threshold policy</a:t>
            </a:r>
            <a:endParaRPr b="0" lang="en-US" sz="28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overloaded region new local processes are sent to run remotely, requests to accept remote processes are rejected</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normal region new local processes run locally, requests to accept remote processes are rejected</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underloaded region new local processes run locally, requests to accept remote processes are accept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7596E29-96B6-4F24-B597-E1DF560C69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5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4000"/>
          </a:bodyPr>
          <a:p>
            <a:pPr marL="288000" indent="-2880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shold method</a:t>
            </a:r>
            <a:endParaRPr b="0" lang="en-US" sz="28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selects a random node, checks whether the node is able to receive the process, then transfers the process. If node rejects, another node is selected randomly. This continues until probe limit is reached.</a:t>
            </a:r>
            <a:endParaRPr b="0" lang="en-US" sz="2400" spc="-1" strike="noStrike">
              <a:solidFill>
                <a:srgbClr val="000000"/>
              </a:solidFill>
              <a:latin typeface="Tahoma"/>
            </a:endParaRPr>
          </a:p>
          <a:p>
            <a:pPr marL="288000" indent="-28800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est method</a:t>
            </a:r>
            <a:endParaRPr b="0" lang="en-US" sz="28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 distinct nodes are chosen at random, each is polled to determine its load. The process is transferred to the node having the minimum value unless its workload value prohibits to accept the process.</a:t>
            </a:r>
            <a:endParaRPr b="0" lang="en-US" sz="24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improvement is to discontinue probing whenever a node with zero load is encounter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2073963-B820-4F72-A613-E1907319AD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dding method</a:t>
            </a:r>
            <a:endParaRPr b="0" lang="en-US" sz="28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des contain managers (to send processes) and contractors (to receive processes)</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ers broadcast a request for bid, contractors respond with bids (prices based on capacity of the contractor node) and manager selects the best offer</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ning contractor is notified and asked whether it accepts the process for execution or not</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autonomy for the nodes regarding scheduling</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g communication overhead</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icult to decide a good pricing polic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C1B1A0A-17E8-4E9D-87C2-97E10883B6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3000"/>
          </a:bodyPr>
          <a:p>
            <a:pPr marL="284400" indent="-284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iring</a:t>
            </a:r>
            <a:endParaRPr b="0" lang="en-US" sz="28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ary to the former methods the pairing policy is to reduce the variance of load only between pairs</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ode asks some randomly chosen node to form a pair with it</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t receives a rejection it randomly selects another node and tries to pair again</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nodes that differ greatly in load are temporarily paired with each other and migration starts</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ir is broken as soon as the migration is over</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ode only tries to find a partner if it has at least two process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FD102C7-07E5-4D99-A863-ADCA00C6A5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policies require frequent exchange of state information, but these extra messages arise two opposite impacts:</a:t>
            </a:r>
            <a:endParaRPr b="0" lang="en-US" sz="28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the number of messages gives more accurate scheduling decision</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the number of messages raises the queuing time of messages</a:t>
            </a:r>
            <a:endParaRPr b="0" lang="en-US" sz="2400" spc="-1" strike="noStrike">
              <a:solidFill>
                <a:srgbClr val="000000"/>
              </a:solidFill>
              <a:latin typeface="Tahoma"/>
            </a:endParaRPr>
          </a:p>
          <a:p>
            <a:pPr marL="294840" indent="-29484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information policies can be the following:</a:t>
            </a:r>
            <a:endParaRPr b="0" lang="en-US" sz="28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iodic broadcast</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adcast when state changes</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demand exchange</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hange by poll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0093CE5-5C86-4E44-B92F-F1891AB130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iodic broadcast</a:t>
            </a:r>
            <a:endParaRPr b="0" lang="en-US" sz="28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ode broadcasts its state information after the elapse of every</a:t>
            </a:r>
            <a:r>
              <a:rPr b="1" lang="en-US" sz="2400" spc="-1" strike="noStrike">
                <a:solidFill>
                  <a:srgbClr val="000000"/>
                </a:solidFill>
                <a:latin typeface="Tahoma"/>
              </a:rPr>
              <a:t> </a:t>
            </a:r>
            <a:r>
              <a:rPr b="0" i="1" lang="en-US" sz="2400" spc="-1" strike="noStrike">
                <a:solidFill>
                  <a:srgbClr val="000000"/>
                </a:solidFill>
                <a:latin typeface="Tahoma"/>
              </a:rPr>
              <a:t>T</a:t>
            </a:r>
            <a:r>
              <a:rPr b="1" lang="en-US" sz="2400" spc="-1" strike="noStrike">
                <a:solidFill>
                  <a:srgbClr val="000000"/>
                </a:solidFill>
                <a:latin typeface="Tahoma"/>
              </a:rPr>
              <a:t> </a:t>
            </a:r>
            <a:r>
              <a:rPr b="0" lang="en-US" sz="2400" spc="-1" strike="noStrike">
                <a:solidFill>
                  <a:srgbClr val="000000"/>
                </a:solidFill>
                <a:latin typeface="Tahoma"/>
              </a:rPr>
              <a:t>units of time</a:t>
            </a:r>
            <a:endParaRPr b="0" lang="en-US" sz="24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heavy traffic, fruitless messages, poor scalability since information exchange is too large for networks having many nodes</a:t>
            </a:r>
            <a:endParaRPr b="0" lang="en-US" sz="2400" spc="-1" strike="noStrike">
              <a:solidFill>
                <a:srgbClr val="000000"/>
              </a:solidFill>
              <a:latin typeface="Tahoma"/>
            </a:endParaRPr>
          </a:p>
          <a:p>
            <a:pPr marL="301680" indent="-3016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adcast when state changes</a:t>
            </a:r>
            <a:endParaRPr b="0" lang="en-US" sz="28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s fruitless messages by broadcasting the state only when a process arrives or departures </a:t>
            </a:r>
            <a:endParaRPr b="0" lang="en-US" sz="2400" spc="-1" strike="noStrike">
              <a:solidFill>
                <a:srgbClr val="000000"/>
              </a:solidFill>
              <a:latin typeface="Tahoma"/>
            </a:endParaRPr>
          </a:p>
          <a:p>
            <a:pPr lvl="1" marL="653760" indent="-2512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improvement is to broadcast only when state switches to another region (double-threshold policy)</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C3963AB-FB1C-4096-91F0-240703E23A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I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demand exchange</a:t>
            </a:r>
            <a:endParaRPr b="0" lang="en-US" sz="28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method a node broadcast a State-Information-Request message when its state switches from normal to either underloaded or overloaded region.</a:t>
            </a:r>
            <a:endParaRPr b="0" lang="en-US" sz="24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receiving this message other nodes reply with their own state information to the requesting node</a:t>
            </a:r>
            <a:endParaRPr b="0" lang="en-US" sz="24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improvement can be that only those nodes reply which are useful to the requesting node</a:t>
            </a:r>
            <a:endParaRPr b="0" lang="en-US" sz="2400" spc="-1" strike="noStrike">
              <a:solidFill>
                <a:srgbClr val="000000"/>
              </a:solidFill>
              <a:latin typeface="Tahoma"/>
            </a:endParaRPr>
          </a:p>
          <a:p>
            <a:pPr marL="298440" indent="-2984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hange by polling</a:t>
            </a:r>
            <a:endParaRPr b="0" lang="en-US" sz="2800" spc="-1" strike="noStrike">
              <a:solidFill>
                <a:srgbClr val="000000"/>
              </a:solidFill>
              <a:latin typeface="Tahoma"/>
            </a:endParaRPr>
          </a:p>
          <a:p>
            <a:pPr lvl="1" marL="646200" indent="-2484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poor scalability (coming from broadcast messages) the partner node is searched by polling the other nodes on by one, until poll limit is reach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53FA3C6-C89B-4B06-9B74-6F09CFEDE9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iority assignment policy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fish</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processes are given higher priority than remote processes. Worst response time performance of the three policies.</a:t>
            </a:r>
            <a:endParaRPr b="0" lang="en-US" sz="2000" spc="-1" strike="noStrike">
              <a:solidFill>
                <a:srgbClr val="000000"/>
              </a:solidFill>
              <a:latin typeface="Tahoma"/>
            </a:endParaRPr>
          </a:p>
          <a:p>
            <a:pPr marL="322200" indent="-322200" algn="just">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ruistic</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te processes are given higher priority than local processes. Best response time performance of the three policies.</a:t>
            </a:r>
            <a:endParaRPr b="0" lang="en-US" sz="2000" spc="-1" strike="noStrike">
              <a:solidFill>
                <a:srgbClr val="000000"/>
              </a:solidFill>
              <a:latin typeface="Tahoma"/>
            </a:endParaRPr>
          </a:p>
          <a:p>
            <a:pPr marL="322200" indent="-322200" algn="just">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mediate</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number of local processes is greater or equal to the number of remote processes, local processes are given higher priority than remote processes. Otherwise, remote processes are given higher priority than local process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8679704-B072-43EE-A179-74D502A562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igration limiting policy</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olicy determines the total number of times a process can migrate</a:t>
            </a:r>
            <a:endParaRPr b="0" lang="en-US" sz="2800" spc="-1" strike="noStrike">
              <a:solidFill>
                <a:srgbClr val="000000"/>
              </a:solidFill>
              <a:latin typeface="Tahoma"/>
            </a:endParaRPr>
          </a:p>
          <a:p>
            <a:pPr lvl="1" marL="631440" indent="-2426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ontrolled</a:t>
            </a:r>
            <a:endParaRPr b="0" lang="en-US" sz="24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mote process arriving at a node is treated just as a process originating at a node, so a process may be migrated any number of times</a:t>
            </a:r>
            <a:endParaRPr b="0" lang="en-US" sz="2000" spc="-1" strike="noStrike">
              <a:solidFill>
                <a:srgbClr val="000000"/>
              </a:solidFill>
              <a:latin typeface="Tahoma"/>
            </a:endParaRPr>
          </a:p>
          <a:p>
            <a:pPr lvl="1" marL="631440" indent="-2426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led</a:t>
            </a:r>
            <a:endParaRPr b="0" lang="en-US" sz="24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s the instability of the uncontrolled policy</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 </a:t>
            </a:r>
            <a:r>
              <a:rPr b="0" i="1" lang="en-US" sz="2000" spc="-1" strike="noStrike">
                <a:solidFill>
                  <a:srgbClr val="000000"/>
                </a:solidFill>
                <a:latin typeface="Tahoma"/>
              </a:rPr>
              <a:t>migration count</a:t>
            </a:r>
            <a:r>
              <a:rPr b="0" lang="en-US" sz="2000" spc="-1" strike="noStrike">
                <a:solidFill>
                  <a:srgbClr val="000000"/>
                </a:solidFill>
                <a:latin typeface="Tahoma"/>
              </a:rPr>
              <a:t> parameter to fix a limit on the number of time a process can migrate</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rrevocable migration policy: </a:t>
            </a:r>
            <a:r>
              <a:rPr b="0" i="1" lang="en-US" sz="2000" spc="-1" strike="noStrike">
                <a:solidFill>
                  <a:srgbClr val="000000"/>
                </a:solidFill>
                <a:latin typeface="Tahoma"/>
              </a:rPr>
              <a:t>migration count</a:t>
            </a:r>
            <a:r>
              <a:rPr b="0" lang="en-US" sz="2000" spc="-1" strike="noStrike">
                <a:solidFill>
                  <a:srgbClr val="000000"/>
                </a:solidFill>
                <a:latin typeface="Tahoma"/>
              </a:rPr>
              <a:t> is fixed to 1</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long execution processes </a:t>
            </a:r>
            <a:r>
              <a:rPr b="0" i="1" lang="en-US" sz="2000" spc="-1" strike="noStrike">
                <a:solidFill>
                  <a:srgbClr val="000000"/>
                </a:solidFill>
                <a:latin typeface="Tahoma"/>
              </a:rPr>
              <a:t>migration count</a:t>
            </a:r>
            <a:r>
              <a:rPr b="0" lang="en-US" sz="2000" spc="-1" strike="noStrike">
                <a:solidFill>
                  <a:srgbClr val="000000"/>
                </a:solidFill>
                <a:latin typeface="Tahoma"/>
              </a:rPr>
              <a:t> must be greater than 1 to adapt for dynamically changing stat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4FCC7FC-5F73-479A-8B8E-8BA0194C7F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sharing approach</a:t>
            </a:r>
            <a:endParaRPr b="0" lang="en-US" sz="4000" spc="-1" strike="noStrike">
              <a:solidFill>
                <a:srgbClr val="000000"/>
              </a:solidFill>
              <a:latin typeface="Arial Black"/>
            </a:endParaRPr>
          </a:p>
        </p:txBody>
      </p:sp>
      <p:sp>
        <p:nvSpPr>
          <p:cNvPr id="17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backs of Load-balancing approach</a:t>
            </a:r>
            <a:endParaRPr b="0" lang="en-US" sz="24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balancing technique with attempting equalizing the workload on all the nodes is not an appropriate object since big overhead is generated by gathering exact state information</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balancing is not achievable since number of processes in a node is always fluctuating and temporal unbalance among the nodes exists every moment</a:t>
            </a:r>
            <a:endParaRPr b="0" lang="en-US" sz="2000" spc="-1" strike="noStrike">
              <a:solidFill>
                <a:srgbClr val="000000"/>
              </a:solidFill>
              <a:latin typeface="Tahoma"/>
            </a:endParaRPr>
          </a:p>
          <a:p>
            <a:pPr marL="291600" indent="-2916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ideas for Load-sharing approach</a:t>
            </a:r>
            <a:endParaRPr b="0" lang="en-US" sz="24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necessary and sufficient to prevent nodes from being idle while some other nodes have more than two processes</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sharing is much simpler than load-balancing since it only attempts to ensure that no node is idle when heavily node exists</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ority assignment policy and migration limiting policy are the same as that for the load-balancing algorithm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5C2D584-691C-4034-8C21-874763C449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of process scheduling techniques</a:t>
            </a:r>
            <a:endParaRPr b="0" lang="en-US" sz="4000" spc="-1" strike="noStrike">
              <a:solidFill>
                <a:srgbClr val="000000"/>
              </a:solidFill>
              <a:latin typeface="Arial Black"/>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k assignment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processes are collections of related tasks</a:t>
            </a:r>
            <a:endParaRPr b="0" lang="en-US" sz="28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re scheduled to improve performance</a:t>
            </a:r>
            <a:endParaRPr b="0" lang="en-US" sz="28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ad-balancing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re distributed among nodes so as to equalize the workload of nodes of the system</a:t>
            </a:r>
            <a:endParaRPr b="0" lang="en-US" sz="28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ad-sharing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y attempts to avoid idle nodes while processes wait for being process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C7AC5EE-CD1A-42AF-B82C-DB99FAA106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ies</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load-sharing algorithms simply attempt to avoid idle nodes, it is sufficient to know whether a node is busy or idle</a:t>
            </a:r>
            <a:endParaRPr b="0" lang="en-US" sz="2800" spc="-1" strike="noStrike">
              <a:solidFill>
                <a:srgbClr val="000000"/>
              </a:solidFill>
              <a:latin typeface="Tahoma"/>
            </a:endParaRPr>
          </a:p>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us these algorithms normally employ the simplest load estimation policy of counting the total number of processes</a:t>
            </a:r>
            <a:endParaRPr b="0" lang="en-US" sz="2800" spc="-1" strike="noStrike">
              <a:solidFill>
                <a:srgbClr val="000000"/>
              </a:solidFill>
              <a:latin typeface="Tahoma"/>
            </a:endParaRPr>
          </a:p>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odern systems where permanent existence of several processes on an idle node is possible, algorithms measure CPU utilization to estimate the load of a nod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E324450-25EA-4D35-8E2E-05C21A2D14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ies</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gorithms normally use all-or-nothing strategy</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trategy uses the threshold value of all the nodes fixed to 1</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des become receiver node when it has no process, and become sender node when it has more than 1 process</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processing power on nodes having zero process load-sharing algorithms use a threshold value of 2 instead of 1</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CPU utilization is used as the load estimation policy, the double-threshold policy should be used as the process transfer polic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D760556-EE8C-41A6-9F9A-40B01E048C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policy decides whether the sender node or the receiver node of the process takes the initiative to search for suitable node in the system, and this policy can be the following:</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location policy</a:t>
            </a:r>
            <a:endParaRPr b="0" lang="en-US" sz="24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node decides where to send the proces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vily loaded nodes search for lightly loaded nodes</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location policy</a:t>
            </a:r>
            <a:endParaRPr b="0" lang="en-US" sz="24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iver node decides from where to get the proces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ghtly loaded nodes search for heavily loaded nod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748053E-456E-47D7-8C3C-6390FAFD1F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location policy</a:t>
            </a:r>
            <a:endParaRPr b="0" lang="en-US" sz="24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 becomes overloaded, it either broadcasts or randomly probes the other nodes one by one to find a node that is able to receive remote processes</a:t>
            </a:r>
            <a:endParaRPr b="0" lang="en-US" sz="20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broadcasting, suitable node is known as soon as reply arrives</a:t>
            </a:r>
            <a:endParaRPr b="0" lang="en-US" sz="2000" spc="-1" strike="noStrike">
              <a:solidFill>
                <a:srgbClr val="000000"/>
              </a:solidFill>
              <a:latin typeface="Tahoma"/>
            </a:endParaRPr>
          </a:p>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location policy</a:t>
            </a:r>
            <a:endParaRPr b="0" lang="en-US" sz="24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s becomes underloaded, it either broadcast or  randomly probes the other nodes one by one to indicate its willingness to receive remote processes</a:t>
            </a:r>
            <a:endParaRPr b="0" lang="en-US" sz="2000" spc="-1" strike="noStrike">
              <a:solidFill>
                <a:srgbClr val="000000"/>
              </a:solidFill>
              <a:latin typeface="Tahoma"/>
            </a:endParaRPr>
          </a:p>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policy require preemptive process migration facility since scheduling decisions are usually made at process departure epoch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B9048D9-651A-498B-BE9A-4868CEC8CA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I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riences with location policies</a:t>
            </a:r>
            <a:endParaRPr b="0" lang="en-US" sz="28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policies gives substantial performance advantages over the situation in which no load-sharing is attempted</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policy is preferable at light to moderate system loads</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policy is preferable at high system loads</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policy provide better performance for the case when process transfer cost significantly more at receiver-initiated than at sender-initiated policy due to the preemptive transfer of process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AA8E134-9D86-4137-9F74-D64F01FA26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ies </a:t>
            </a: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sharing algorithms it is not necessary for the nodes to periodically exchange state information, but needs to know the state of other nodes when it is either underloaded or overloaded</a:t>
            </a:r>
            <a:endParaRPr b="0" lang="en-US" sz="2000" spc="-1" strike="noStrike">
              <a:solidFill>
                <a:srgbClr val="000000"/>
              </a:solidFill>
              <a:latin typeface="Tahoma"/>
            </a:endParaRPr>
          </a:p>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cast when state changes</a:t>
            </a:r>
            <a:endParaRPr b="0" lang="en-US" sz="20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sender-initiated/receiver-initiated location policy a node broadcasts State Information Request when it becomes overloaded/underload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called broadcast-when-idle policy when receiver-initiated policy is used with fixed threshold value value of 1</a:t>
            </a:r>
            <a:endParaRPr b="0" lang="en-US" sz="1800" spc="-1" strike="noStrike">
              <a:solidFill>
                <a:srgbClr val="000000"/>
              </a:solidFill>
              <a:latin typeface="Tahoma"/>
            </a:endParaRPr>
          </a:p>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l when state changes</a:t>
            </a:r>
            <a:endParaRPr b="0" lang="en-US" sz="20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large networks polling mechanism is us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ling mechanism randomly asks different nodes for state information until find an appropriate one or probe limit is reach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called poll-when-idle policy when receiver-initiated policy is used with fixed threshold value value of 1</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90F2960-84AB-4619-95A6-840E0ACEE1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UMMARY</a:t>
            </a:r>
            <a:endParaRPr b="0" lang="en-US" sz="3600" spc="-1" strike="noStrike">
              <a:solidFill>
                <a:srgbClr val="000000"/>
              </a:solidFill>
              <a:latin typeface="Arial Black"/>
            </a:endParaRPr>
          </a:p>
        </p:txBody>
      </p:sp>
      <p:sp>
        <p:nvSpPr>
          <p:cNvPr id="189"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manager of a distributed system schedules the processes to optimize combination of resources usage, response time, network congestion, scheduling overhead</a:t>
            </a:r>
            <a:endParaRPr b="0" lang="en-US" sz="2400" spc="-1" strike="noStrike">
              <a:solidFill>
                <a:srgbClr val="000000"/>
              </a:solidFill>
              <a:latin typeface="Tahoma"/>
            </a:endParaRPr>
          </a:p>
          <a:p>
            <a:pPr marL="318960" indent="-31896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different approaches has been discussed</a:t>
            </a:r>
            <a:endParaRPr b="0" lang="en-US" sz="24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 assignment approach deals with the assignment of task in order to minimize inter process communication costs and improve turnaround time for the complete process, by taking some constraints into account</a:t>
            </a:r>
            <a:endParaRPr b="0" lang="en-US" sz="20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balancing approach the process assignment decisions attempt to equalize the avarage workload on all the nodes of the system</a:t>
            </a:r>
            <a:endParaRPr b="0" lang="en-US" sz="20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sharing approach the process assignment decisions attempt to keep all the nodes busy if there are sufficient processes in the system for all the nod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B1C9D04-E839-41D2-808B-8B53BB0A54C8}"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A Priori Knowledge about Processes</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does not want to specify information about characteristic and requirements</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namic in natur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sion should be based on the changing load of nodes and not on fixed static policy</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ick decision-making capability</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gorithm must make quick decision about the assignment of task to nodes of syste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3A988C0-C6F5-4E0E-BAB1-C6A6E20F87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I.</a:t>
            </a: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ed system performance and scheduling overhead</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 amount of information gives more intelligent decision, but increases overhead</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bility</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stable when all processes are migrating without accomplishing any useful work</a:t>
            </a:r>
            <a:endParaRPr b="0" lang="en-US" sz="28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ccurs when the nodes turn from lightly-loaded to heavily-loaded state and vice versa</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9B4E4E8-F3B9-4F58-B2CD-8132CDF4F8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II.</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lability</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cheduling algorithm should be capable of handling small as well as large networks</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ult toleranc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be capable of working after the crash of one or more nodes of the system</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irness of Servic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users initiating equivalent processes expect to receive the same quality of servi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EA311E6-2BF2-4B86-B2E4-435E006C39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assignment approach</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assumptions</a:t>
            </a:r>
            <a:endParaRPr b="0" lang="en-US" sz="32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have been split into tasks</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 requirement of tasks and speed of processor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of processing tasks on node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cost between every pair of task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requirements and available resources on node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ssignment of tasks are not possibl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1D4498F-B1E1-4128-82F1-3AA70EB97C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assignment approach</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idea: Finding an optimal assignment to achieve goals such as the following:</a:t>
            </a:r>
            <a:endParaRPr b="0" lang="en-US" sz="32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ization of IPC costs</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ck turnaround time of process</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degree of parallelism</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icient utilization of resourc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D389A6B-A28B-4E75-9CCB-251CFFE75E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axonomy of Load-Balancing Algorithms</a:t>
            </a:r>
            <a:endParaRPr b="0" lang="en-US" sz="3200" spc="-1" strike="noStrike">
              <a:solidFill>
                <a:srgbClr val="000000"/>
              </a:solidFill>
              <a:latin typeface="Tahoma"/>
            </a:endParaRPr>
          </a:p>
        </p:txBody>
      </p:sp>
      <p:sp>
        <p:nvSpPr>
          <p:cNvPr id="101"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endParaRPr b="0" lang="en-US" sz="4000" spc="-1" strike="noStrike">
              <a:solidFill>
                <a:srgbClr val="000000"/>
              </a:solidFill>
              <a:latin typeface="Arial Black"/>
            </a:endParaRPr>
          </a:p>
        </p:txBody>
      </p:sp>
      <p:grpSp>
        <p:nvGrpSpPr>
          <p:cNvPr id="102" name=""/>
          <p:cNvGrpSpPr/>
          <p:nvPr/>
        </p:nvGrpSpPr>
        <p:grpSpPr>
          <a:xfrm>
            <a:off x="228600" y="1981080"/>
            <a:ext cx="8763120" cy="3583800"/>
            <a:chOff x="228600" y="1981080"/>
            <a:chExt cx="8763120" cy="3583800"/>
          </a:xfrm>
        </p:grpSpPr>
        <p:sp>
          <p:nvSpPr>
            <p:cNvPr id="103" name=""/>
            <p:cNvSpPr/>
            <p:nvPr/>
          </p:nvSpPr>
          <p:spPr>
            <a:xfrm>
              <a:off x="1828800" y="198108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ad-balancing algorithms</a:t>
              </a:r>
              <a:endParaRPr b="0" lang="en-US" sz="2800" spc="-1" strike="noStrike">
                <a:solidFill>
                  <a:srgbClr val="000000"/>
                </a:solidFill>
                <a:latin typeface="Times New Roman"/>
              </a:endParaRPr>
            </a:p>
          </p:txBody>
        </p:sp>
        <p:sp>
          <p:nvSpPr>
            <p:cNvPr id="104" name=""/>
            <p:cNvSpPr/>
            <p:nvPr/>
          </p:nvSpPr>
          <p:spPr>
            <a:xfrm>
              <a:off x="4952880" y="297144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0000"/>
                </a:solidFill>
                <a:latin typeface="Times New Roman"/>
              </a:endParaRPr>
            </a:p>
          </p:txBody>
        </p:sp>
        <p:sp>
          <p:nvSpPr>
            <p:cNvPr id="105" name=""/>
            <p:cNvSpPr/>
            <p:nvPr/>
          </p:nvSpPr>
          <p:spPr>
            <a:xfrm>
              <a:off x="1447920" y="297144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a:t>
              </a:r>
              <a:endParaRPr b="0" lang="en-US" sz="2400" spc="-1" strike="noStrike">
                <a:solidFill>
                  <a:srgbClr val="000000"/>
                </a:solidFill>
                <a:latin typeface="Times New Roman"/>
              </a:endParaRPr>
            </a:p>
          </p:txBody>
        </p:sp>
        <p:sp>
          <p:nvSpPr>
            <p:cNvPr id="106" name=""/>
            <p:cNvSpPr/>
            <p:nvPr/>
          </p:nvSpPr>
          <p:spPr>
            <a:xfrm>
              <a:off x="22860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stic</a:t>
              </a:r>
              <a:endParaRPr b="0" lang="en-US" sz="2400" spc="-1" strike="noStrike">
                <a:solidFill>
                  <a:srgbClr val="000000"/>
                </a:solidFill>
                <a:latin typeface="Times New Roman"/>
              </a:endParaRPr>
            </a:p>
          </p:txBody>
        </p:sp>
        <p:sp>
          <p:nvSpPr>
            <p:cNvPr id="107" name=""/>
            <p:cNvSpPr/>
            <p:nvPr/>
          </p:nvSpPr>
          <p:spPr>
            <a:xfrm>
              <a:off x="220968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a:t>
              </a:r>
              <a:endParaRPr b="0" lang="en-US" sz="2400" spc="-1" strike="noStrike">
                <a:solidFill>
                  <a:srgbClr val="000000"/>
                </a:solidFill>
                <a:latin typeface="Times New Roman"/>
              </a:endParaRPr>
            </a:p>
          </p:txBody>
        </p:sp>
        <p:sp>
          <p:nvSpPr>
            <p:cNvPr id="108" name=""/>
            <p:cNvSpPr/>
            <p:nvPr/>
          </p:nvSpPr>
          <p:spPr>
            <a:xfrm>
              <a:off x="396252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ized</a:t>
              </a:r>
              <a:endParaRPr b="0" lang="en-US" sz="2400" spc="-1" strike="noStrike">
                <a:solidFill>
                  <a:srgbClr val="000000"/>
                </a:solidFill>
                <a:latin typeface="Times New Roman"/>
              </a:endParaRPr>
            </a:p>
          </p:txBody>
        </p:sp>
        <p:sp>
          <p:nvSpPr>
            <p:cNvPr id="109" name=""/>
            <p:cNvSpPr/>
            <p:nvPr/>
          </p:nvSpPr>
          <p:spPr>
            <a:xfrm>
              <a:off x="579132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a:t>
              </a:r>
              <a:endParaRPr b="0" lang="en-US" sz="2400" spc="-1" strike="noStrike">
                <a:solidFill>
                  <a:srgbClr val="000000"/>
                </a:solidFill>
                <a:latin typeface="Times New Roman"/>
              </a:endParaRPr>
            </a:p>
          </p:txBody>
        </p:sp>
        <p:sp>
          <p:nvSpPr>
            <p:cNvPr id="110" name=""/>
            <p:cNvSpPr/>
            <p:nvPr/>
          </p:nvSpPr>
          <p:spPr>
            <a:xfrm>
              <a:off x="4876920" y="5105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perative</a:t>
              </a:r>
              <a:endParaRPr b="0" lang="en-US" sz="2400" spc="-1" strike="noStrike">
                <a:solidFill>
                  <a:srgbClr val="000000"/>
                </a:solidFill>
                <a:latin typeface="Times New Roman"/>
              </a:endParaRPr>
            </a:p>
          </p:txBody>
        </p:sp>
        <p:sp>
          <p:nvSpPr>
            <p:cNvPr id="111" name=""/>
            <p:cNvSpPr/>
            <p:nvPr/>
          </p:nvSpPr>
          <p:spPr>
            <a:xfrm>
              <a:off x="6781680" y="510516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cooperative</a:t>
              </a:r>
              <a:endParaRPr b="0" lang="en-US" sz="2400" spc="-1" strike="noStrike">
                <a:solidFill>
                  <a:srgbClr val="000000"/>
                </a:solidFill>
                <a:latin typeface="Times New Roman"/>
              </a:endParaRPr>
            </a:p>
          </p:txBody>
        </p:sp>
        <p:sp>
          <p:nvSpPr>
            <p:cNvPr id="112" name=""/>
            <p:cNvSpPr/>
            <p:nvPr/>
          </p:nvSpPr>
          <p:spPr>
            <a:xfrm flipV="1">
              <a:off x="2286000" y="2437920"/>
              <a:ext cx="175248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a:off x="4114440" y="2437920"/>
              <a:ext cx="160020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219320" y="3352320"/>
              <a:ext cx="99036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2286000" y="335232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724280" y="3352320"/>
              <a:ext cx="99072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5791320" y="335232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5715000" y="4342680"/>
              <a:ext cx="99072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6781680" y="4342680"/>
              <a:ext cx="91440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8F20314-DE34-4239-9CC5-19248C838D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3T15:11:20Z</dcterms:created>
  <dc:creator>LPDS</dc:creator>
  <dc:description/>
  <dc:language>en-US</dc:language>
  <cp:lastModifiedBy>ITEC</cp:lastModifiedBy>
  <dcterms:modified xsi:type="dcterms:W3CDTF">2000-10-05T15:24:17Z</dcterms:modified>
  <cp:revision>53</cp:revision>
  <dc:subject/>
  <dc:title>Resource Management</dc:title>
</cp:coreProperties>
</file>