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76212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ormális Módszer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371600" y="205740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ormal Methods Specification and Analysis Guidebook for Verification of Software and Computer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CE"/>
                <a:ea typeface="Arial CE"/>
              </a:rPr>
              <a:t>Volume I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CE"/>
                <a:ea typeface="Arial CE"/>
              </a:rPr>
              <a:t>Practitioner`s Compa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80880" y="76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övetelmények és Formális Módszer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1143000"/>
            <a:ext cx="9142560" cy="571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övetelmények oly módon való felállítása, hogy a késöbbi formá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nalízist segít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ilyen szinten fogalmazzuk meg a követelmények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 tervezés korai fázisaiban célszer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bsztrakt mód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ennyire legyen explicit, mennyire egyértelm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él a precíz, egyértelmû, tiszta és komplett leírás, olyan értelemben, hogy a megszorításokat, feltételeket egyértelmûen tisztázzuk, anélkül, hogy az alacsonyszintû illetve implementációs részletekbe belemenné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 rendszer müködési környezetérõl is nyilatkozni kell, határoló vonalaknak tisztán kell látszania, explicit nyilatkozni a környezeti mennyiségekrõl (pl. nyomá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ilyen fokon következnek belõle a rendszer komponense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 rendszerszintû követelmény leírásból egyértelmûen megkülönböztethetõnek kell lenniük a komponenseknek, interfaceknek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ennyire bõvíthetõ a leírá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094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övetelmények Ellenõrzé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4920" y="11430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lcsóbb a hibákat a követelményeknél vagy a tervezés kor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ázisában megtalál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ézi vizsgál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alk-through vizsgá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agan stílusú vizsgála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llenõrzõ csoport: Moderátor, Szerzõ, Olvasó, Tesztel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általában ellenõrzõ hibal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ASA: “Software Formal Inspec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ervez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áttekin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lõkészí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egfigyelõ találkoz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harmadik ó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átdolgoz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utókezel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289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l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094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ode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04920" y="152388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endszer matematikai reprezentáció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 modellezett rendszer tulajdonságainak jóslására vagy számolásá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ormális logikabeli terminológiával: matematikai reprezentáció, mely kielégíti az axiomák egy halmazá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xiomák modellje: az axiomák konzisztens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094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atematikai Modell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04920" y="137160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bsztrak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lényegre törekvés: zavaró részletek elkerül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úl korai implementációs részletek elkerül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ókus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 modell definiál egy teret, melyet késöbb bejár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 tér határa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ifejezõképes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nalitikus lehetõség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ntui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ntossá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094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ormális Módszerek Jelenté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920" y="137160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ormális módszerek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logikai és diszkrét matematikai technikák használata számítógépes rendszerek és szoftverek specifikációjára, tervezésére és konstrukciójá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ormális logik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érvelési módszerek, melyek érvényesek az alakuknál fogva, és függetlenek a jelentésüktõ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élja: csökkenteni az emberi intuiciót az érvelés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ormális módszere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nalitikus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használatával meghatározhatju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gy leírás konzisztenciájá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dott tulajdonságok követekeznek-e az adott követelményekbõ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ervezés szintjei következnek-e egymásbó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ormális módszere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leírhatjuk 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övetelményeket, tervezést magas szinten annak tisztázása vége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ervezést, hogy a kommunikációt megkönnyítsü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094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ormalizáció Mérté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6320" y="106668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ormalizáció növelése: számítógépes segítségtõl való függés növelé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Logika és diszkrét matematika jelölések és koncepció használata, hogy pontosabb sepcifikációt és követelmény rendszert kapjunk. Analízis, ha van, nem formál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7 metodológia, CASE és objektum-orientált modellezési technikák, Cleanroom metodológia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Gépiesített segítséggel rendelkezõ formalizált specifikációs nyelv használ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zintakszis ellenõrzés, típus ellenõrzés, interpreter, szimulációs eszközök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Larch, RAISE, SDL, VDM, Z, SCR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zigorú szemantikával rendelkezõ formális specifikációs nyelv használata, és gépiesített segítséggel ellátott formális bizonyítási módszerek használ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HOL, Nqthm, ACL2, EVES, PVS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de tartozik még: állapottér bejárás, model ellenõrzés, nyelv belefoglalás, …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094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ormalizáció Terüle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04920" y="137160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ejlesztés életciklusának szintj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rai fázisokban a formális módszerek használatának nagyobb az elõnye: korábban fedezzük fel a hibá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endszer komponens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agy rendszerek kisebbekre vannak particionálva, nem mindegyik alrendszer kritik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ritikus pontokban érdemes használ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endszer funkcionalí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 rendszer viselkedése korrekt-e, az elvárt tulajdonságokat produká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éha más szempont: a rendszer nem viselkedik bizonyos módok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094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lvárás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04920" y="137160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ormális módszerek nem csodas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használatával korábban fedezhetünk fel hibákat, mint külön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ugyanez elmondható más kvázi-formális módszerek használatáról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datfolyam diagram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seudokó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ormális módszerekkel a lényegre koncentrálu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isebb az esélye, hogy “elkalandozun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edukciós technikát alkalmazó módszerek, illetve az állapottér bejárását alkalmazó módszerekkel a rendsz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összes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viselkedését megnézzü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ás technikákkal (szimuláció, tesztelés, …) ez nem lehetsé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094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 Módsz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4920" y="114300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nkább iteratív, mint szekvenciális fázisok. A fázisok közt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határvonal nem é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arakterizációs fáz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it csinálunk? A feladat meghatározá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odellezési fáz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efiniáljuk a feladathoz leginkább illõ matematikai reprezentáció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pecifikációs fáz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ormalizáljuk a feladat lényeges pontjait, és azok müködési környezeté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nalízis fáz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llenõrizzük a specifikációt: “lejátszuk”, kritikus pontokat bizonyítjuk, hierarchia korrektségét ellnõrizzük,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kumentációs fáz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zervíz és általanosí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teráció, ellenõrzé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094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 Módsz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137160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ormális módszerek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pecifikációs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é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nalízis fáz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támogatjak gépi eszközökk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11360" y="2514600"/>
            <a:ext cx="8432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dszer Követelmény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094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övetelmény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914400"/>
            <a:ext cx="8534520" cy="59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övetelmény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eltételek és képességek halmaza, melyeket a rendszer vagy komponenseinek teljesíteniük kell, és melyek egy valamilyen (standard, megegyezés, …) módon dokumentálva vanna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 rendszer lényegérõl tett kijelntések, melyeket tipikusan a tervezés legelején, korai fázisában tesznek, és segíti a rendszer fejlesztését, implementációját és fenntartásá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ipikus életciklus folyamat tartalma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övetelmény definíció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endszer terv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agasszintû terv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lacsonyszintû terv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ódolás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esztelé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upporto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zervíz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ávorszky Judit</dc:creator>
  <dc:description/>
  <dc:language>en-US</dc:language>
  <cp:lastModifiedBy>Jávorszky Judit</cp:lastModifiedBy>
  <cp:revision>0</cp:revision>
  <dc:subject/>
  <dc:title>Formális Módszerek</dc:title>
</cp:coreProperties>
</file>