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6E3-4263-409F-B6B4-C6E2DA40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A94-EF03-4C45-9442-A4B57F7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5E3-1E7F-42E9-9139-7FCA7B9C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7B6-96DC-4A5A-8414-D99AF6D7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BE0-F29D-4AB2-84B6-EBB0946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289-B2C3-4781-B0AB-61D8BAB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1BC-67C0-4006-8811-01085D8A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4C1-C687-4D43-83F8-BA2E7A9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1A4-DF78-4207-BF0F-A3543BDF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13A-E75D-4496-9408-0FD8732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13C-854F-4D7D-97F3-9E7249B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4CD-2B30-42F9-946F-D58AB34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299-B99E-4ECA-9B14-69979A161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 rendelkezésre állású számítógép architektúrá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apcsolat a külvilágg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981080"/>
          <a:ext cx="7566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ibamentes műkö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9880" y="2128680"/>
          <a:ext cx="756576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128680"/>
                    <a:ext cx="756576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 hatás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hiba „elrejtés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ftver rétegző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élda a rétegződés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Unixware Reliant 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ivát hálózat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kommunik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informáci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onensek monitoro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kalmazások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ogrammódosítás nem k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sztés a rendszerhe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-függőségi f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őforrás-függőségi f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1480" y="1822320"/>
          <a:ext cx="734688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822320"/>
                    <a:ext cx="73468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Oracle Paralell Ser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75661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lgáltatásminősé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elkezésre állás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nö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eciális hardverre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drá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kedelmi elemekbő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imális többlet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7760" y="1460520"/>
          <a:ext cx="65595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460520"/>
                    <a:ext cx="65595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9880" y="4419720"/>
                <a:ext cx="46609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olgáltatá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ss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árhuzamosítás problémá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Adatkonzisztenci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izto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konkurre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ás és olvas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zára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ez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gyorsítótá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köd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senyhelyz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old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kerülés, minimal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lkalmazások párhuzamosíthatósá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7920" y="2203560"/>
          <a:ext cx="747396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3560"/>
                    <a:ext cx="74739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elépített 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880" y="1936800"/>
          <a:ext cx="81597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936800"/>
                    <a:ext cx="815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ógép klasz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ól haszn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rendelkezésre állá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kímé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namikusan, egyszerűen bőv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0" y="4282920"/>
          <a:ext cx="41911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82920"/>
                    <a:ext cx="41911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ltség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1981080"/>
          <a:ext cx="864072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64072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laszter koncep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Klasz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utonó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zerverek csopor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gyetl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feldolgozó egységként jeleni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3124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HA biztosí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számító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ivát háló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isz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tkonfigurálhatós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1752480"/>
          <a:ext cx="53596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359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skálá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teljesít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 legyen a rendszernek kritikus pont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utomat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detekt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korrek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konfigurá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ind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elkezésre ál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ardver felépí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2438280"/>
          <a:ext cx="756612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56612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14479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egyszerűsített mod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utonóm szerv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905120"/>
          <a:ext cx="756612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661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zös diszk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371600"/>
          <a:ext cx="75661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566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29000" y="54864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heléselosz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Szere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rivát hálóz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2240" y="1447920"/>
          <a:ext cx="756612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447920"/>
                    <a:ext cx="75661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8:00:52Z</dcterms:created>
  <dc:creator>Zoli</dc:creator>
  <dc:description/>
  <dc:language>en-US</dc:language>
  <cp:lastModifiedBy>Pataricza András</cp:lastModifiedBy>
  <cp:lastPrinted>1998-11-03T17:57:18Z</cp:lastPrinted>
  <dcterms:modified xsi:type="dcterms:W3CDTF">1999-10-15T08:57:52Z</dcterms:modified>
  <cp:revision>31</cp:revision>
  <dc:subject/>
  <dc:title>Nincs diacím</dc:title>
</cp:coreProperties>
</file>