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3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4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77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49480" y="857160"/>
            <a:ext cx="4559040" cy="3416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928440" y="4659480"/>
            <a:ext cx="5033880" cy="4076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3871800" y="0"/>
            <a:ext cx="30211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71800" y="9313920"/>
            <a:ext cx="302112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0" y="9313920"/>
            <a:ext cx="294336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0" y="0"/>
            <a:ext cx="294336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50920" y="857160"/>
            <a:ext cx="4556160" cy="34164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28440" y="4659480"/>
            <a:ext cx="503388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3871800" y="0"/>
            <a:ext cx="30211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871800" y="9313920"/>
            <a:ext cx="302112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0" y="9313920"/>
            <a:ext cx="294336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0" y="0"/>
            <a:ext cx="294336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9480" y="857160"/>
            <a:ext cx="4559040" cy="34164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28440" y="4659480"/>
            <a:ext cx="503388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3871800" y="0"/>
            <a:ext cx="30211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871800" y="9313920"/>
            <a:ext cx="302112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0" y="9313920"/>
            <a:ext cx="294336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0" y="0"/>
            <a:ext cx="294336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50920" y="857160"/>
            <a:ext cx="4556160" cy="34164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928440" y="4659480"/>
            <a:ext cx="503388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3871800" y="0"/>
            <a:ext cx="30211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871800" y="9313920"/>
            <a:ext cx="302112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0" y="9313920"/>
            <a:ext cx="294336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0" y="0"/>
            <a:ext cx="294336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9480" y="857160"/>
            <a:ext cx="4559040" cy="34164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928440" y="4659480"/>
            <a:ext cx="503388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3871800" y="0"/>
            <a:ext cx="30211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871800" y="9313920"/>
            <a:ext cx="302112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9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0" y="9313920"/>
            <a:ext cx="294336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0" y="0"/>
            <a:ext cx="294336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9480" y="857160"/>
            <a:ext cx="4559040" cy="34164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928440" y="4659480"/>
            <a:ext cx="503388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3871800" y="0"/>
            <a:ext cx="30211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871800" y="9313920"/>
            <a:ext cx="302112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0" y="9313920"/>
            <a:ext cx="294336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0" y="0"/>
            <a:ext cx="294336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9480" y="857160"/>
            <a:ext cx="4559040" cy="34164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928440" y="4659480"/>
            <a:ext cx="503388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3871800" y="0"/>
            <a:ext cx="30211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871800" y="9313920"/>
            <a:ext cx="302112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0" y="9313920"/>
            <a:ext cx="294336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0" y="0"/>
            <a:ext cx="294336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50920" y="857160"/>
            <a:ext cx="4556160" cy="34164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28440" y="4659480"/>
            <a:ext cx="503388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3871800" y="0"/>
            <a:ext cx="30211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871800" y="9313920"/>
            <a:ext cx="302112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0" y="9313920"/>
            <a:ext cx="294336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0" y="0"/>
            <a:ext cx="294336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9480" y="857160"/>
            <a:ext cx="4559040" cy="34164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928440" y="4659480"/>
            <a:ext cx="503388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>
            <a:off x="3871800" y="0"/>
            <a:ext cx="30211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871800" y="9313920"/>
            <a:ext cx="302112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0" y="9313920"/>
            <a:ext cx="294336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0" y="0"/>
            <a:ext cx="294336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9480" y="857160"/>
            <a:ext cx="4559040" cy="34164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928440" y="4659480"/>
            <a:ext cx="503388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3871800" y="0"/>
            <a:ext cx="30211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871800" y="9313920"/>
            <a:ext cx="302112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0" y="9313920"/>
            <a:ext cx="294336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0" y="0"/>
            <a:ext cx="294336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9480" y="857160"/>
            <a:ext cx="4559040" cy="34164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928440" y="4659480"/>
            <a:ext cx="503388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3871800" y="0"/>
            <a:ext cx="30211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71800" y="9313920"/>
            <a:ext cx="302112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0" y="9313920"/>
            <a:ext cx="294336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0" y="0"/>
            <a:ext cx="294336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50920" y="857160"/>
            <a:ext cx="4556160" cy="34164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928440" y="4659480"/>
            <a:ext cx="503388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/>
          <p:nvPr/>
        </p:nvSpPr>
        <p:spPr>
          <a:xfrm>
            <a:off x="3871800" y="0"/>
            <a:ext cx="30211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871800" y="9313920"/>
            <a:ext cx="302112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0" y="9313920"/>
            <a:ext cx="294336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0" y="0"/>
            <a:ext cx="294336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9480" y="857160"/>
            <a:ext cx="4559040" cy="34164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928440" y="4659480"/>
            <a:ext cx="503388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3871800" y="0"/>
            <a:ext cx="30211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3871800" y="9313920"/>
            <a:ext cx="302112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6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0" y="9313920"/>
            <a:ext cx="294336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0" y="0"/>
            <a:ext cx="294336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9480" y="857160"/>
            <a:ext cx="4559040" cy="34164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928440" y="4659480"/>
            <a:ext cx="503388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3871800" y="0"/>
            <a:ext cx="30211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871800" y="9313920"/>
            <a:ext cx="302112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0" y="9313920"/>
            <a:ext cx="294336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0" y="0"/>
            <a:ext cx="294336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9480" y="857160"/>
            <a:ext cx="4559040" cy="34164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928440" y="4659480"/>
            <a:ext cx="503388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/>
          <p:nvPr/>
        </p:nvSpPr>
        <p:spPr>
          <a:xfrm>
            <a:off x="3871800" y="0"/>
            <a:ext cx="30211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871800" y="9313920"/>
            <a:ext cx="302112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8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0" y="9313920"/>
            <a:ext cx="294336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0" y="0"/>
            <a:ext cx="294336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9480" y="857160"/>
            <a:ext cx="4559040" cy="34164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928440" y="4659480"/>
            <a:ext cx="503388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/>
          <p:nvPr/>
        </p:nvSpPr>
        <p:spPr>
          <a:xfrm>
            <a:off x="3871800" y="0"/>
            <a:ext cx="30211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871800" y="9313920"/>
            <a:ext cx="302112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9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0" y="9313920"/>
            <a:ext cx="294336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0" y="0"/>
            <a:ext cx="294336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9480" y="857160"/>
            <a:ext cx="4559040" cy="34164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928440" y="4659480"/>
            <a:ext cx="503388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/>
          <p:nvPr/>
        </p:nvSpPr>
        <p:spPr>
          <a:xfrm>
            <a:off x="3871800" y="0"/>
            <a:ext cx="30211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871800" y="9313920"/>
            <a:ext cx="302112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0" y="9313920"/>
            <a:ext cx="294336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0" y="0"/>
            <a:ext cx="294336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9480" y="857160"/>
            <a:ext cx="4559040" cy="34164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928440" y="4659480"/>
            <a:ext cx="503388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3871800" y="0"/>
            <a:ext cx="30211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871800" y="9313920"/>
            <a:ext cx="302112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0" y="9313920"/>
            <a:ext cx="294336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0" y="0"/>
            <a:ext cx="294336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9480" y="857160"/>
            <a:ext cx="4559040" cy="34164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928440" y="4659480"/>
            <a:ext cx="503388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/>
          <p:nvPr/>
        </p:nvSpPr>
        <p:spPr>
          <a:xfrm>
            <a:off x="3871800" y="0"/>
            <a:ext cx="30211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871800" y="9313920"/>
            <a:ext cx="302112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0" y="9313920"/>
            <a:ext cx="294336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0" y="0"/>
            <a:ext cx="294336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9480" y="857160"/>
            <a:ext cx="4559040" cy="34164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928440" y="4659480"/>
            <a:ext cx="503388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/>
          <p:nvPr/>
        </p:nvSpPr>
        <p:spPr>
          <a:xfrm>
            <a:off x="3871800" y="0"/>
            <a:ext cx="30211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871800" y="9313920"/>
            <a:ext cx="302112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0" y="9313920"/>
            <a:ext cx="294336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0" y="0"/>
            <a:ext cx="294336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9480" y="857160"/>
            <a:ext cx="4559040" cy="34164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928440" y="4659480"/>
            <a:ext cx="503388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"/>
          <p:cNvSpPr/>
          <p:nvPr/>
        </p:nvSpPr>
        <p:spPr>
          <a:xfrm>
            <a:off x="3871800" y="0"/>
            <a:ext cx="30211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871800" y="9313920"/>
            <a:ext cx="302112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0" y="9313920"/>
            <a:ext cx="294336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0" y="0"/>
            <a:ext cx="294336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50920" y="857160"/>
            <a:ext cx="4556160" cy="34164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928440" y="4659480"/>
            <a:ext cx="503388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871800" y="0"/>
            <a:ext cx="30211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871800" y="9313920"/>
            <a:ext cx="302112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0" y="9313920"/>
            <a:ext cx="294336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0" y="0"/>
            <a:ext cx="294336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9480" y="857160"/>
            <a:ext cx="4559040" cy="34164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928440" y="4659480"/>
            <a:ext cx="503388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3871800" y="0"/>
            <a:ext cx="30211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871800" y="9313920"/>
            <a:ext cx="302112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0" y="9313920"/>
            <a:ext cx="294336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0" y="0"/>
            <a:ext cx="294336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9480" y="857160"/>
            <a:ext cx="4559040" cy="34164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28440" y="4659480"/>
            <a:ext cx="503388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3871800" y="0"/>
            <a:ext cx="30211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871800" y="9313920"/>
            <a:ext cx="302112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0" y="9313920"/>
            <a:ext cx="294336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0" y="0"/>
            <a:ext cx="294336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9480" y="857160"/>
            <a:ext cx="4559040" cy="34164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928440" y="4659480"/>
            <a:ext cx="503388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3871800" y="0"/>
            <a:ext cx="30211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871800" y="9313920"/>
            <a:ext cx="302112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0" y="9313920"/>
            <a:ext cx="294336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0" y="0"/>
            <a:ext cx="294336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9480" y="857160"/>
            <a:ext cx="4559040" cy="34164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28440" y="4659480"/>
            <a:ext cx="503388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46160"/>
            <a:ext cx="8229600" cy="698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900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46160"/>
            <a:ext cx="8229600" cy="698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900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900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46160"/>
            <a:ext cx="8229600" cy="698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1426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1426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900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900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900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46160"/>
            <a:ext cx="8229600" cy="698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46160"/>
            <a:ext cx="8229600" cy="698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46160"/>
            <a:ext cx="8229600" cy="698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46160"/>
            <a:ext cx="8229600" cy="698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46160"/>
            <a:ext cx="8229600" cy="698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900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46160"/>
            <a:ext cx="8229600" cy="698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900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46160"/>
            <a:ext cx="8229600" cy="698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900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426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cce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ffff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67920" y="6186600"/>
            <a:ext cx="360144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Budapest University of Technology and Economics</a:t>
            </a:r>
            <a:br>
              <a:rPr sz="1100"/>
            </a:b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Department  of Measurement and Information System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465120" y="6095880"/>
            <a:ext cx="82152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919920" y="6337440"/>
            <a:ext cx="1765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C2486-D902-4B3D-A19B-5DFF57E47AE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ecff"/>
                </a:solidFill>
                <a:latin typeface="Arial"/>
              </a:rPr>
              <a:t>Fault Tolerant CORBA</a:t>
            </a:r>
            <a:br>
              <a:rPr sz="4800"/>
            </a:br>
            <a:r>
              <a:rPr b="1" lang="en-US" sz="4800" spc="-1" strike="noStrike">
                <a:solidFill>
                  <a:srgbClr val="ccecff"/>
                </a:solidFill>
                <a:latin typeface="Arial"/>
              </a:rPr>
              <a:t>(FT-CORBA) -</a:t>
            </a:r>
            <a:br>
              <a:rPr sz="4800"/>
            </a:br>
            <a:r>
              <a:rPr b="1" lang="en-US" sz="4800" spc="-1" strike="noStrike">
                <a:solidFill>
                  <a:srgbClr val="ccecff"/>
                </a:solidFill>
                <a:latin typeface="Arial"/>
              </a:rPr>
              <a:t>Modeling and Analysi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62120" y="3352680"/>
            <a:ext cx="777240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tván Majzik</a:t>
            </a:r>
            <a:br>
              <a:rPr sz="28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udapest University of Technology and Economics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artment of Measurement and Information Systems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June 2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ault Tolerance Infrastructur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295280" y="838080"/>
            <a:ext cx="6934320" cy="5181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371600" y="914400"/>
            <a:ext cx="6794640" cy="509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eplication Manage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Infrastructure controlled case: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649"/>
              </a:spcBef>
              <a:buClr>
                <a:srgbClr val="cce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ecff"/>
                </a:solidFill>
                <a:latin typeface="Arial"/>
              </a:rPr>
              <a:t>application: create_object() method of the RM</a:t>
            </a:r>
            <a:endParaRPr b="0" lang="en-US" sz="2600" spc="-1" strike="noStrike">
              <a:solidFill>
                <a:srgbClr val="ccecff"/>
              </a:solidFill>
              <a:latin typeface="Arial"/>
            </a:endParaRPr>
          </a:p>
          <a:p>
            <a:pPr lvl="1" marL="735480" indent="-282960">
              <a:spcBef>
                <a:spcPts val="649"/>
              </a:spcBef>
              <a:buClr>
                <a:srgbClr val="cce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ecff"/>
                </a:solidFill>
                <a:latin typeface="Arial"/>
              </a:rPr>
              <a:t>RM: invokes local factory objects on hosts</a:t>
            </a:r>
            <a:endParaRPr b="0" lang="en-US" sz="2600" spc="-1" strike="noStrike">
              <a:solidFill>
                <a:srgbClr val="ccecff"/>
              </a:solidFill>
              <a:latin typeface="Arial"/>
            </a:endParaRPr>
          </a:p>
          <a:p>
            <a:pPr lvl="1" marL="735480" indent="-282960">
              <a:spcBef>
                <a:spcPts val="649"/>
              </a:spcBef>
              <a:buClr>
                <a:srgbClr val="cce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ecff"/>
                </a:solidFill>
                <a:latin typeface="Arial"/>
              </a:rPr>
              <a:t>RM manages membership, consistency</a:t>
            </a:r>
            <a:endParaRPr b="0" lang="en-US" sz="2600" spc="-1" strike="noStrike">
              <a:solidFill>
                <a:srgbClr val="ccecff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Application controlled case: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649"/>
              </a:spcBef>
              <a:buClr>
                <a:srgbClr val="cce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ecff"/>
                </a:solidFill>
                <a:latin typeface="Arial"/>
              </a:rPr>
              <a:t>application’s responsibility to manage replicas</a:t>
            </a:r>
            <a:endParaRPr b="0" lang="en-US" sz="2600" spc="-1" strike="noStrike">
              <a:solidFill>
                <a:srgbClr val="ccecff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Parameters: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ReplicationStyle: stateless, cold / warm passive, active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MembershipStyle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onsistencyStyle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nitialNumberReplicas, MinimumNumberReplicas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ault Detection and Notific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Fault model: 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649"/>
              </a:spcBef>
              <a:buClr>
                <a:srgbClr val="cce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ecff"/>
                </a:solidFill>
                <a:latin typeface="Arial"/>
              </a:rPr>
              <a:t>object crash (incorrect results are not tolerated)</a:t>
            </a:r>
            <a:endParaRPr b="0" lang="en-US" sz="2600" spc="-1" strike="noStrike">
              <a:solidFill>
                <a:srgbClr val="ccecff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Fault detection by polling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649"/>
              </a:spcBef>
              <a:buClr>
                <a:srgbClr val="cce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ecff"/>
                </a:solidFill>
                <a:latin typeface="Arial"/>
              </a:rPr>
              <a:t>application objects inherit the PullMonitorable interface: is_alive() method</a:t>
            </a:r>
            <a:endParaRPr b="0" lang="en-US" sz="2600" spc="-1" strike="noStrike">
              <a:solidFill>
                <a:srgbClr val="ccecff"/>
              </a:solidFill>
              <a:latin typeface="Arial"/>
            </a:endParaRPr>
          </a:p>
          <a:p>
            <a:pPr lvl="1" marL="735480" indent="-282960">
              <a:spcBef>
                <a:spcPts val="649"/>
              </a:spcBef>
              <a:buClr>
                <a:srgbClr val="cce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ecff"/>
                </a:solidFill>
                <a:latin typeface="Arial"/>
              </a:rPr>
              <a:t>Fault Detector invokes it periodically</a:t>
            </a:r>
            <a:endParaRPr b="0" lang="en-US" sz="2600" spc="-1" strike="noStrike">
              <a:solidFill>
                <a:srgbClr val="ccecff"/>
              </a:solidFill>
              <a:latin typeface="Arial"/>
            </a:endParaRPr>
          </a:p>
          <a:p>
            <a:pPr lvl="1" marL="735480" indent="-282960">
              <a:spcBef>
                <a:spcPts val="649"/>
              </a:spcBef>
              <a:buClr>
                <a:srgbClr val="cce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ecff"/>
                </a:solidFill>
                <a:latin typeface="Arial"/>
              </a:rPr>
              <a:t>hierarchy of fault detectors</a:t>
            </a:r>
            <a:endParaRPr b="0" lang="en-US" sz="2600" spc="-1" strike="noStrike">
              <a:solidFill>
                <a:srgbClr val="ccecff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Fault notification and fault analysis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Parameters: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cce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Arial"/>
              </a:rPr>
              <a:t>FaultMonitoring (Style, Granularity, IntervalAndTimeout)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ogging and Recover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Application objects inherit: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e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ecff"/>
                </a:solidFill>
                <a:latin typeface="Arial"/>
              </a:rPr>
              <a:t>Checkpointable interface: get_state(), set_state()</a:t>
            </a:r>
            <a:endParaRPr b="0" lang="en-US" sz="2600" spc="-1" strike="noStrike">
              <a:solidFill>
                <a:srgbClr val="ccec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e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ecff"/>
                </a:solidFill>
                <a:latin typeface="Arial"/>
              </a:rPr>
              <a:t>Updateable interface: get_update(), set_update()</a:t>
            </a:r>
            <a:endParaRPr b="0" lang="en-US" sz="26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Logging Mechanism: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e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ecff"/>
                </a:solidFill>
                <a:latin typeface="Arial"/>
              </a:rPr>
              <a:t>storing GIOP messages</a:t>
            </a:r>
            <a:endParaRPr b="0" lang="en-US" sz="2600" spc="-1" strike="noStrike">
              <a:solidFill>
                <a:srgbClr val="ccec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e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ecff"/>
                </a:solidFill>
                <a:latin typeface="Arial"/>
              </a:rPr>
              <a:t>periodically storing state of the objects</a:t>
            </a:r>
            <a:endParaRPr b="0" lang="en-US" sz="26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Recovery Mechanism: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e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ecff"/>
                </a:solidFill>
                <a:latin typeface="Arial"/>
              </a:rPr>
              <a:t>restore object state and retrieve stored messages</a:t>
            </a:r>
            <a:endParaRPr b="0" lang="en-US" sz="26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Parameters: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e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Arial"/>
              </a:rPr>
              <a:t>CheckpointInterval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ent Failove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Identification of object groups: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e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ecff"/>
                </a:solidFill>
                <a:latin typeface="Arial"/>
              </a:rPr>
              <a:t>IOGR: interoperable object group reference</a:t>
            </a:r>
            <a:endParaRPr b="0" lang="en-US" sz="2600" spc="-1" strike="noStrike">
              <a:solidFill>
                <a:srgbClr val="ccec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e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ecff"/>
                </a:solidFill>
                <a:latin typeface="Arial"/>
              </a:rPr>
              <a:t>multiple IIOP profiles </a:t>
            </a:r>
            <a:br>
              <a:rPr sz="2600"/>
            </a:br>
            <a:r>
              <a:rPr b="0" lang="en-US" sz="2600" spc="-1" strike="noStrike">
                <a:solidFill>
                  <a:srgbClr val="ccecff"/>
                </a:solidFill>
                <a:latin typeface="Arial"/>
              </a:rPr>
              <a:t>addressing object group members or gateways</a:t>
            </a:r>
            <a:endParaRPr b="0" lang="en-US" sz="2600" spc="-1" strike="noStrike">
              <a:solidFill>
                <a:srgbClr val="ccecff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Basic mechanisms of the client ORB: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e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ecff"/>
                </a:solidFill>
                <a:latin typeface="Arial"/>
              </a:rPr>
              <a:t>retry all alternative IIOP profiles</a:t>
            </a:r>
            <a:endParaRPr b="0" lang="en-US" sz="2600" spc="-1" strike="noStrike">
              <a:solidFill>
                <a:srgbClr val="ccec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e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ecff"/>
                </a:solidFill>
                <a:latin typeface="Arial"/>
              </a:rPr>
              <a:t>transparent reinvocation of requests</a:t>
            </a:r>
            <a:br>
              <a:rPr sz="2600"/>
            </a:br>
            <a:r>
              <a:rPr b="0" lang="en-US" sz="2600" spc="-1" strike="noStrike">
                <a:solidFill>
                  <a:srgbClr val="ccecff"/>
                </a:solidFill>
                <a:latin typeface="Arial"/>
              </a:rPr>
              <a:t>(“at most once” execution semantics at the server)</a:t>
            </a:r>
            <a:endParaRPr b="0" lang="en-US" sz="2600" spc="-1" strike="noStrike">
              <a:solidFill>
                <a:srgbClr val="ccec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e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ecff"/>
                </a:solidFill>
                <a:latin typeface="Arial"/>
              </a:rPr>
              <a:t>heartbeating of the server</a:t>
            </a:r>
            <a:endParaRPr b="0" lang="en-US" sz="26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1374840" y="3043080"/>
            <a:ext cx="6851520" cy="393840"/>
            <a:chOff x="1374840" y="3043080"/>
            <a:chExt cx="6851520" cy="393840"/>
          </a:xfrm>
        </p:grpSpPr>
        <p:sp>
          <p:nvSpPr>
            <p:cNvPr id="76" name=""/>
            <p:cNvSpPr/>
            <p:nvPr/>
          </p:nvSpPr>
          <p:spPr>
            <a:xfrm>
              <a:off x="1374840" y="3051000"/>
              <a:ext cx="6851520" cy="37476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981080" y="3056040"/>
              <a:ext cx="0" cy="366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200400" y="3056040"/>
              <a:ext cx="0" cy="366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419720" y="3056040"/>
              <a:ext cx="0" cy="366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5715000" y="3056040"/>
              <a:ext cx="0" cy="366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350800" y="3043080"/>
              <a:ext cx="6890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IIOP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70120" y="3043080"/>
              <a:ext cx="6890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IIOP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65400" y="3043080"/>
              <a:ext cx="6890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IIOP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art II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447920" y="3048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Arial"/>
              </a:rPr>
              <a:t>Dependability Modeling of Object-Oriented Systems Described in UML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ependability Analys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Approach by A. Bondavalli, I. Majzik, I. Mura</a:t>
            </a:r>
            <a:br>
              <a:rPr sz="2000"/>
            </a:b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HIDE - High-level Integrated Design Environment for Dependability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2904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ESPRIT Open LTR No. 27493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29040"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cc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From UML-based models 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ccecff"/>
                </a:solidFill>
                <a:latin typeface="Arial"/>
              </a:rPr>
              <a:t>(class, object, deployment diagrams)</a:t>
            </a:r>
            <a:endParaRPr b="0" lang="en-US" sz="2600" spc="-1" strike="noStrike">
              <a:solidFill>
                <a:srgbClr val="ccec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to Timed Petri Nets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ccecff"/>
                </a:solidFill>
                <a:latin typeface="Arial"/>
              </a:rPr>
              <a:t>standard PN evaluation tools can be used</a:t>
            </a:r>
            <a:endParaRPr b="0" lang="en-US" sz="2600" spc="-1" strike="noStrike">
              <a:solidFill>
                <a:srgbClr val="ccec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Supports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49"/>
              </a:spcBef>
              <a:buClr>
                <a:srgbClr val="cce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ecff"/>
                </a:solidFill>
                <a:latin typeface="Arial"/>
              </a:rPr>
              <a:t>comparison of design choices</a:t>
            </a:r>
            <a:endParaRPr b="0" lang="en-US" sz="2600" spc="-1" strike="noStrike">
              <a:solidFill>
                <a:srgbClr val="ccecff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49"/>
              </a:spcBef>
              <a:buClr>
                <a:srgbClr val="cce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ecff"/>
                </a:solidFill>
                <a:latin typeface="Arial"/>
              </a:rPr>
              <a:t>identification of bottlenecks</a:t>
            </a:r>
            <a:endParaRPr b="0" lang="en-US" sz="2600" spc="-1" strike="noStrike">
              <a:solidFill>
                <a:srgbClr val="ccec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System-wide, structural model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odeling Approach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1. </a:t>
            </a:r>
            <a:r>
              <a:rPr b="0" lang="en-US" sz="3000" spc="-1" strike="noStrike" u="sng">
                <a:solidFill>
                  <a:srgbClr val="ffffcc"/>
                </a:solidFill>
                <a:uFillTx/>
                <a:latin typeface="Arial"/>
              </a:rPr>
              <a:t>UML model</a:t>
            </a: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: Diagrams with extensions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ecff"/>
                </a:solidFill>
                <a:latin typeface="Arial"/>
              </a:rPr>
              <a:t>stereotypes to identify roles (variant, tester, ...)</a:t>
            </a:r>
            <a:endParaRPr b="0" lang="en-US" sz="2600" spc="-1" strike="noStrike">
              <a:solidFill>
                <a:srgbClr val="ccecff"/>
              </a:solidFill>
              <a:latin typeface="Arial"/>
            </a:endParaRPr>
          </a:p>
          <a:p>
            <a:pPr lvl="1" marL="735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ecff"/>
                </a:solidFill>
                <a:latin typeface="Arial"/>
              </a:rPr>
              <a:t>tagged values to assign parameters</a:t>
            </a:r>
            <a:endParaRPr b="0" lang="en-US" sz="2600" spc="-1" strike="noStrike">
              <a:solidFill>
                <a:srgbClr val="ccecff"/>
              </a:solidFill>
              <a:latin typeface="Arial"/>
            </a:endParaRPr>
          </a:p>
          <a:p>
            <a:pPr marL="33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2. </a:t>
            </a:r>
            <a:r>
              <a:rPr b="0" lang="en-US" sz="3000" spc="-1" strike="noStrike" u="sng">
                <a:solidFill>
                  <a:srgbClr val="ffffcc"/>
                </a:solidFill>
                <a:uFillTx/>
                <a:latin typeface="Arial"/>
              </a:rPr>
              <a:t>Intermediate model</a:t>
            </a: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: Simplified structure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ecff"/>
                </a:solidFill>
                <a:latin typeface="Arial"/>
              </a:rPr>
              <a:t>elements: </a:t>
            </a:r>
            <a:r>
              <a:rPr b="0" lang="en-US" sz="26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ccecff"/>
                </a:solidFill>
                <a:latin typeface="Arial"/>
              </a:rPr>
              <a:t>software, hardware, with/wo states</a:t>
            </a:r>
            <a:endParaRPr b="0" lang="en-US" sz="2600" spc="-1" strike="noStrike">
              <a:solidFill>
                <a:srgbClr val="ccecff"/>
              </a:solidFill>
              <a:latin typeface="Arial"/>
            </a:endParaRPr>
          </a:p>
          <a:p>
            <a:pPr lvl="1" marL="735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ecff"/>
                </a:solidFill>
                <a:latin typeface="Arial"/>
              </a:rPr>
              <a:t>dependencies: </a:t>
            </a:r>
            <a:r>
              <a:rPr b="0" lang="en-US" sz="26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ccecff"/>
                </a:solidFill>
                <a:latin typeface="Arial"/>
              </a:rPr>
              <a:t>„uses the service of” „is composed of”</a:t>
            </a:r>
            <a:endParaRPr b="0" lang="en-US" sz="2600" spc="-1" strike="noStrike">
              <a:solidFill>
                <a:srgbClr val="ccecff"/>
              </a:solidFill>
              <a:latin typeface="Arial"/>
            </a:endParaRPr>
          </a:p>
          <a:p>
            <a:pPr lvl="1" marL="735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ecff"/>
                </a:solidFill>
                <a:latin typeface="Arial"/>
              </a:rPr>
              <a:t>class based redundancy </a:t>
            </a:r>
            <a:r>
              <a:rPr b="0" lang="en-US" sz="2600" spc="-1" strike="noStrike">
                <a:solidFill>
                  <a:srgbClr val="ccecff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ccecff"/>
                </a:solidFill>
                <a:latin typeface="Arial"/>
              </a:rPr>
              <a:t> fault tree</a:t>
            </a:r>
            <a:endParaRPr b="0" lang="en-US" sz="2600" spc="-1" strike="noStrike">
              <a:solidFill>
                <a:srgbClr val="ccecff"/>
              </a:solidFill>
              <a:latin typeface="Arial"/>
            </a:endParaRPr>
          </a:p>
          <a:p>
            <a:pPr marL="33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3. </a:t>
            </a:r>
            <a:r>
              <a:rPr b="0" lang="en-US" sz="3000" spc="-1" strike="noStrike" u="sng">
                <a:solidFill>
                  <a:srgbClr val="ffffcc"/>
                </a:solidFill>
                <a:uFillTx/>
                <a:latin typeface="Arial"/>
              </a:rPr>
              <a:t>Dependability model</a:t>
            </a: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: Timed Petri net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ecff"/>
                </a:solidFill>
                <a:latin typeface="Arial"/>
              </a:rPr>
              <a:t>sub-nets for elements and dependencies</a:t>
            </a:r>
            <a:endParaRPr b="0" lang="en-US" sz="26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ailure/Propagation Sub-model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09880" y="3276720"/>
            <a:ext cx="4716720" cy="26845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1523880"/>
            <a:ext cx="4716720" cy="16002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3962520" y="1797120"/>
          <a:ext cx="4400280" cy="103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62520" y="1797120"/>
                    <a:ext cx="4400280" cy="103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5" name=""/>
          <p:cNvGraphicFramePr/>
          <p:nvPr/>
        </p:nvGraphicFramePr>
        <p:xfrm>
          <a:off x="3962520" y="3544920"/>
          <a:ext cx="4417920" cy="2149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62520" y="3544920"/>
                    <a:ext cx="4417920" cy="214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" name=""/>
          <p:cNvSpPr/>
          <p:nvPr/>
        </p:nvSpPr>
        <p:spPr>
          <a:xfrm>
            <a:off x="533520" y="1523880"/>
            <a:ext cx="3047760" cy="16002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3276720"/>
            <a:ext cx="3047760" cy="26668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397520" y="1824120"/>
            <a:ext cx="1598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&lt;&lt;SF-SW&gt;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1747440" y="4648320"/>
            <a:ext cx="5446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2720" y="985680"/>
            <a:ext cx="32310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UML model elem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533200" y="1014480"/>
            <a:ext cx="2740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Petri net modu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1450800" y="2212920"/>
            <a:ext cx="1136880" cy="755640"/>
            <a:chOff x="1450800" y="2212920"/>
            <a:chExt cx="1136880" cy="755640"/>
          </a:xfrm>
        </p:grpSpPr>
        <p:sp>
          <p:nvSpPr>
            <p:cNvPr id="104" name=""/>
            <p:cNvSpPr/>
            <p:nvPr/>
          </p:nvSpPr>
          <p:spPr>
            <a:xfrm>
              <a:off x="1450800" y="2212920"/>
              <a:ext cx="1136880" cy="75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O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455840" y="2819520"/>
              <a:ext cx="11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612720" y="4270320"/>
            <a:ext cx="1136880" cy="755640"/>
            <a:chOff x="612720" y="4270320"/>
            <a:chExt cx="1136880" cy="755640"/>
          </a:xfrm>
        </p:grpSpPr>
        <p:sp>
          <p:nvSpPr>
            <p:cNvPr id="107" name=""/>
            <p:cNvSpPr/>
            <p:nvPr/>
          </p:nvSpPr>
          <p:spPr>
            <a:xfrm>
              <a:off x="612720" y="4270320"/>
              <a:ext cx="1136880" cy="75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O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17400" y="4876920"/>
              <a:ext cx="1128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2289240" y="4270320"/>
            <a:ext cx="1136520" cy="755640"/>
            <a:chOff x="2289240" y="4270320"/>
            <a:chExt cx="1136520" cy="755640"/>
          </a:xfrm>
        </p:grpSpPr>
        <p:sp>
          <p:nvSpPr>
            <p:cNvPr id="110" name=""/>
            <p:cNvSpPr/>
            <p:nvPr/>
          </p:nvSpPr>
          <p:spPr>
            <a:xfrm>
              <a:off x="2289240" y="4270320"/>
              <a:ext cx="1136520" cy="75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O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293920" y="4876920"/>
              <a:ext cx="11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epair Sub-mode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730600" y="1859040"/>
            <a:ext cx="5867280" cy="3703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2971800" y="2133720"/>
          <a:ext cx="5319720" cy="33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71800" y="2133720"/>
                    <a:ext cx="5319720" cy="339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"/>
          <p:cNvSpPr/>
          <p:nvPr/>
        </p:nvSpPr>
        <p:spPr>
          <a:xfrm>
            <a:off x="596880" y="1859040"/>
            <a:ext cx="1752480" cy="1752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43840" y="1930320"/>
            <a:ext cx="16138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&lt;&lt;SF-HW&gt;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01280" y="1290600"/>
            <a:ext cx="18244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UML mod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499360" y="1319040"/>
            <a:ext cx="25711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Petri net modu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905040" y="2471760"/>
            <a:ext cx="1136520" cy="755640"/>
            <a:chOff x="905040" y="2471760"/>
            <a:chExt cx="1136520" cy="755640"/>
          </a:xfrm>
        </p:grpSpPr>
        <p:sp>
          <p:nvSpPr>
            <p:cNvPr id="121" name=""/>
            <p:cNvSpPr/>
            <p:nvPr/>
          </p:nvSpPr>
          <p:spPr>
            <a:xfrm>
              <a:off x="905040" y="2471760"/>
              <a:ext cx="1136520" cy="75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O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909720" y="3078000"/>
              <a:ext cx="11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Basis: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cce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ecff"/>
                </a:solidFill>
                <a:latin typeface="Arial"/>
              </a:rPr>
              <a:t>FT-CORBA specification</a:t>
            </a:r>
            <a:endParaRPr b="0" lang="en-US" sz="2600" spc="-1" strike="noStrike">
              <a:solidFill>
                <a:srgbClr val="ccec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cce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ecff"/>
                </a:solidFill>
                <a:latin typeface="Arial"/>
              </a:rPr>
              <a:t>UML-based automatic dependability modeling</a:t>
            </a:r>
            <a:endParaRPr b="0" lang="en-US" sz="2600" spc="-1" strike="noStrike">
              <a:solidFill>
                <a:srgbClr val="ccec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Topics: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cce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ecff"/>
                </a:solidFill>
                <a:latin typeface="Arial"/>
              </a:rPr>
              <a:t>Support to construct optimal FT-CORBA schemes</a:t>
            </a:r>
            <a:endParaRPr b="0" lang="en-US" sz="2600" spc="-1" strike="noStrike">
              <a:solidFill>
                <a:srgbClr val="ccec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cce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ecff"/>
                </a:solidFill>
                <a:latin typeface="Arial"/>
              </a:rPr>
              <a:t>Evaluate existing architectures</a:t>
            </a:r>
            <a:endParaRPr b="0" lang="en-US" sz="2600" spc="-1" strike="noStrike">
              <a:solidFill>
                <a:srgbClr val="ccec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2812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Part I: The FT-CORBA proposal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Part II: UML-based dependability analysis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Part III: Dep. modeling of FT-CORBA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edundancy Sub-model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477120" y="1981080"/>
            <a:ext cx="2286000" cy="32004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514600" y="1981080"/>
            <a:ext cx="3809880" cy="3200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590920" y="2057400"/>
          <a:ext cx="3746520" cy="312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2057400"/>
                    <a:ext cx="3746520" cy="31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6553080" y="2133720"/>
          <a:ext cx="2208240" cy="2755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553080" y="2133720"/>
                    <a:ext cx="2208240" cy="275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" name=""/>
          <p:cNvSpPr/>
          <p:nvPr/>
        </p:nvSpPr>
        <p:spPr>
          <a:xfrm>
            <a:off x="457200" y="1981080"/>
            <a:ext cx="1981080" cy="32004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993600" y="2441520"/>
            <a:ext cx="756000" cy="527040"/>
            <a:chOff x="993600" y="2441520"/>
            <a:chExt cx="756000" cy="527040"/>
          </a:xfrm>
        </p:grpSpPr>
        <p:sp>
          <p:nvSpPr>
            <p:cNvPr id="132" name=""/>
            <p:cNvSpPr/>
            <p:nvPr/>
          </p:nvSpPr>
          <p:spPr>
            <a:xfrm>
              <a:off x="993600" y="2441520"/>
              <a:ext cx="756000" cy="5270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M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998640" y="2865600"/>
              <a:ext cx="747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612720" y="3508200"/>
            <a:ext cx="755640" cy="527400"/>
            <a:chOff x="612720" y="3508200"/>
            <a:chExt cx="755640" cy="527400"/>
          </a:xfrm>
        </p:grpSpPr>
        <p:sp>
          <p:nvSpPr>
            <p:cNvPr id="135" name=""/>
            <p:cNvSpPr/>
            <p:nvPr/>
          </p:nvSpPr>
          <p:spPr>
            <a:xfrm>
              <a:off x="612720" y="3508200"/>
              <a:ext cx="755640" cy="527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17400" y="3932280"/>
              <a:ext cx="747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1527120" y="3508200"/>
            <a:ext cx="755640" cy="527400"/>
            <a:chOff x="1527120" y="3508200"/>
            <a:chExt cx="755640" cy="527400"/>
          </a:xfrm>
        </p:grpSpPr>
        <p:sp>
          <p:nvSpPr>
            <p:cNvPr id="138" name=""/>
            <p:cNvSpPr/>
            <p:nvPr/>
          </p:nvSpPr>
          <p:spPr>
            <a:xfrm>
              <a:off x="1527120" y="3508200"/>
              <a:ext cx="755640" cy="527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V2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531800" y="3932280"/>
              <a:ext cx="747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 flipH="1">
            <a:off x="985680" y="2979720"/>
            <a:ext cx="316080" cy="519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31800" y="2979720"/>
            <a:ext cx="366840" cy="519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77600" y="1442880"/>
            <a:ext cx="18244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UML mod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002480" y="1519200"/>
            <a:ext cx="15544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Fault tre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228800" y="1519200"/>
            <a:ext cx="1418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Petri-n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art III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1447920" y="3048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Arial"/>
              </a:rPr>
              <a:t>Dependability Modeling of FT-CORBA Architectures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pproach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UML models: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e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ecff"/>
                </a:solidFill>
                <a:latin typeface="Arial"/>
              </a:rPr>
              <a:t>identification of elements/structures</a:t>
            </a:r>
            <a:endParaRPr b="0" lang="en-US" sz="2600" spc="-1" strike="noStrike">
              <a:solidFill>
                <a:srgbClr val="ccec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e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ecff"/>
                </a:solidFill>
                <a:latin typeface="Arial"/>
              </a:rPr>
              <a:t>additional parameters</a:t>
            </a:r>
            <a:endParaRPr b="0" lang="en-US" sz="2600" spc="-1" strike="noStrike">
              <a:solidFill>
                <a:srgbClr val="ccec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ecff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ccecff"/>
                </a:solidFill>
                <a:latin typeface="Arial"/>
              </a:rPr>
              <a:t>support of automatic modeling</a:t>
            </a:r>
            <a:endParaRPr b="0" lang="en-US" sz="26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Tailoring to FT-CORBA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e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ecff"/>
                </a:solidFill>
                <a:latin typeface="Arial"/>
              </a:rPr>
              <a:t>subnets to specific mechanisms</a:t>
            </a:r>
            <a:endParaRPr b="0" lang="en-US" sz="2600" spc="-1" strike="noStrike">
              <a:solidFill>
                <a:srgbClr val="ccec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e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ecff"/>
                </a:solidFill>
                <a:latin typeface="Arial"/>
              </a:rPr>
              <a:t>based on the parameters</a:t>
            </a:r>
            <a:endParaRPr b="0" lang="en-US" sz="26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Restrictions: 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e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ecff"/>
                </a:solidFill>
                <a:latin typeface="Arial"/>
              </a:rPr>
              <a:t>non-replicated client, static structure</a:t>
            </a:r>
            <a:endParaRPr b="0" lang="en-US" sz="2600" spc="-1" strike="noStrike">
              <a:solidFill>
                <a:srgbClr val="ccec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e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ecff"/>
                </a:solidFill>
                <a:latin typeface="Arial"/>
              </a:rPr>
              <a:t>infrastructure controlled replication management</a:t>
            </a:r>
            <a:endParaRPr b="0" lang="en-US" sz="26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UML Model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Identification of elements/structures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cce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ecff"/>
                </a:solidFill>
                <a:latin typeface="Arial"/>
              </a:rPr>
              <a:t>Fault Tolerance Domain: package</a:t>
            </a:r>
            <a:endParaRPr b="0" lang="en-US" sz="2600" spc="-1" strike="noStrike">
              <a:solidFill>
                <a:srgbClr val="ccecff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independent of deployment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cce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ecff"/>
                </a:solidFill>
                <a:latin typeface="Arial"/>
              </a:rPr>
              <a:t>Object groups: sub-package</a:t>
            </a:r>
            <a:endParaRPr b="0" lang="en-US" sz="2600" spc="-1" strike="noStrike">
              <a:solidFill>
                <a:srgbClr val="ccec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cce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ecff"/>
                </a:solidFill>
                <a:latin typeface="Arial"/>
              </a:rPr>
              <a:t>Roles: stereotypes</a:t>
            </a:r>
            <a:endParaRPr b="0" lang="en-US" sz="2600" spc="-1" strike="noStrike">
              <a:solidFill>
                <a:srgbClr val="ccec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FT-CORBA properties as tagged values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cce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ecff"/>
                </a:solidFill>
                <a:latin typeface="Arial"/>
              </a:rPr>
              <a:t>ReplicationStyle</a:t>
            </a:r>
            <a:endParaRPr b="0" lang="en-US" sz="2600" spc="-1" strike="noStrike">
              <a:solidFill>
                <a:srgbClr val="ccec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cce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ecff"/>
                </a:solidFill>
                <a:latin typeface="Arial"/>
              </a:rPr>
              <a:t>MembershipStyle</a:t>
            </a:r>
            <a:endParaRPr b="0" lang="en-US" sz="2600" spc="-1" strike="noStrike">
              <a:solidFill>
                <a:srgbClr val="ccec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cce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ecff"/>
                </a:solidFill>
                <a:latin typeface="Arial"/>
              </a:rPr>
              <a:t>ConsistencyStyle</a:t>
            </a:r>
            <a:endParaRPr b="0" lang="en-US" sz="2600" spc="-1" strike="noStrike">
              <a:solidFill>
                <a:srgbClr val="ccec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cce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ecff"/>
                </a:solidFill>
                <a:latin typeface="Arial"/>
              </a:rPr>
              <a:t>FaultMonitoring (Style, Granularity, Interval)</a:t>
            </a:r>
            <a:endParaRPr b="0" lang="en-US" sz="2600" spc="-1" strike="noStrike">
              <a:solidFill>
                <a:srgbClr val="ccec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cce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ecff"/>
                </a:solidFill>
                <a:latin typeface="Arial"/>
              </a:rPr>
              <a:t>(Initial, Minimum) NumberReplicas</a:t>
            </a:r>
            <a:endParaRPr b="0" lang="en-US" sz="26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457200" y="1066680"/>
            <a:ext cx="8229600" cy="48769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verall Structur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32240" y="1603440"/>
            <a:ext cx="5099040" cy="4260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056040" y="3132000"/>
            <a:ext cx="2043000" cy="976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432240" y="1298520"/>
            <a:ext cx="3575160" cy="298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505680" y="1268280"/>
            <a:ext cx="22723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T Domain Alph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146240" y="4270320"/>
            <a:ext cx="1670040" cy="15177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146240" y="3889440"/>
            <a:ext cx="1289160" cy="3747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143720" y="3887640"/>
            <a:ext cx="12560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main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450800" y="4651200"/>
            <a:ext cx="756000" cy="83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455840" y="5257800"/>
            <a:ext cx="747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889440" y="2136600"/>
            <a:ext cx="3879720" cy="1136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889440" y="1755720"/>
            <a:ext cx="755640" cy="3747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887640" y="1754280"/>
            <a:ext cx="5623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T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118040" y="2289240"/>
            <a:ext cx="755640" cy="83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184720" y="2289240"/>
            <a:ext cx="755640" cy="83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191840" y="2363760"/>
            <a:ext cx="5778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251400" y="2289240"/>
            <a:ext cx="756000" cy="83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259240" y="2363760"/>
            <a:ext cx="521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325920" y="2363760"/>
            <a:ext cx="521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108400" y="3889440"/>
            <a:ext cx="2965680" cy="1289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08400" y="3508200"/>
            <a:ext cx="1670400" cy="3747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181840" y="3506760"/>
            <a:ext cx="719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G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4651200" y="3659040"/>
            <a:ext cx="2965680" cy="1671840"/>
            <a:chOff x="4651200" y="3659040"/>
            <a:chExt cx="2965680" cy="1671840"/>
          </a:xfrm>
        </p:grpSpPr>
        <p:sp>
          <p:nvSpPr>
            <p:cNvPr id="175" name=""/>
            <p:cNvSpPr/>
            <p:nvPr/>
          </p:nvSpPr>
          <p:spPr>
            <a:xfrm>
              <a:off x="4651200" y="4041720"/>
              <a:ext cx="2965680" cy="12891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651200" y="3660840"/>
              <a:ext cx="831960" cy="3747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724640" y="3659040"/>
              <a:ext cx="7192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OG3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4194000" y="3811680"/>
            <a:ext cx="2965680" cy="1671480"/>
            <a:chOff x="4194000" y="3811680"/>
            <a:chExt cx="2965680" cy="1671480"/>
          </a:xfrm>
        </p:grpSpPr>
        <p:sp>
          <p:nvSpPr>
            <p:cNvPr id="179" name=""/>
            <p:cNvSpPr/>
            <p:nvPr/>
          </p:nvSpPr>
          <p:spPr>
            <a:xfrm>
              <a:off x="4194000" y="4194000"/>
              <a:ext cx="2965680" cy="12891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194000" y="3813120"/>
              <a:ext cx="831960" cy="3747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267440" y="3811680"/>
              <a:ext cx="7192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OG2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2" name=""/>
          <p:cNvSpPr/>
          <p:nvPr/>
        </p:nvSpPr>
        <p:spPr>
          <a:xfrm>
            <a:off x="3736800" y="4346640"/>
            <a:ext cx="2965680" cy="1289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736800" y="3965400"/>
            <a:ext cx="1670400" cy="3747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810240" y="3963960"/>
            <a:ext cx="719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G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965400" y="4575240"/>
            <a:ext cx="679680" cy="755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03840" y="4575240"/>
            <a:ext cx="679320" cy="755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641920" y="4575240"/>
            <a:ext cx="679680" cy="755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039920" y="4649760"/>
            <a:ext cx="6339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1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802040" y="4649760"/>
            <a:ext cx="6339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1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716080" y="4649760"/>
            <a:ext cx="6631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D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12720" y="1908000"/>
            <a:ext cx="2432160" cy="15177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12720" y="1527120"/>
            <a:ext cx="1289160" cy="3747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10200" y="1525680"/>
            <a:ext cx="12560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main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993600" y="2289240"/>
            <a:ext cx="756000" cy="83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998640" y="2895480"/>
            <a:ext cx="747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970440" y="5105520"/>
            <a:ext cx="671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808520" y="5105520"/>
            <a:ext cx="671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646600" y="5105520"/>
            <a:ext cx="67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22720" y="2895480"/>
            <a:ext cx="747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189400" y="2895480"/>
            <a:ext cx="747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256440" y="2895480"/>
            <a:ext cx="747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941440" y="1220760"/>
            <a:ext cx="9190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&lt;&lt;  &gt;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493520" y="3963960"/>
            <a:ext cx="9190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&lt;&lt;  &gt;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865120" y="3506760"/>
            <a:ext cx="9190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&lt;&lt;  &gt;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2827440" y="4871520"/>
            <a:ext cx="900000" cy="163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984320" y="2289240"/>
            <a:ext cx="755640" cy="83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989000" y="2895480"/>
            <a:ext cx="747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067760" y="2363760"/>
            <a:ext cx="507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058480" y="2363760"/>
            <a:ext cx="507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6485040" y="3271320"/>
            <a:ext cx="595080" cy="1078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713640" y="3271320"/>
            <a:ext cx="519120" cy="925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6942240" y="3271680"/>
            <a:ext cx="442800" cy="773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7246800" y="3271320"/>
            <a:ext cx="290520" cy="621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odularit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Available building blocks: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e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ecff"/>
                </a:solidFill>
                <a:latin typeface="Arial"/>
              </a:rPr>
              <a:t>failure subnet</a:t>
            </a:r>
            <a:endParaRPr b="0" lang="en-US" sz="2600" spc="-1" strike="noStrike">
              <a:solidFill>
                <a:srgbClr val="ccec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e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ecff"/>
                </a:solidFill>
                <a:latin typeface="Arial"/>
              </a:rPr>
              <a:t>propagation subnet</a:t>
            </a:r>
            <a:endParaRPr b="0" lang="en-US" sz="2600" spc="-1" strike="noStrike">
              <a:solidFill>
                <a:srgbClr val="ccec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e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ecff"/>
                </a:solidFill>
                <a:latin typeface="Arial"/>
              </a:rPr>
              <a:t>repair subnet</a:t>
            </a:r>
            <a:endParaRPr b="0" lang="en-US" sz="2600" spc="-1" strike="noStrike">
              <a:solidFill>
                <a:srgbClr val="ccec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e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ecff"/>
                </a:solidFill>
                <a:latin typeface="Arial"/>
              </a:rPr>
              <a:t>fault tree</a:t>
            </a:r>
            <a:endParaRPr b="0" lang="en-US" sz="26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Sub-models in FT-CORBA: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ecff"/>
                </a:solidFill>
                <a:latin typeface="Arial"/>
              </a:rPr>
              <a:t>1. Client failover</a:t>
            </a:r>
            <a:endParaRPr b="0" lang="en-US" sz="2600" spc="-1" strike="noStrike">
              <a:solidFill>
                <a:srgbClr val="ccec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ecff"/>
                </a:solidFill>
                <a:latin typeface="Arial"/>
              </a:rPr>
              <a:t>2. Server object failure</a:t>
            </a:r>
            <a:endParaRPr b="0" lang="en-US" sz="2600" spc="-1" strike="noStrike">
              <a:solidFill>
                <a:srgbClr val="ccec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ecff"/>
                </a:solidFill>
                <a:latin typeface="Arial"/>
              </a:rPr>
              <a:t>3. Fault management (detection and notification)</a:t>
            </a:r>
            <a:endParaRPr b="0" lang="en-US" sz="2600" spc="-1" strike="noStrike">
              <a:solidFill>
                <a:srgbClr val="ccec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ecff"/>
                </a:solidFill>
                <a:latin typeface="Arial"/>
              </a:rPr>
              <a:t>3. Recovery (replication management)</a:t>
            </a:r>
            <a:endParaRPr b="0" lang="en-US" sz="26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1. Client Failove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Semantics: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cce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ecff"/>
                </a:solidFill>
                <a:latin typeface="Arial"/>
              </a:rPr>
              <a:t>Primary is tried first</a:t>
            </a:r>
            <a:endParaRPr b="0" lang="en-US" sz="2600" spc="-1" strike="noStrike">
              <a:solidFill>
                <a:srgbClr val="ccec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cce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ecff"/>
                </a:solidFill>
                <a:latin typeface="Arial"/>
              </a:rPr>
              <a:t>Failover conditions: „crash”</a:t>
            </a:r>
            <a:endParaRPr b="0" lang="en-US" sz="2600" spc="-1" strike="noStrike">
              <a:solidFill>
                <a:srgbClr val="ccec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ommunication failur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No respons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ccecff"/>
                </a:solidFill>
                <a:latin typeface="Arial"/>
              </a:rPr>
              <a:t>No failover: erroneous response</a:t>
            </a:r>
            <a:endParaRPr b="0" lang="en-US" sz="2600" spc="-1" strike="noStrike">
              <a:solidFill>
                <a:srgbClr val="ccec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cce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ecff"/>
                </a:solidFill>
                <a:latin typeface="Arial"/>
              </a:rPr>
              <a:t>No failure exception until all profiles have been tried</a:t>
            </a:r>
            <a:endParaRPr b="0" lang="en-US" sz="26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ependability Sub-mode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28240" y="114264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Fault tree (passive replication):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e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ecff"/>
                </a:solidFill>
                <a:latin typeface="Arial"/>
              </a:rPr>
              <a:t>Top event: Client failure</a:t>
            </a:r>
            <a:endParaRPr b="0" lang="en-US" sz="2600" spc="-1" strike="noStrike">
              <a:solidFill>
                <a:srgbClr val="ccec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e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ecff"/>
                </a:solidFill>
                <a:latin typeface="Arial"/>
              </a:rPr>
              <a:t>Basic events:</a:t>
            </a:r>
            <a:endParaRPr b="0" lang="en-US" sz="2600" spc="-1" strike="noStrike">
              <a:solidFill>
                <a:srgbClr val="ccec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erver object crash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erver object erroneous respons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e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ecff"/>
                </a:solidFill>
                <a:latin typeface="Arial"/>
              </a:rPr>
              <a:t>Composite events (OR): number n of profiles </a:t>
            </a:r>
            <a:endParaRPr b="0" lang="en-US" sz="2600" spc="-1" strike="noStrike">
              <a:solidFill>
                <a:srgbClr val="ccec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1 (primary) erroneou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1 crash AND S2 erroneou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1 crash AND S2 crash AND S3 erroneou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... 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1 crash AND S2 crash AND ... AND Sn crash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6248520" y="1219320"/>
            <a:ext cx="2438280" cy="1523880"/>
            <a:chOff x="6248520" y="1219320"/>
            <a:chExt cx="2438280" cy="1523880"/>
          </a:xfrm>
        </p:grpSpPr>
        <p:sp>
          <p:nvSpPr>
            <p:cNvPr id="221" name=""/>
            <p:cNvSpPr/>
            <p:nvPr/>
          </p:nvSpPr>
          <p:spPr>
            <a:xfrm>
              <a:off x="6248520" y="1219320"/>
              <a:ext cx="2438280" cy="1523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222" name=""/>
            <p:cNvGraphicFramePr/>
            <p:nvPr/>
          </p:nvGraphicFramePr>
          <p:xfrm>
            <a:off x="6324480" y="1295280"/>
            <a:ext cx="2298960" cy="1359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2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324480" y="1295280"/>
                      <a:ext cx="2298960" cy="1359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2. Server Object Failur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Distinction of failures: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e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ecff"/>
                </a:solidFill>
                <a:latin typeface="Arial"/>
              </a:rPr>
              <a:t>Crash</a:t>
            </a:r>
            <a:r>
              <a:rPr b="0" lang="en-US" sz="26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ccec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ccec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Failover in client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rror detected in the object group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e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ecff"/>
                </a:solidFill>
                <a:latin typeface="Arial"/>
              </a:rPr>
              <a:t>Erroneous response (commission fault)</a:t>
            </a:r>
            <a:endParaRPr b="0" lang="en-US" sz="2600" spc="-1" strike="noStrike">
              <a:solidFill>
                <a:srgbClr val="ccec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ropagated to clients,</a:t>
            </a: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pplication-specific error detection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ependability Sub-mode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Failure process: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e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ecff"/>
                </a:solidFill>
                <a:latin typeface="Arial"/>
              </a:rPr>
              <a:t>failure subnet</a:t>
            </a:r>
            <a:endParaRPr b="0" lang="en-US" sz="2600" spc="-1" strike="noStrike">
              <a:solidFill>
                <a:srgbClr val="ccec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e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ecff"/>
                </a:solidFill>
                <a:latin typeface="Arial"/>
              </a:rPr>
              <a:t>distinguished cases: crash/erroneous response</a:t>
            </a:r>
            <a:endParaRPr b="0" lang="en-US" sz="2600" spc="-1" strike="noStrike">
              <a:solidFill>
                <a:srgbClr val="ccecff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ecff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ecff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ecff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Propagation subnets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e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ecff"/>
                </a:solidFill>
                <a:latin typeface="Arial"/>
              </a:rPr>
              <a:t>standard subnets  (toward the client fault tree)</a:t>
            </a:r>
            <a:endParaRPr b="0" lang="en-US" sz="2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133720" y="2666880"/>
            <a:ext cx="4800600" cy="16765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2209680" y="2743200"/>
          <a:ext cx="4662720" cy="153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2743200"/>
                    <a:ext cx="4662720" cy="153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art I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47920" y="3048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Arial"/>
              </a:rPr>
              <a:t>The FT-CORBA Proposal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3. Fault Manage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Fault detection+notification: Chain of events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e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ecff"/>
                </a:solidFill>
                <a:latin typeface="Arial"/>
              </a:rPr>
              <a:t>Source: Fault Detector</a:t>
            </a:r>
            <a:endParaRPr b="0" lang="en-US" sz="2600" spc="-1" strike="noStrike">
              <a:solidFill>
                <a:srgbClr val="ccec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atency = MonitoringInterval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overage depends on MonitoringGranularity: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ach member / single per host / single per host and type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e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ecff"/>
                </a:solidFill>
                <a:latin typeface="Arial"/>
              </a:rPr>
              <a:t>Propagation: Fault Notifier(s)</a:t>
            </a:r>
            <a:endParaRPr b="0" lang="en-US" sz="2600" spc="-1" strike="noStrike">
              <a:solidFill>
                <a:srgbClr val="ccec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ommunication failure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e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ecff"/>
                </a:solidFill>
                <a:latin typeface="Arial"/>
              </a:rPr>
              <a:t>Destination: Replication Manager</a:t>
            </a:r>
            <a:endParaRPr b="0" lang="en-US" sz="26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Hierarchy of Fault Detectors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Infrastructure objects: Replication is possible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ependability Sub-mode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Error detection delay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e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ecff"/>
                </a:solidFill>
                <a:latin typeface="Arial"/>
              </a:rPr>
              <a:t>timed PN transition </a:t>
            </a:r>
            <a:endParaRPr b="0" lang="en-US" sz="26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Fault notification subsystem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e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ecff"/>
                </a:solidFill>
                <a:latin typeface="Arial"/>
              </a:rPr>
              <a:t>fault tree (AND)</a:t>
            </a:r>
            <a:endParaRPr b="0" lang="en-US" sz="26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Replicated infrastructure objects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e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ecff"/>
                </a:solidFill>
                <a:latin typeface="Arial"/>
              </a:rPr>
              <a:t>local fault trees (AND)</a:t>
            </a:r>
            <a:endParaRPr b="0" lang="en-US" sz="2600" spc="-1" strike="noStrike">
              <a:solidFill>
                <a:srgbClr val="ccec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grpSp>
        <p:nvGrpSpPr>
          <p:cNvPr id="235" name=""/>
          <p:cNvGrpSpPr/>
          <p:nvPr/>
        </p:nvGrpSpPr>
        <p:grpSpPr>
          <a:xfrm>
            <a:off x="5943600" y="4038480"/>
            <a:ext cx="2438280" cy="1524240"/>
            <a:chOff x="5943600" y="4038480"/>
            <a:chExt cx="2438280" cy="1524240"/>
          </a:xfrm>
        </p:grpSpPr>
        <p:sp>
          <p:nvSpPr>
            <p:cNvPr id="236" name=""/>
            <p:cNvSpPr/>
            <p:nvPr/>
          </p:nvSpPr>
          <p:spPr>
            <a:xfrm>
              <a:off x="5943600" y="4038480"/>
              <a:ext cx="2438280" cy="15242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237" name=""/>
            <p:cNvGraphicFramePr/>
            <p:nvPr/>
          </p:nvGraphicFramePr>
          <p:xfrm>
            <a:off x="6019920" y="4114800"/>
            <a:ext cx="2298600" cy="1359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3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019920" y="4114800"/>
                      <a:ext cx="2298600" cy="1359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4. Recovery in the Object Group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Triggered by the Fault Notifier </a:t>
            </a:r>
            <a:br>
              <a:rPr sz="3000"/>
            </a:b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in the Replication Manager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Goal: Maintain the number of replicas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649"/>
              </a:spcBef>
              <a:buClr>
                <a:srgbClr val="cce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ecff"/>
                </a:solidFill>
                <a:latin typeface="Arial"/>
              </a:rPr>
              <a:t>crashed object is removed</a:t>
            </a:r>
            <a:endParaRPr b="0" lang="en-US" sz="2600" spc="-1" strike="noStrike">
              <a:solidFill>
                <a:srgbClr val="ccecff"/>
              </a:solidFill>
              <a:latin typeface="Arial"/>
            </a:endParaRPr>
          </a:p>
          <a:p>
            <a:pPr lvl="1" marL="735480" indent="-282960">
              <a:spcBef>
                <a:spcPts val="649"/>
              </a:spcBef>
              <a:buClr>
                <a:srgbClr val="cce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ecff"/>
                </a:solidFill>
                <a:latin typeface="Arial"/>
              </a:rPr>
              <a:t>creation of new replica, restoring state</a:t>
            </a:r>
            <a:endParaRPr b="0" lang="en-US" sz="2600" spc="-1" strike="noStrike">
              <a:solidFill>
                <a:srgbClr val="ccecff"/>
              </a:solidFill>
              <a:latin typeface="Arial"/>
            </a:endParaRPr>
          </a:p>
          <a:p>
            <a:pPr lvl="1" marL="735480" indent="-282960">
              <a:spcBef>
                <a:spcPts val="649"/>
              </a:spcBef>
              <a:buClr>
                <a:srgbClr val="cce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ecff"/>
                </a:solidFill>
                <a:latin typeface="Arial"/>
              </a:rPr>
              <a:t>only a single replica on a given host!</a:t>
            </a:r>
            <a:endParaRPr b="0" lang="en-US" sz="2600" spc="-1" strike="noStrike">
              <a:solidFill>
                <a:srgbClr val="ccecff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Repair is possible if: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649"/>
              </a:spcBef>
              <a:buClr>
                <a:srgbClr val="cce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ecff"/>
                </a:solidFill>
                <a:latin typeface="Arial"/>
              </a:rPr>
              <a:t>current host is fault-free</a:t>
            </a:r>
            <a:endParaRPr b="0" lang="en-US" sz="2600" spc="-1" strike="noStrike">
              <a:solidFill>
                <a:srgbClr val="ccecff"/>
              </a:solidFill>
              <a:latin typeface="Arial"/>
            </a:endParaRPr>
          </a:p>
          <a:p>
            <a:pPr lvl="1" marL="735480" indent="-282960">
              <a:spcBef>
                <a:spcPts val="649"/>
              </a:spcBef>
              <a:buClr>
                <a:srgbClr val="cce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ecff"/>
                </a:solidFill>
                <a:latin typeface="Arial"/>
              </a:rPr>
              <a:t>current host is faulty, but there are available hosts</a:t>
            </a:r>
            <a:br>
              <a:rPr sz="2600"/>
            </a:br>
            <a:r>
              <a:rPr b="0" lang="en-US" sz="2600" spc="-1" strike="noStrike">
                <a:solidFill>
                  <a:srgbClr val="ccecff"/>
                </a:solidFill>
                <a:latin typeface="Arial"/>
              </a:rPr>
              <a:t>i.e. number of hosts &gt;= NumberReplicas</a:t>
            </a:r>
            <a:endParaRPr b="0" lang="en-US" sz="26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ependability Sub-mode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Repair subnet: Explicit repair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e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ecff"/>
                </a:solidFill>
                <a:latin typeface="Arial"/>
              </a:rPr>
              <a:t>latency: CheckpointInterval, ReplicationStyle</a:t>
            </a:r>
            <a:endParaRPr b="0" lang="en-US" sz="26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Recovery of the replica: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e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ecff"/>
                </a:solidFill>
                <a:latin typeface="Arial"/>
              </a:rPr>
              <a:t>Static deployment:</a:t>
            </a:r>
            <a:br>
              <a:rPr sz="2600"/>
            </a:br>
            <a:r>
              <a:rPr b="0" lang="en-US" sz="2600" spc="-1" strike="noStrike">
                <a:solidFill>
                  <a:srgbClr val="ccecff"/>
                </a:solidFill>
                <a:latin typeface="Arial"/>
              </a:rPr>
              <a:t>Standard repair subnet</a:t>
            </a:r>
            <a:endParaRPr b="0" lang="en-US" sz="2600" spc="-1" strike="noStrike">
              <a:solidFill>
                <a:srgbClr val="ccec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e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ecff"/>
                </a:solidFill>
                <a:latin typeface="Arial"/>
              </a:rPr>
              <a:t>Pool of identical hosts: Logic condition for repair</a:t>
            </a:r>
            <a:br>
              <a:rPr sz="2600"/>
            </a:br>
            <a:r>
              <a:rPr b="0" lang="en-US" sz="2000" spc="-1" strike="noStrike">
                <a:solidFill>
                  <a:srgbClr val="ccecff"/>
                </a:solidFill>
                <a:latin typeface="Arial"/>
              </a:rPr>
              <a:t>Free hosts (PN place)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marking increased by host repair and server object crash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marking decreased by host crash and server object repair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ccecff"/>
                </a:solidFill>
                <a:latin typeface="Arial"/>
              </a:rPr>
              <a:t>Guard on the transition for explicit repair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228600" y="914400"/>
            <a:ext cx="8686800" cy="51055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84120" y="4956120"/>
            <a:ext cx="1974960" cy="679680"/>
          </a:xfrm>
          <a:prstGeom prst="roundRect">
            <a:avLst>
              <a:gd name="adj" fmla="val 1665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4120" y="1374840"/>
            <a:ext cx="1670040" cy="374760"/>
          </a:xfrm>
          <a:prstGeom prst="roundRect">
            <a:avLst>
              <a:gd name="adj" fmla="val 1665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07800" y="3203640"/>
            <a:ext cx="2813400" cy="679320"/>
          </a:xfrm>
          <a:prstGeom prst="roundRect">
            <a:avLst>
              <a:gd name="adj" fmla="val 1665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verall Structure of Subne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3584520" y="1068840"/>
            <a:ext cx="5099040" cy="755640"/>
          </a:xfrm>
          <a:custGeom>
            <a:avLst/>
            <a:gdLst>
              <a:gd name="textAreaLeft" fmla="*/ 1121040 w 5099040"/>
              <a:gd name="textAreaRight" fmla="*/ 3978000 w 5099040"/>
              <a:gd name="textAreaTop" fmla="*/ 165960 h 755640"/>
              <a:gd name="textAreaBottom" fmla="*/ 589680 h 75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2" y="21600"/>
                </a:lnTo>
                <a:lnTo>
                  <a:pt x="5398" y="21600"/>
                </a:lnTo>
                <a:close/>
              </a:path>
            </a:pathLst>
          </a:cu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508200" y="2136600"/>
            <a:ext cx="1060560" cy="11336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946840" y="4727520"/>
            <a:ext cx="755640" cy="113688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508200" y="3508200"/>
            <a:ext cx="1060560" cy="5274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832040" y="4194000"/>
            <a:ext cx="1441440" cy="5274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982520" y="4343400"/>
            <a:ext cx="1113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tifica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732120" y="2590920"/>
            <a:ext cx="518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p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651200" y="2136600"/>
            <a:ext cx="1060560" cy="11368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105520" y="1371600"/>
            <a:ext cx="1981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ent Fault Tre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651200" y="3508200"/>
            <a:ext cx="1060560" cy="5274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5120" y="3657600"/>
            <a:ext cx="576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1 er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875120" y="2590920"/>
            <a:ext cx="518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p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655800" y="3657600"/>
            <a:ext cx="846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1 crash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541680" y="4879800"/>
            <a:ext cx="1060560" cy="5274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655800" y="5029200"/>
            <a:ext cx="913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cover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684680" y="4879800"/>
            <a:ext cx="1060560" cy="52740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876920" y="5029200"/>
            <a:ext cx="63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pai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01840" y="1447920"/>
            <a:ext cx="1399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umberReplic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70240" y="3276720"/>
            <a:ext cx="2448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ultMonitoringGranularity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52600" y="3581280"/>
            <a:ext cx="212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ultMonitoringInterval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16240" y="5029200"/>
            <a:ext cx="1515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licationStyl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7760" y="5334120"/>
            <a:ext cx="1739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eckpointInterval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V="1">
            <a:off x="2065320" y="1442520"/>
            <a:ext cx="2043000" cy="163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150920" y="3894120"/>
            <a:ext cx="671400" cy="519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2370240" y="5253120"/>
            <a:ext cx="1128600" cy="87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038480" y="1836720"/>
            <a:ext cx="0" cy="290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V="1">
            <a:off x="5181480" y="1823760"/>
            <a:ext cx="0" cy="315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V="1">
            <a:off x="4038480" y="3271680"/>
            <a:ext cx="0" cy="239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5181480" y="3271680"/>
            <a:ext cx="0" cy="239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flipH="1">
            <a:off x="2890800" y="3817800"/>
            <a:ext cx="620640" cy="366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903400" y="4732200"/>
            <a:ext cx="595440" cy="290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038480" y="4046400"/>
            <a:ext cx="0" cy="824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257800" y="4046400"/>
            <a:ext cx="0" cy="824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351320" y="4046400"/>
            <a:ext cx="1967040" cy="67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094440" y="5181480"/>
            <a:ext cx="518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p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61240" y="4727520"/>
            <a:ext cx="755640" cy="113688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7008840" y="5181480"/>
            <a:ext cx="518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p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494320" y="4046400"/>
            <a:ext cx="1738440" cy="67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708600" y="2136600"/>
            <a:ext cx="831960" cy="11368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932520" y="2590920"/>
            <a:ext cx="518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p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7162920" y="3271680"/>
            <a:ext cx="0" cy="239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8077320" y="3271680"/>
            <a:ext cx="0" cy="239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7162920" y="1823760"/>
            <a:ext cx="0" cy="315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8001000" y="1823760"/>
            <a:ext cx="0" cy="315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7623000" y="2136600"/>
            <a:ext cx="831960" cy="11368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7770960" y="2590920"/>
            <a:ext cx="518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p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flipV="1">
            <a:off x="6172200" y="909720"/>
            <a:ext cx="0" cy="163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575240" y="3813120"/>
            <a:ext cx="69840" cy="2224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ystem-wide Dependability Mode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Analysis of the Petri-net: 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49"/>
              </a:spcBef>
              <a:buClr>
                <a:srgbClr val="cce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ecff"/>
                </a:solidFill>
                <a:latin typeface="Arial"/>
              </a:rPr>
              <a:t>standard tools (SPNP, PANDA, ...)</a:t>
            </a:r>
            <a:endParaRPr b="0" lang="en-US" sz="26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Sensitivity analysis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49"/>
              </a:spcBef>
              <a:buClr>
                <a:srgbClr val="cce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ecff"/>
                </a:solidFill>
                <a:latin typeface="Arial"/>
              </a:rPr>
              <a:t>system-wide reliability, availability</a:t>
            </a:r>
            <a:endParaRPr b="0" lang="en-US" sz="2600" spc="-1" strike="noStrike">
              <a:solidFill>
                <a:srgbClr val="ccec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Optimal selection of FT-CORBA parameters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49"/>
              </a:spcBef>
              <a:buClr>
                <a:srgbClr val="cce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ecff"/>
                </a:solidFill>
                <a:latin typeface="Arial"/>
              </a:rPr>
              <a:t>replication (membership, consistency) styles</a:t>
            </a:r>
            <a:endParaRPr b="0" lang="en-US" sz="2600" spc="-1" strike="noStrike">
              <a:solidFill>
                <a:srgbClr val="ccec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49"/>
              </a:spcBef>
              <a:buClr>
                <a:srgbClr val="cce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ecff"/>
                </a:solidFill>
                <a:latin typeface="Arial"/>
              </a:rPr>
              <a:t>number of replicas</a:t>
            </a:r>
            <a:endParaRPr b="0" lang="en-US" sz="2600" spc="-1" strike="noStrike">
              <a:solidFill>
                <a:srgbClr val="ccec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49"/>
              </a:spcBef>
              <a:buClr>
                <a:srgbClr val="cce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ecff"/>
                </a:solidFill>
                <a:latin typeface="Arial"/>
              </a:rPr>
              <a:t>monitoring granularity, interval</a:t>
            </a:r>
            <a:endParaRPr b="0" lang="en-US" sz="2600" spc="-1" strike="noStrike">
              <a:solidFill>
                <a:srgbClr val="ccec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RB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91440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OMG CORBA: standard of open OO systems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e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ecff"/>
                </a:solidFill>
                <a:latin typeface="Arial"/>
              </a:rPr>
              <a:t>Provides transparent access to services of remote objects (like local method calls)</a:t>
            </a:r>
            <a:endParaRPr b="0" lang="en-US" sz="2600" spc="-1" strike="noStrike">
              <a:solidFill>
                <a:srgbClr val="ccec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e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ecff"/>
                </a:solidFill>
                <a:latin typeface="Arial"/>
              </a:rPr>
              <a:t>ORB: Object Request Broker</a:t>
            </a:r>
            <a:br>
              <a:rPr sz="2600"/>
            </a:br>
            <a:r>
              <a:rPr b="0" lang="en-US" sz="2600" spc="-1" strike="noStrike">
                <a:solidFill>
                  <a:srgbClr val="ccecff"/>
                </a:solidFill>
                <a:latin typeface="Arial"/>
              </a:rPr>
              <a:t>communication of requests/responses</a:t>
            </a:r>
            <a:br>
              <a:rPr sz="2600"/>
            </a:br>
            <a:r>
              <a:rPr b="0" lang="en-US" sz="2600" spc="-1" strike="noStrike">
                <a:solidFill>
                  <a:srgbClr val="ccecff"/>
                </a:solidFill>
                <a:latin typeface="Arial"/>
              </a:rPr>
              <a:t>(location, activation, parameter passing etc.)</a:t>
            </a:r>
            <a:endParaRPr b="0" lang="en-US" sz="2600" spc="-1" strike="noStrike">
              <a:solidFill>
                <a:srgbClr val="ccec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IOR: interoperable object referenc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GIOP: general inter-ORB protocol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IIOP: Internet inter-ORB protocol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e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ecff"/>
                </a:solidFill>
                <a:latin typeface="Arial"/>
              </a:rPr>
              <a:t>IDL: Interface definition language</a:t>
            </a:r>
            <a:br>
              <a:rPr sz="2600"/>
            </a:br>
            <a:r>
              <a:rPr b="0" lang="en-US" sz="2600" spc="-1" strike="noStrike">
                <a:solidFill>
                  <a:srgbClr val="ccecff"/>
                </a:solidFill>
                <a:latin typeface="Arial"/>
              </a:rPr>
              <a:t>consistency between client and server interfaces</a:t>
            </a:r>
            <a:endParaRPr b="0" lang="en-US" sz="26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T-CORB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Goal: </a:t>
            </a:r>
            <a:br>
              <a:rPr sz="3000"/>
            </a:b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Fault tolerance in CORBA environment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History: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April 1998: Request for Proposal issued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October 1998: Initial submissions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December 1999: Joint revised submission</a:t>
            </a:r>
            <a:br>
              <a:rPr sz="2400"/>
            </a:b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by Ericsson, Inprise, Iona, Lucent, Oracle, Sun,...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Arial"/>
              </a:rPr>
              <a:t>April 2000</a:t>
            </a: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: Final adopted specification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T-CORBA Concep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Avoiding SPOF of single (server) objects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Fault tolerance by entity redundancy, </a:t>
            </a:r>
            <a:br>
              <a:rPr sz="3000"/>
            </a:b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fault detection and recovery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e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ecff"/>
                </a:solidFill>
                <a:latin typeface="Arial"/>
              </a:rPr>
              <a:t>creation of (server) object groups</a:t>
            </a:r>
            <a:endParaRPr b="0" lang="en-US" sz="2600" spc="-1" strike="noStrike">
              <a:solidFill>
                <a:srgbClr val="ccec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e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ecff"/>
                </a:solidFill>
                <a:latin typeface="Arial"/>
              </a:rPr>
              <a:t>infrastructure to maintain object replicas </a:t>
            </a:r>
            <a:endParaRPr b="0" lang="en-US" sz="26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Basic properties: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e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ecff"/>
                </a:solidFill>
                <a:latin typeface="Arial"/>
              </a:rPr>
              <a:t>replication transparency</a:t>
            </a:r>
            <a:br>
              <a:rPr sz="2600"/>
            </a:br>
            <a:r>
              <a:rPr b="0" lang="en-US" sz="2600" spc="-1" strike="noStrike">
                <a:solidFill>
                  <a:srgbClr val="ccecff"/>
                </a:solidFill>
                <a:latin typeface="Arial"/>
              </a:rPr>
              <a:t>(access independent of number/location)</a:t>
            </a:r>
            <a:endParaRPr b="0" lang="en-US" sz="2600" spc="-1" strike="noStrike">
              <a:solidFill>
                <a:srgbClr val="ccec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e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ecff"/>
                </a:solidFill>
                <a:latin typeface="Arial"/>
              </a:rPr>
              <a:t>failure transparency</a:t>
            </a:r>
            <a:br>
              <a:rPr sz="2600"/>
            </a:br>
            <a:r>
              <a:rPr b="0" lang="en-US" sz="2600" spc="-1" strike="noStrike">
                <a:solidFill>
                  <a:srgbClr val="ccecff"/>
                </a:solidFill>
                <a:latin typeface="Arial"/>
              </a:rPr>
              <a:t>(access independent of faulty server objects)</a:t>
            </a:r>
            <a:endParaRPr b="0" lang="en-US" sz="26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ault Tolerance Domain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FT domain: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e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ecff"/>
                </a:solidFill>
                <a:latin typeface="Arial"/>
              </a:rPr>
              <a:t>Object groups of server object replicas</a:t>
            </a:r>
            <a:endParaRPr b="0" lang="en-US" sz="2600" spc="-1" strike="noStrike">
              <a:solidFill>
                <a:srgbClr val="ccec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e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ecff"/>
                </a:solidFill>
                <a:latin typeface="Arial"/>
              </a:rPr>
              <a:t>Single Replication Manager</a:t>
            </a:r>
            <a:endParaRPr b="0" lang="en-US" sz="26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Object groups: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e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ecff"/>
                </a:solidFill>
                <a:latin typeface="Arial"/>
              </a:rPr>
              <a:t>different hosts</a:t>
            </a:r>
            <a:endParaRPr b="0" lang="en-US" sz="2600" spc="-1" strike="noStrike">
              <a:solidFill>
                <a:srgbClr val="ccec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e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ecff"/>
                </a:solidFill>
                <a:latin typeface="Arial"/>
              </a:rPr>
              <a:t>single object per host</a:t>
            </a:r>
            <a:endParaRPr b="0" lang="en-US" sz="26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Replication Manager: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e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ecff"/>
                </a:solidFill>
                <a:latin typeface="Arial"/>
              </a:rPr>
              <a:t>Creation and management of object groups</a:t>
            </a:r>
            <a:endParaRPr b="0" lang="en-US" sz="2600" spc="-1" strike="noStrike">
              <a:solidFill>
                <a:srgbClr val="ccec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e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ecff"/>
                </a:solidFill>
                <a:latin typeface="Arial"/>
              </a:rPr>
              <a:t>Support of application-controlled management</a:t>
            </a:r>
            <a:endParaRPr b="0" lang="en-US" sz="26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ault Tolerance Domai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2286000"/>
            <a:ext cx="830592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8013960" cy="30258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76200" y="1442880"/>
            <a:ext cx="81583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Domains, object groups, hosts and replic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rchitecture Overview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Set of CORBA objects to support FT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e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ecff"/>
                </a:solidFill>
                <a:latin typeface="Arial"/>
              </a:rPr>
              <a:t>Replication Manager</a:t>
            </a:r>
            <a:endParaRPr b="0" lang="en-US" sz="2600" spc="-1" strike="noStrike">
              <a:solidFill>
                <a:srgbClr val="ccec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e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ecff"/>
                </a:solidFill>
                <a:latin typeface="Arial"/>
              </a:rPr>
              <a:t>Fault Detector</a:t>
            </a:r>
            <a:endParaRPr b="0" lang="en-US" sz="2600" spc="-1" strike="noStrike">
              <a:solidFill>
                <a:srgbClr val="ccec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e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ecff"/>
                </a:solidFill>
                <a:latin typeface="Arial"/>
              </a:rPr>
              <a:t>Fault Notifier</a:t>
            </a:r>
            <a:endParaRPr b="0" lang="en-US" sz="2600" spc="-1" strike="noStrike">
              <a:solidFill>
                <a:srgbClr val="ccec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e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ecff"/>
                </a:solidFill>
                <a:latin typeface="Arial"/>
              </a:rPr>
              <a:t>Fault Analyzer</a:t>
            </a:r>
            <a:endParaRPr b="0" lang="en-US" sz="26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ORB extensions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e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ecff"/>
                </a:solidFill>
                <a:latin typeface="Arial"/>
              </a:rPr>
              <a:t>logging mechanism</a:t>
            </a:r>
            <a:endParaRPr b="0" lang="en-US" sz="2600" spc="-1" strike="noStrike">
              <a:solidFill>
                <a:srgbClr val="ccec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e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ecff"/>
                </a:solidFill>
                <a:latin typeface="Arial"/>
              </a:rPr>
              <a:t>recovery mechanism</a:t>
            </a:r>
            <a:endParaRPr b="0" lang="en-US" sz="26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Commercial implementations?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22T20:19:56Z</dcterms:created>
  <dc:creator>Majzik Istvan</dc:creator>
  <dc:description/>
  <dc:language>en-US</dc:language>
  <cp:lastModifiedBy>Majzik Istvan</cp:lastModifiedBy>
  <dcterms:modified xsi:type="dcterms:W3CDTF">2000-09-14T11:32:16Z</dcterms:modified>
  <cp:revision>7</cp:revision>
  <dc:subject/>
  <dc:title>Dependability Modeling of FT-CORBA Architectures</dc:title>
</cp:coreProperties>
</file>